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26.jpeg" ContentType="image/jpeg"/>
  <Override PartName="/ppt/media/image7.gif" ContentType="image/gif"/>
  <Override PartName="/ppt/media/image29.jpeg" ContentType="image/jpeg"/>
  <Override PartName="/ppt/media/image10.jpeg" ContentType="image/jpeg"/>
  <Override PartName="/ppt/media/image35.jpeg" ContentType="image/jpeg"/>
  <Override PartName="/ppt/media/image8.gif" ContentType="image/gif"/>
  <Override PartName="/ppt/media/image18.jpeg" ContentType="image/jpeg"/>
  <Override PartName="/ppt/media/image13.jpeg" ContentType="image/jpeg"/>
  <Override PartName="/ppt/media/image31.png" ContentType="image/png"/>
  <Override PartName="/ppt/media/image6.wmf" ContentType="image/x-wmf"/>
  <Override PartName="/ppt/media/image19.jpeg" ContentType="image/jpeg"/>
  <Override PartName="/ppt/media/image34.jpeg" ContentType="image/jpeg"/>
  <Override PartName="/ppt/media/image30.gif" ContentType="image/gif"/>
  <Override PartName="/ppt/media/image14.jpeg" ContentType="image/jpeg"/>
  <Override PartName="/ppt/media/image12.jpeg" ContentType="image/jpeg"/>
  <Override PartName="/ppt/media/image27.jpeg" ContentType="image/jpeg"/>
  <Override PartName="/ppt/media/image11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wmf" ContentType="image/x-wmf"/>
  <Override PartName="/ppt/media/image15.jpeg" ContentType="image/jpeg"/>
  <Override PartName="/ppt/media/image5.wmf" ContentType="image/x-wmf"/>
  <Override PartName="/ppt/media/image9.gif" ContentType="image/gif"/>
  <Override PartName="/ppt/media/image16.jpeg" ContentType="image/jpeg"/>
  <Override PartName="/ppt/media/image2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5A35-724C-4602-A858-D3EA1BB1DBF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 против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870E-7355-4E2F-94B0-096960984E2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3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Воеводкина И.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392C-601D-4C61-976F-1CED3E7589A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Светлугина Н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BC04-5472-4828-849D-2AD3F191D3E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2 «Б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Решетняк Елена Михайло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9F6D-A12A-4D72-B47B-30E4F9293B7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2 «В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Овчинникова Л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EBF5-F71C-4EFD-986F-559CE32DDE6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дении классных часов учителями использовалис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55D9-EA55-4356-A571-0299DECFA98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о Всероссийском конкурсе «Спорт против наркотик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в клас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лакатного группового рису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26B2-216C-4FCD-8908-F5DE71FF69E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C179-5EFD-4607-971B-50498AEE369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6756-D2F0-455D-93D1-54AF38CA952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ь проблему 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вать детям нравственные нормы цивилизованн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бережного отношения к своему здо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3841-12AF-4A0F-8871-7BEB3A3B468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этап - анкетировани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О вреде кур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 «А»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лет – 3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лет – 19 уче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лет – 3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696A-5858-4459-9026-B3E20A2D7B2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ы проводишь свободное врем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A9C7-4215-46DC-BEF1-23EEF601624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го ты в первый раз узнал о табаке и алкого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FB42-FCDD-4174-BBC0-8ED8141B599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спортивные соревн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епка семья – крепка Россия!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6FAF-F8B9-41B1-838C-B4C48A3DAB6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спортивные соревн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епка семья – крепка Россия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24C3-C9A7-4A2D-A14C-63BF0A4739F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4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Даниленко Оксана Василье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ADDD-5213-4B81-82CA-871072BEB1A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 «Б», 4 «В»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я: Кузькина Наталья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ршова Светлана Борис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E8BD-4146-4D80-8EEF-93F4B02F302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9180-B9F0-4CF8-8B2C-CA733C2B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178-AA19-4799-8E7C-1E6CECAD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4F6-B9E8-408D-97BA-D831B077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94A-65EC-4F97-BAEA-5F814F41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BE6F-4E27-4C64-B6DB-8E5A7240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ECB3-DA55-4BEB-BC1F-A9B99AF5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BFF8-C43C-4884-B274-7DC7E0B5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0D6C-01D9-4666-8382-2B4E0AC6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CAA0-FA98-487C-93D1-FE539A6D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DD07-8BDB-4BBA-9683-69D3D30A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5E64-1F79-4BE2-8D7D-14BA88A3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13E-1A3A-46B3-AC12-0AC23095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4770-BB79-4B98-939E-FEA2B7BA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AEC4-A60A-4BB9-875D-2E8FBBE7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C42A-D346-4C05-A4A4-EF86A13A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521E-CBBB-4490-951F-0025158E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3D15-6A9C-4F68-99DE-F250AA6C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B10A-2857-4610-AAF4-9931E35B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448-D58C-41E6-8024-AB4FE3B4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E07D-D405-44A0-99FD-34783821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922-1594-4CCD-B4CA-49E7C8BB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AC1-509E-4AFD-8CF6-9BD8BEFC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091-4DDC-4397-B664-5FA0F077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63E0-274D-4FD4-9220-4BED085E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0DC2-0E5E-4798-8A14-5F2180635F3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9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Rectangle 7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4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9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5" name="Rectangle 7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A8C4-5F98-4F18-9663-179C2E96F43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2;&#1088;&#1077;&#1076;&#1085;&#1099;&#1077;%20&#1087;&#1088;&#1080;&#1074;&#1099;&#1095;&#1082;&#1080;.ppt" TargetMode="External"/><Relationship Id="rId2" Type="http://schemas.openxmlformats.org/officeDocument/2006/relationships/hyperlink" Target="file:///&#1042;&#1088;&#1077;&#1076;&#1085;&#1099;&#1077;%20&#1087;&#1088;&#1080;&#1074;&#1099;&#1095;&#1082;&#1080;.ppt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порт против вредных привыче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4" descr="VOLASABY"/>
          <p:cNvPicPr/>
          <p:nvPr/>
        </p:nvPicPr>
        <p:blipFill>
          <a:blip r:embed="rId1"/>
          <a:stretch/>
        </p:blipFill>
        <p:spPr>
          <a:xfrm>
            <a:off x="6084720" y="3429000"/>
            <a:ext cx="2151360" cy="3232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SOCGIRL"/>
          <p:cNvPicPr/>
          <p:nvPr/>
        </p:nvPicPr>
        <p:blipFill>
          <a:blip r:embed="rId2"/>
          <a:stretch/>
        </p:blipFill>
        <p:spPr>
          <a:xfrm>
            <a:off x="826920" y="3429000"/>
            <a:ext cx="2335320" cy="30924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3200" y="171360"/>
            <a:ext cx="814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Воеводкина И.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Рисунок12"/>
          <p:cNvPicPr/>
          <p:nvPr/>
        </p:nvPicPr>
        <p:blipFill>
          <a:blip r:embed="rId1"/>
          <a:stretch/>
        </p:blipFill>
        <p:spPr>
          <a:xfrm>
            <a:off x="539640" y="321300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Рисунок13"/>
          <p:cNvPicPr/>
          <p:nvPr/>
        </p:nvPicPr>
        <p:blipFill>
          <a:blip r:embed="rId2"/>
          <a:stretch/>
        </p:blipFill>
        <p:spPr>
          <a:xfrm>
            <a:off x="4859280" y="3213000"/>
            <a:ext cx="3960720" cy="2970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0024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Светлугина Н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7" descr="Рисунок14"/>
          <p:cNvPicPr/>
          <p:nvPr/>
        </p:nvPicPr>
        <p:blipFill>
          <a:blip r:embed="rId1"/>
          <a:stretch/>
        </p:blipFill>
        <p:spPr>
          <a:xfrm>
            <a:off x="468360" y="3284640"/>
            <a:ext cx="3887640" cy="291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Рисунок15"/>
          <p:cNvPicPr/>
          <p:nvPr/>
        </p:nvPicPr>
        <p:blipFill>
          <a:blip r:embed="rId2"/>
          <a:stretch/>
        </p:blipFill>
        <p:spPr>
          <a:xfrm>
            <a:off x="4859280" y="328464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3200" y="171360"/>
            <a:ext cx="814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 «Б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Решетняк Елена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7" descr="Рисунок16"/>
          <p:cNvPicPr/>
          <p:nvPr/>
        </p:nvPicPr>
        <p:blipFill>
          <a:blip r:embed="rId1"/>
          <a:stretch/>
        </p:blipFill>
        <p:spPr>
          <a:xfrm>
            <a:off x="539640" y="335772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Рисунок17"/>
          <p:cNvPicPr/>
          <p:nvPr/>
        </p:nvPicPr>
        <p:blipFill>
          <a:blip r:embed="rId2"/>
          <a:stretch/>
        </p:blipFill>
        <p:spPr>
          <a:xfrm>
            <a:off x="4788000" y="3357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0024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 «В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Овчинникова Л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7" descr="Рисунок18"/>
          <p:cNvPicPr/>
          <p:nvPr/>
        </p:nvPicPr>
        <p:blipFill>
          <a:blip r:embed="rId1"/>
          <a:stretch/>
        </p:blipFill>
        <p:spPr>
          <a:xfrm>
            <a:off x="611280" y="342900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Рисунок19"/>
          <p:cNvPicPr/>
          <p:nvPr/>
        </p:nvPicPr>
        <p:blipFill>
          <a:blip r:embed="rId2"/>
          <a:stretch/>
        </p:blipFill>
        <p:spPr>
          <a:xfrm>
            <a:off x="4859280" y="342900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и проведении классных часов учителями использовались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911760" y="2849400"/>
            <a:ext cx="13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бесе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21720" y="3429000"/>
            <a:ext cx="395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«Вредные привычк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569480" y="3429000"/>
            <a:ext cx="43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иг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«Опасная зависимос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4572000" y="184464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2626920" y="1844640"/>
            <a:ext cx="151308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5003640" y="1844640"/>
            <a:ext cx="151308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12" descr="2stop-second1"/>
          <p:cNvPicPr/>
          <p:nvPr/>
        </p:nvPicPr>
        <p:blipFill>
          <a:blip r:embed="rId3"/>
          <a:stretch/>
        </p:blipFill>
        <p:spPr>
          <a:xfrm>
            <a:off x="1476360" y="4653000"/>
            <a:ext cx="1355760" cy="201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1vodka"/>
          <p:cNvPicPr/>
          <p:nvPr/>
        </p:nvPicPr>
        <p:blipFill>
          <a:blip r:embed="rId4"/>
          <a:stretch/>
        </p:blipFill>
        <p:spPr>
          <a:xfrm>
            <a:off x="3886200" y="4653000"/>
            <a:ext cx="1344600" cy="201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14hero"/>
          <p:cNvPicPr/>
          <p:nvPr/>
        </p:nvPicPr>
        <p:blipFill>
          <a:blip r:embed="rId5"/>
          <a:stretch/>
        </p:blipFill>
        <p:spPr>
          <a:xfrm>
            <a:off x="6516720" y="4653000"/>
            <a:ext cx="1440000" cy="20145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ие во Всероссийском конкурсе «Спорт против наркотиков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 рисунков в класс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 плакатного группового рису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4" descr="Рисунок55"/>
          <p:cNvPicPr/>
          <p:nvPr/>
        </p:nvPicPr>
        <p:blipFill>
          <a:blip r:embed="rId1"/>
          <a:stretch/>
        </p:blipFill>
        <p:spPr>
          <a:xfrm>
            <a:off x="7236000" y="2997360"/>
            <a:ext cx="1496880" cy="1692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IMG_1108"/>
          <p:cNvPicPr/>
          <p:nvPr/>
        </p:nvPicPr>
        <p:blipFill>
          <a:blip r:embed="rId1"/>
          <a:stretch/>
        </p:blipFill>
        <p:spPr>
          <a:xfrm rot="4015200">
            <a:off x="891000" y="3796560"/>
            <a:ext cx="3024360" cy="22892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IMG_1109"/>
          <p:cNvPicPr/>
          <p:nvPr/>
        </p:nvPicPr>
        <p:blipFill>
          <a:blip r:embed="rId2"/>
          <a:stretch/>
        </p:blipFill>
        <p:spPr>
          <a:xfrm rot="6678000">
            <a:off x="5210280" y="3726000"/>
            <a:ext cx="3168720" cy="2286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970640" y="2060640"/>
            <a:ext cx="52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 «В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Завьялова Ольга Никола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846440" y="1916280"/>
            <a:ext cx="54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Даниленко Оксана Васил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9" descr="Рисунок1"/>
          <p:cNvPicPr/>
          <p:nvPr/>
        </p:nvPicPr>
        <p:blipFill>
          <a:blip r:embed="rId1"/>
          <a:stretch/>
        </p:blipFill>
        <p:spPr>
          <a:xfrm>
            <a:off x="468360" y="2997360"/>
            <a:ext cx="2730600" cy="2047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Рисунок2"/>
          <p:cNvPicPr/>
          <p:nvPr/>
        </p:nvPicPr>
        <p:blipFill>
          <a:blip r:embed="rId2"/>
          <a:stretch/>
        </p:blipFill>
        <p:spPr>
          <a:xfrm>
            <a:off x="5580000" y="3068640"/>
            <a:ext cx="2730600" cy="2048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Рисунок3"/>
          <p:cNvPicPr/>
          <p:nvPr/>
        </p:nvPicPr>
        <p:blipFill>
          <a:blip r:embed="rId3"/>
          <a:stretch/>
        </p:blipFill>
        <p:spPr>
          <a:xfrm>
            <a:off x="3059280" y="4581360"/>
            <a:ext cx="2724120" cy="20480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Цели проект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28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судить проблему вредных привыч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ивать детям нравственные нормы цивилизованного обще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ние бережного отношения к своему здоров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10" descr="Рисунок3"/>
          <p:cNvPicPr/>
          <p:nvPr/>
        </p:nvPicPr>
        <p:blipFill>
          <a:blip r:embed="rId1"/>
          <a:stretch/>
        </p:blipFill>
        <p:spPr>
          <a:xfrm>
            <a:off x="6300720" y="4869000"/>
            <a:ext cx="1943280" cy="1773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- анкетирование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О вреде курения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 лет – 3 уче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 лет – 19 учени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 лет – 3 уче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4"/>
          <p:cNvSpPr/>
          <p:nvPr/>
        </p:nvSpPr>
        <p:spPr>
          <a:xfrm flipH="1">
            <a:off x="3419640" y="4365720"/>
            <a:ext cx="50472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5148360" y="4365720"/>
            <a:ext cx="57600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95600" y="508464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ьчиков - 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146560" y="5084640"/>
            <a:ext cx="22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вочек - 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8" descr="Рисунок8"/>
          <p:cNvPicPr/>
          <p:nvPr/>
        </p:nvPicPr>
        <p:blipFill>
          <a:blip r:embed="rId1"/>
          <a:stretch/>
        </p:blipFill>
        <p:spPr>
          <a:xfrm>
            <a:off x="3794040" y="5734080"/>
            <a:ext cx="1554120" cy="8762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86425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ак ты проводишь свободное время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179280" y="1844640"/>
          <a:ext cx="84963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44640"/>
                    <a:ext cx="84963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6" descr="Рисунок8"/>
          <p:cNvPicPr/>
          <p:nvPr/>
        </p:nvPicPr>
        <p:blipFill>
          <a:blip r:embed="rId3"/>
          <a:stretch/>
        </p:blipFill>
        <p:spPr>
          <a:xfrm>
            <a:off x="6443640" y="5516640"/>
            <a:ext cx="1554120" cy="8762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4"/>
          <p:cNvGraphicFramePr/>
          <p:nvPr/>
        </p:nvGraphicFramePr>
        <p:xfrm>
          <a:off x="1612800" y="1844640"/>
          <a:ext cx="591840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1844640"/>
                    <a:ext cx="591840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4560" y="260280"/>
            <a:ext cx="727236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т кого ты в первый раз узнал о табаке и алкоголе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7" descr="j0296993"/>
          <p:cNvPicPr/>
          <p:nvPr/>
        </p:nvPicPr>
        <p:blipFill>
          <a:blip r:embed="rId3"/>
          <a:stretch/>
        </p:blipFill>
        <p:spPr>
          <a:xfrm>
            <a:off x="7451640" y="5084640"/>
            <a:ext cx="1427400" cy="1605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j0300590"/>
          <p:cNvPicPr/>
          <p:nvPr/>
        </p:nvPicPr>
        <p:blipFill>
          <a:blip r:embed="rId4"/>
          <a:stretch/>
        </p:blipFill>
        <p:spPr>
          <a:xfrm>
            <a:off x="395280" y="5157720"/>
            <a:ext cx="1235160" cy="12463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1880" y="260280"/>
            <a:ext cx="82202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спортивные соревнова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Крепка семья – крепка Россия!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9" descr="Рисунок7"/>
          <p:cNvPicPr/>
          <p:nvPr/>
        </p:nvPicPr>
        <p:blipFill>
          <a:blip r:embed="rId1"/>
          <a:stretch/>
        </p:blipFill>
        <p:spPr>
          <a:xfrm>
            <a:off x="788508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Рисунок7"/>
          <p:cNvPicPr/>
          <p:nvPr/>
        </p:nvPicPr>
        <p:blipFill>
          <a:blip r:embed="rId2"/>
          <a:stretch/>
        </p:blipFill>
        <p:spPr>
          <a:xfrm>
            <a:off x="46836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Рисунок1"/>
          <p:cNvPicPr/>
          <p:nvPr/>
        </p:nvPicPr>
        <p:blipFill>
          <a:blip r:embed="rId3"/>
          <a:stretch/>
        </p:blipFill>
        <p:spPr>
          <a:xfrm>
            <a:off x="539640" y="2276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Рисунок3"/>
          <p:cNvPicPr/>
          <p:nvPr/>
        </p:nvPicPr>
        <p:blipFill>
          <a:blip r:embed="rId4"/>
          <a:stretch/>
        </p:blipFill>
        <p:spPr>
          <a:xfrm>
            <a:off x="5076720" y="227664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IMG_0869"/>
          <p:cNvPicPr/>
          <p:nvPr/>
        </p:nvPicPr>
        <p:blipFill>
          <a:blip r:embed="rId5"/>
          <a:stretch/>
        </p:blipFill>
        <p:spPr>
          <a:xfrm>
            <a:off x="3814920" y="3716280"/>
            <a:ext cx="1512720" cy="27147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0755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спортивные соревнова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Крепка семья – крепка Россия!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6" descr="Рисунок7"/>
          <p:cNvPicPr/>
          <p:nvPr/>
        </p:nvPicPr>
        <p:blipFill>
          <a:blip r:embed="rId1"/>
          <a:stretch/>
        </p:blipFill>
        <p:spPr>
          <a:xfrm>
            <a:off x="46836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Рисунок6"/>
          <p:cNvPicPr/>
          <p:nvPr/>
        </p:nvPicPr>
        <p:blipFill>
          <a:blip r:embed="rId2"/>
          <a:stretch/>
        </p:blipFill>
        <p:spPr>
          <a:xfrm>
            <a:off x="900000" y="1989000"/>
            <a:ext cx="2692440" cy="3600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IMG_0905"/>
          <p:cNvPicPr/>
          <p:nvPr/>
        </p:nvPicPr>
        <p:blipFill>
          <a:blip r:embed="rId3"/>
          <a:stretch/>
        </p:blipFill>
        <p:spPr>
          <a:xfrm rot="471600">
            <a:off x="4067280" y="249228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Рисунок7"/>
          <p:cNvPicPr/>
          <p:nvPr/>
        </p:nvPicPr>
        <p:blipFill>
          <a:blip r:embed="rId4"/>
          <a:stretch/>
        </p:blipFill>
        <p:spPr>
          <a:xfrm>
            <a:off x="7596360" y="5445000"/>
            <a:ext cx="925200" cy="1200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2198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Даниленко Оксана Васил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9" descr="Рисунок8"/>
          <p:cNvPicPr/>
          <p:nvPr/>
        </p:nvPicPr>
        <p:blipFill>
          <a:blip r:embed="rId1"/>
          <a:stretch/>
        </p:blipFill>
        <p:spPr>
          <a:xfrm>
            <a:off x="468360" y="342900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Рисунок9"/>
          <p:cNvPicPr/>
          <p:nvPr/>
        </p:nvPicPr>
        <p:blipFill>
          <a:blip r:embed="rId2"/>
          <a:stretch/>
        </p:blipFill>
        <p:spPr>
          <a:xfrm>
            <a:off x="4859280" y="342900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2198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Б», 4 «В» класс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я: Кузькина Наталья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ршова Светлана Борис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Рисунок10"/>
          <p:cNvPicPr/>
          <p:nvPr/>
        </p:nvPicPr>
        <p:blipFill>
          <a:blip r:embed="rId1"/>
          <a:stretch/>
        </p:blipFill>
        <p:spPr>
          <a:xfrm>
            <a:off x="684360" y="3573360"/>
            <a:ext cx="3600360" cy="2692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Рисунок11"/>
          <p:cNvPicPr/>
          <p:nvPr/>
        </p:nvPicPr>
        <p:blipFill>
          <a:blip r:embed="rId2"/>
          <a:stretch/>
        </p:blipFill>
        <p:spPr>
          <a:xfrm>
            <a:off x="5003640" y="357336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9:34:26Z</dcterms:created>
  <dc:creator>Comp</dc:creator>
  <dc:description/>
  <cp:keywords/>
  <dc:language>en-US</dc:language>
  <cp:lastModifiedBy>LEGION</cp:lastModifiedBy>
  <dcterms:modified xsi:type="dcterms:W3CDTF">2015-05-12T08:30:59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01049</vt:lpwstr>
  </property>
</Properties>
</file>