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1044-580F-4B31-B060-5809CE5C0EB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губность вредных привычек и их профи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01CA-D84E-490F-9131-A86ACDB9C33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На сердечно-сосудистую систем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ается пульс до 100 ударов в мину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ается сила и скорость сокращения сердечной мышцы(миокар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ельно повышается в крови содержание адреналина и норадреналина, что приводит к стрессовым ситуациям, психическим переживан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CDCC-83E1-4FA7-8622-DD269F4E6F6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е алкоголиз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альные поступ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ие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ое и духовное обкрадывание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злечимые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яжелые трав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9BCD-D1EE-4F36-AA34-FB841EB831E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 ку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омент затяжки дымом сигареты температура на ее конце достигает 60 градусов и выше. Происходит возгонка табака и папиросной бумаги, при этом образуется около 200 вредны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157C-39D2-449A-B19F-0E95F9B1820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табачного ды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ись угле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зопир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равьиная ,синиль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ья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ми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оводор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цети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DCE5-7356-4706-81FF-FFD199CDDC0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лияние курения на организм челов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ходя через дыхательные пути , табачный дым вызывает раздражение, воспаление слизистых оболочек зевав, носоглотки, трахеи, бронхов, а также легочных альве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 курящего человека делает за сутки на 12-15 тысяч сокращений больше, чем сердце некурящего, что приводит к преждевременному изнашиванию сердечной мыш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B1FC-152D-4B0E-B43F-1A784AC3184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езни развивающие у курильщ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нхиальная аст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онический бронх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к губы, языка, гортани, трахе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шемическая болезнь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стр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венная болез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0637-2DBE-4E6E-ABFA-F09768A39C3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сивное курение может способствовать развитию атеросклер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DB16-EBF9-4FBC-A3E9-8A1C3F59BFD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филактика вредных привыче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и о вреде курения, алк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дос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нды с предупредительными плака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и школьного телевидения и радио о пагубности вред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ение законов России о запрещение курения и алкоголя в общественных мес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591F-D607-4BE0-8F67-F72CB5BE858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алкоголя н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дают структуры коры больших полушар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сть центров мозга, управляющих поведением, подавляется: утрачивается разумный контроль над поступками, снижается критическое отношение к себ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яется одышка, при спокойной ходьбе, в состоянии поко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539F-BDA5-450C-AC43-A92542568CF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лияние алкоголя на печ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У людей злоупотребляющих спиртными напитками, возникновение цирроза печени наблюдается в семь раз чаще, чем у непьющ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57E3-E3E5-4940-8A11-C7B4B8A7F2D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2C86-ED76-4FC6-AB42-8A44BE84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330B-ECDF-4DED-A2DA-94477D85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6F6E-2BD9-4C09-89E1-DBAB9AB9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9022-D769-415F-8F64-9256E1F97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BC7D-A5DE-4E7E-A52D-493D44E0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00E0-B67F-4838-B899-E2EB6892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B2FE-CA6F-485C-B4BE-6C1509D8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79B4-8539-431B-8CC5-EB6B427D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BF2F-1832-4FCE-8C7D-9B7683F1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72CF-8E87-4606-A6E4-13A88E4D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7DD1-B9A9-445B-9EA9-77ACA218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E27D-8C8C-4D65-B686-CEAEFE84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4B18-79A1-4C74-AF31-EE9000FF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607A-81F3-4D7A-854F-62727F20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D12E-2E74-4A4F-8501-E343DAF8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2F65-2077-42D0-95AD-1B41E0D46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48F2-89EF-4DD0-8127-2D072CF5E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E7CC-113A-487A-87D2-37AFC4B0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00F0-482C-413A-85F3-B92B8002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CAE8-E941-4DAC-90BA-087DFFD4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C4EF-CF9E-4678-97E8-AD950A75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5ECD-1AF3-4F29-BF8B-C35F5B0B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614B-EAF4-415E-B125-1574E936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0B85-E279-472F-AFF6-53CCF3D3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3A97-3E02-483A-985B-64A04BB45D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8057-8867-4414-9FC3-FEFEF1C3B42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395280"/>
            <a:ext cx="7773840" cy="2038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Пагубность вредных привычек и их профилактик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Picture 4" descr="20051201_carlson_wallpapers_ru_bred_1024x768_A(94365)"/>
          <p:cNvPicPr/>
          <p:nvPr/>
        </p:nvPicPr>
        <p:blipFill>
          <a:blip r:embed="rId1"/>
          <a:stretch/>
        </p:blipFill>
        <p:spPr>
          <a:xfrm>
            <a:off x="1258920" y="2716200"/>
            <a:ext cx="6889680" cy="37544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ecff"/>
                </a:solidFill>
                <a:uFillTx/>
                <a:latin typeface="Arial"/>
              </a:rPr>
              <a:t>На сердечно-сосудистую систем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щается пульс до 100 ударов в мину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нижается сила и скорость сокращения сердечной мышцы(миокард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ительно повышается в крови содержание адреналина и норадреналина, что приводит к стрессовым ситуациям, психическим переживани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следствие алкоголизма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моральные поступ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ушение семь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альное и духовное обкрадывание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излечимые боле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яжелые трав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ступ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ред кур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омент затяжки дымом сигареты температура на ее конце достигает 60 градусов и выше. Происходит возгонка табака и папиросной бумаги, при этом образуется около 200 вредных веще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J0304405"/>
          <p:cNvPicPr/>
          <p:nvPr/>
        </p:nvPicPr>
        <p:blipFill>
          <a:blip r:embed="rId1"/>
          <a:stretch/>
        </p:blipFill>
        <p:spPr>
          <a:xfrm>
            <a:off x="5724360" y="1844640"/>
            <a:ext cx="2735280" cy="331308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став табачного ды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ись углер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ж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нзопир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уравьиная ,синильная кисл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шья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мми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роводор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цетил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20051218_arcuen_wallpapers_ru_mikrokosmos_1024x768_A(95150)"/>
          <p:cNvPicPr/>
          <p:nvPr/>
        </p:nvPicPr>
        <p:blipFill>
          <a:blip r:embed="rId1"/>
          <a:stretch/>
        </p:blipFill>
        <p:spPr>
          <a:xfrm>
            <a:off x="4648320" y="1700280"/>
            <a:ext cx="4038480" cy="432108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лияние курения на организм челове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ходя через дыхательные пути , табачный дым вызывает раздражение, воспаление слизистых оболочек зевав, носоглотки, трахеи, бронхов, а также легочных альвео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рдце курящего человека делает за сутки на 12-15 тысяч сокращений больше, чем сердце некурящего, что приводит к преждевременному изнашиванию сердечной мыш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олезни развивающие у курильщик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ронхиальная аст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ронический бронх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к губы, языка, гортани, трахе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шемическая болезнь серд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стр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звенная болез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21" descr="HM00005_"/>
          <p:cNvPicPr/>
          <p:nvPr/>
        </p:nvPicPr>
        <p:blipFill>
          <a:blip r:embed="rId1"/>
          <a:stretch/>
        </p:blipFill>
        <p:spPr>
          <a:xfrm>
            <a:off x="5435640" y="1916280"/>
            <a:ext cx="2952720" cy="352872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ассивное курение может способствовать развитию атеросклероз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Picture 6" descr="wallpaper (69)"/>
          <p:cNvPicPr/>
          <p:nvPr/>
        </p:nvPicPr>
        <p:blipFill>
          <a:blip r:embed="rId1"/>
          <a:stretch/>
        </p:blipFill>
        <p:spPr>
          <a:xfrm>
            <a:off x="1554120" y="2708280"/>
            <a:ext cx="6033960" cy="341784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офилактика вредных привычек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кции о вреде курения, алкого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я досу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енды с предупредительными плакат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дачи школьного телевидения и радио о пагубности вредных привыч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блюдение законов России о запрещение курения и алкоголя в общественных мест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лияние алкоголя на челове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дают структуры коры больших полушари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ивность центров мозга, управляющих поведением, подавляется: утрачивается разумный контроль над поступками, снижается критическое отношение к себ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является одышка, при спокойной ходьбе, в состоянии поко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5" descr="fun_pic_32"/>
          <p:cNvPicPr/>
          <p:nvPr/>
        </p:nvPicPr>
        <p:blipFill>
          <a:blip r:embed="rId1"/>
          <a:stretch/>
        </p:blipFill>
        <p:spPr>
          <a:xfrm>
            <a:off x="4648320" y="2133720"/>
            <a:ext cx="4038480" cy="345888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Влияние алкоголя на печен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У людей злоупотребляющих спиртными напитками, возникновение цирроза печени наблюдается в семь раз чаще, чем у непьющ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6" descr="20051201_carlson_wallpapers_ru_bred_1024x768_A(94365)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8:34:47Z</dcterms:created>
  <dc:creator>я</dc:creator>
  <dc:description/>
  <dc:language>en-US</dc:language>
  <cp:lastModifiedBy>LEGION</cp:lastModifiedBy>
  <dcterms:modified xsi:type="dcterms:W3CDTF">2015-05-12T08:33:24Z</dcterms:modified>
  <cp:revision>9</cp:revision>
  <dc:subject/>
  <dc:title>Пагубность вредных привычек</dc:title>
</cp:coreProperties>
</file>