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gif" ContentType="image/gif"/>
  <Override PartName="/ppt/media/image32.jpeg" ContentType="image/jpeg"/>
  <Override PartName="/ppt/media/image20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5.wmf" ContentType="image/x-wmf"/>
  <Override PartName="/ppt/media/image21.wmf" ContentType="image/x-wmf"/>
  <Override PartName="/ppt/media/image25.gif" ContentType="image/gif"/>
  <Override PartName="/ppt/media/image1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33.jpeg" ContentType="image/jpeg"/>
  <Override PartName="/ppt/media/click.wav" ContentType="audio/x-wav"/>
  <Override PartName="/ppt/media/image8.gif" ContentType="image/gif"/>
  <Override PartName="/ppt/media/image4.wmf" ContentType="image/x-wmf"/>
  <Override PartName="/ppt/media/image34.jpeg" ContentType="image/jpeg"/>
  <Override PartName="/ppt/media/image29.jpeg" ContentType="image/jpeg"/>
  <Override PartName="/ppt/media/image7.gif" ContentType="image/gif"/>
  <Override PartName="/ppt/media/image6.wmf" ContentType="image/x-wmf"/>
  <Override PartName="/ppt/media/image19.jpeg" ContentType="image/jpeg"/>
  <Override PartName="/ppt/media/image12.jpeg" ContentType="image/jpeg"/>
  <Override PartName="/ppt/media/image3.png" ContentType="image/png"/>
  <Override PartName="/ppt/media/image23.gif" ContentType="image/gif"/>
  <Override PartName="/ppt/media/image26.png" ContentType="image/png"/>
  <Override PartName="/ppt/media/image2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EB45-D10B-4811-8A9B-47A185BA8DF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ыч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езные и вред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едность от лени, а болезнь от невоздерж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0000"/>
                </a:solidFill>
                <a:latin typeface="Calibri"/>
              </a:rPr>
              <a:t>пословиц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8AEA-413F-465E-90DE-2D760A5D66F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ему приводят вредные привыч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7ED9-CC19-4B28-9731-064646A679F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 полез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4815-7630-41CF-970F-990E298C013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Из сочинений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се привычки человек воспитывает в себе сам. Только вредные привычки легко пускают корни, а воспитание полезных привычек требует ежедневного труда и большой силы воли. Но зато полезные привычки сделают из своего хозяина челове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 детства необходимо работать над собой, вырабатывать в себе полезные привычки, которые помогут добиться успеха, достичь целей в жизни, быть счастливым. Человек может стать рабом вредных привычек, если не воспитывать с детства уважение к самому себ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ервую сигарету часто предлагают «хорошие друзья». И молодой человек поддается стадному чувству. Чтобы отстоять свое мнение нужно быть сильным духом и телом. А для этого надо вести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9592-9DD2-4F70-BE2B-248936195AE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че преуспевать в жизни, чем быть неудачн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че быть счастливым, чем несчаст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че любить, чем ненавиде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лишь приложить усилия и жить, любить, работать, творить здоровое тело и здоровый дух, сохранять хорошее состояние мыслей и ду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907D-4E57-4E73-94B7-A36382E6532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, учащиеся 6 «Б» класса, принимаем ответственное решение носить почетное з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Calibri"/>
              </a:rPr>
              <a:t>«Некурящий класс»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бязуемся не нарушать данный догово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хотим, чтобы у нас были здоровые дети, а здоровые дети могут быть только у здоровых родителей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хотим быть здоровыми, успешными и счастливыми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74F8-D8BD-4C7A-991B-15C858A25C3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Царство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E887-475E-4C3F-920A-E0A603E8B77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Comic Sans MS"/>
              </a:rPr>
              <a:t>Результаты анке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AD0B-8A81-4519-A49B-5195E7090A8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дные привы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Чтобы казаться старше и современ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з любопыт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 комп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Лекарство от ск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Успокоить нервы и снять нап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Будешь миллионером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Это не модно и не интеллиген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Ухудшает внешность (вянет кожа, желтеют зубы, сипнет голо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Укорачивает жи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Добавляет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Отравляет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Мешает работе и бизне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Отравляет некуря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Причина пож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87D0-E5BB-49DB-9A79-F474E609A1E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3F85-7CB4-4201-B786-D7522C5C203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 сочинений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среднем, курящие люди живут на 6-8 лет меньше, чем некурящие. Так следует ли за такое сомнительное удовольствие платить такую дорогую це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Кто чаще курит? Те, кто не слишком уверен в себе или не так способен, не так стабилен психическ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уществует множество способов бросить курить. Одни курильщики сами справляются с этой задачей, другим нужна помощь. Но самое лучшее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– никогда не начинать курить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Чем раньше подросток начинает курить, тем опаснее для него воздействие ядов табачного дыма. Он  хуже развивается, медленнее рас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месте с табачным дымом улетучивается женственность, красота, организм быстро увя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0875-3DA4-48FD-843F-6129CA3F914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урить – здоровью вредить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И о какой же привлекательности девушки можно говорить, если изо рта источается запах табачного перег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18A9-37E4-4E8F-B0AA-071B4689DC6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инная причина курения – это наркотическая завис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062B-8024-4F96-9F59-9F4C95159F8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ы-мишени поражения табачным дымо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ли что ждет того, кто кури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62E7-4D97-4086-8E17-DB8E98879CB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8340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834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834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834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8340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5867280" y="5950080"/>
            <a:ext cx="266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Comic Sans MS"/>
              </a:rPr>
              <a:t>г. Нижний Новгор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Comic Sans MS"/>
              </a:rPr>
              <a:t>13 декабря 2008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Привычки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полезные и вредные</a:t>
            </a:r>
            <a:endParaRPr b="1" lang="en-US" sz="5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42920" y="3716280"/>
            <a:ext cx="6010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00"/>
                </a:solidFill>
                <a:latin typeface="Comic Sans MS"/>
              </a:rPr>
              <a:t>Бедность от лени, а болезнь от невоздержанности</a:t>
            </a:r>
            <a:endParaRPr b="0" lang="en-US" sz="2900" spc="-1" strike="noStrike">
              <a:solidFill>
                <a:srgbClr val="ffff66"/>
              </a:solidFill>
              <a:latin typeface="Comic Sans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словица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К чему приводят вредные привычки?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95" name="Picture 21" descr="Курящий мужик говорит"/>
          <p:cNvPicPr/>
          <p:nvPr/>
        </p:nvPicPr>
        <p:blipFill>
          <a:blip r:embed="rId1"/>
          <a:stretch/>
        </p:blipFill>
        <p:spPr>
          <a:xfrm>
            <a:off x="7667640" y="620640"/>
            <a:ext cx="936720" cy="1297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68360" y="9079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Кур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24000" y="1916280"/>
            <a:ext cx="39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Распитие спиртных напит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50920" y="328464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Употребление наркот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50920" y="4797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Азартные иг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324000" y="59500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Сквернослов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643280" y="907920"/>
            <a:ext cx="28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никотиновой зависим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643280" y="1916280"/>
            <a:ext cx="26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алкогольной зависим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716360" y="328464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наркотической зависим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4716360" y="4869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игроман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4643280" y="566100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низкому уровню культу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>
            <a:off x="2771640" y="98100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/>
          <p:cNvSpPr/>
          <p:nvPr/>
        </p:nvSpPr>
        <p:spPr>
          <a:xfrm>
            <a:off x="2700360" y="242100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8"/>
          <p:cNvSpPr/>
          <p:nvPr/>
        </p:nvSpPr>
        <p:spPr>
          <a:xfrm>
            <a:off x="2771640" y="357336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2843280" y="501336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0"/>
          <p:cNvSpPr/>
          <p:nvPr/>
        </p:nvSpPr>
        <p:spPr>
          <a:xfrm>
            <a:off x="2843280" y="609300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Мат опасен для жизни"/>
          <p:cNvPicPr/>
          <p:nvPr/>
        </p:nvPicPr>
        <p:blipFill>
          <a:blip r:embed="rId2"/>
          <a:stretch/>
        </p:blipFill>
        <p:spPr>
          <a:xfrm>
            <a:off x="7236000" y="5229360"/>
            <a:ext cx="1657080" cy="1369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9" descr="L41_11_p01"/>
          <p:cNvPicPr/>
          <p:nvPr/>
        </p:nvPicPr>
        <p:blipFill>
          <a:blip r:embed="rId3"/>
          <a:stretch/>
        </p:blipFill>
        <p:spPr>
          <a:xfrm>
            <a:off x="7164360" y="3500280"/>
            <a:ext cx="1800360" cy="13510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3" name="Picture 32" descr="L41_06_p01"/>
          <p:cNvPicPr/>
          <p:nvPr/>
        </p:nvPicPr>
        <p:blipFill>
          <a:blip r:embed="rId4"/>
          <a:stretch/>
        </p:blipFill>
        <p:spPr>
          <a:xfrm>
            <a:off x="7164360" y="1844640"/>
            <a:ext cx="1770120" cy="13273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 rot="20694600">
            <a:off x="110880" y="604440"/>
            <a:ext cx="43149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«От курения тупеешь, оно не совместимо с творческой работой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И.Гёт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 rot="666000">
            <a:off x="3851640" y="3182400"/>
            <a:ext cx="49881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Comic Sans MS"/>
              </a:rPr>
              <a:t>«Курильщик впускает в свои уста врага, который похищает мозги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Comic Sans MS"/>
              </a:rPr>
              <a:t>Англ. пословиц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 rot="21208800">
            <a:off x="484200" y="2923200"/>
            <a:ext cx="280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omic Sans MS"/>
              </a:rPr>
              <a:t>«Здоровье потеряешь – все потеряешь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omic Sans MS"/>
              </a:rPr>
              <a:t>Народная мудрос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Скорая помощь"/>
          <p:cNvPicPr/>
          <p:nvPr/>
        </p:nvPicPr>
        <p:blipFill>
          <a:blip r:embed="rId1"/>
          <a:stretch/>
        </p:blipFill>
        <p:spPr>
          <a:xfrm>
            <a:off x="250920" y="4149720"/>
            <a:ext cx="2654280" cy="1650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kurenie"/>
          <p:cNvPicPr/>
          <p:nvPr/>
        </p:nvPicPr>
        <p:blipFill>
          <a:blip r:embed="rId2"/>
          <a:stretch/>
        </p:blipFill>
        <p:spPr>
          <a:xfrm>
            <a:off x="4067280" y="4437000"/>
            <a:ext cx="1434960" cy="19051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3"/>
          <p:cNvSpPr/>
          <p:nvPr/>
        </p:nvSpPr>
        <p:spPr>
          <a:xfrm>
            <a:off x="4390920" y="907920"/>
            <a:ext cx="4753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Начинаешь   курить,   чтобы доказать,   что   ты   мужчина. Потом   пытаешься    бросить курить,  чтобы   доказать,  что ты  мужчина»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Жорж Симено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Царство  полезных привычек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122" name="Picture 4" descr="Рисунок1"/>
          <p:cNvPicPr/>
          <p:nvPr/>
        </p:nvPicPr>
        <p:blipFill>
          <a:blip r:embed="rId2"/>
          <a:stretch/>
        </p:blipFill>
        <p:spPr>
          <a:xfrm>
            <a:off x="7451640" y="1197000"/>
            <a:ext cx="1309680" cy="1295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j0303458"/>
          <p:cNvPicPr/>
          <p:nvPr/>
        </p:nvPicPr>
        <p:blipFill>
          <a:blip r:embed="rId3"/>
          <a:stretch/>
        </p:blipFill>
        <p:spPr>
          <a:xfrm>
            <a:off x="250920" y="981000"/>
            <a:ext cx="1765080" cy="1225800"/>
          </a:xfrm>
          <a:prstGeom prst="rect">
            <a:avLst/>
          </a:prstGeom>
          <a:ln w="0">
            <a:noFill/>
          </a:ln>
        </p:spPr>
      </p:pic>
      <p:grpSp>
        <p:nvGrpSpPr>
          <p:cNvPr id="124" name="Diagram 12"/>
          <p:cNvGrpSpPr/>
          <p:nvPr/>
        </p:nvGrpSpPr>
        <p:grpSpPr>
          <a:xfrm>
            <a:off x="375840" y="1174680"/>
            <a:ext cx="7888680" cy="4370040"/>
            <a:chOff x="375840" y="1174680"/>
            <a:chExt cx="7888680" cy="4370040"/>
          </a:xfrm>
        </p:grpSpPr>
        <p:sp>
          <p:nvSpPr>
            <p:cNvPr id="125" name="_s2052"/>
            <p:cNvSpPr/>
            <p:nvPr/>
          </p:nvSpPr>
          <p:spPr>
            <a:xfrm flipV="1">
              <a:off x="3756600" y="1174680"/>
              <a:ext cx="1126800" cy="624240"/>
            </a:xfrm>
            <a:custGeom>
              <a:avLst/>
              <a:gdLst>
                <a:gd name="textAreaLeft" fmla="*/ 404280 w 1126800"/>
                <a:gd name="textAreaRight" fmla="*/ 722520 w 1126800"/>
                <a:gd name="textAreaTop" fmla="*/ 223920 h 624240"/>
                <a:gd name="textAreaBottom" fmla="*/ 40032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Трудолюбие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53"/>
            <p:cNvSpPr/>
            <p:nvPr/>
          </p:nvSpPr>
          <p:spPr>
            <a:xfrm flipV="1">
              <a:off x="3192840" y="1798560"/>
              <a:ext cx="2253600" cy="623880"/>
            </a:xfrm>
            <a:custGeom>
              <a:avLst/>
              <a:gdLst>
                <a:gd name="textAreaLeft" fmla="*/ 495360 w 2253600"/>
                <a:gd name="textAreaRight" fmla="*/ 1758240 w 2253600"/>
                <a:gd name="textAreaTop" fmla="*/ 137160 h 623880"/>
                <a:gd name="textAreaBottom" fmla="*/ 48672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Вежливость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54"/>
            <p:cNvSpPr/>
            <p:nvPr/>
          </p:nvSpPr>
          <p:spPr>
            <a:xfrm flipV="1">
              <a:off x="2629800" y="2422800"/>
              <a:ext cx="3380760" cy="624240"/>
            </a:xfrm>
            <a:custGeom>
              <a:avLst/>
              <a:gdLst>
                <a:gd name="textAreaLeft" fmla="*/ 586800 w 3380760"/>
                <a:gd name="textAreaRight" fmla="*/ 2793960 w 3380760"/>
                <a:gd name="textAreaTop" fmla="*/ 108360 h 624240"/>
                <a:gd name="textAreaBottom" fmla="*/ 51588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6699"/>
                  </a:solidFill>
                  <a:latin typeface="Comic Sans MS"/>
                </a:rPr>
                <a:t>Поддержание чистоты и порядка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55"/>
            <p:cNvSpPr/>
            <p:nvPr/>
          </p:nvSpPr>
          <p:spPr>
            <a:xfrm flipV="1">
              <a:off x="2066040" y="3047760"/>
              <a:ext cx="4507560" cy="624240"/>
            </a:xfrm>
            <a:custGeom>
              <a:avLst/>
              <a:gdLst>
                <a:gd name="textAreaLeft" fmla="*/ 678240 w 4507560"/>
                <a:gd name="textAreaRight" fmla="*/ 3829320 w 4507560"/>
                <a:gd name="textAreaTop" fmla="*/ 93960 h 624240"/>
                <a:gd name="textAreaBottom" fmla="*/ 53028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Соблюдение режима дня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56"/>
            <p:cNvSpPr/>
            <p:nvPr/>
          </p:nvSpPr>
          <p:spPr>
            <a:xfrm flipV="1">
              <a:off x="1502640" y="3670920"/>
              <a:ext cx="5634720" cy="623880"/>
            </a:xfrm>
            <a:custGeom>
              <a:avLst/>
              <a:gdLst>
                <a:gd name="textAreaLeft" fmla="*/ 769320 w 5634720"/>
                <a:gd name="textAreaRight" fmla="*/ 4865400 w 5634720"/>
                <a:gd name="textAreaTop" fmla="*/ 84960 h 623880"/>
                <a:gd name="textAreaBottom" fmla="*/ 53892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Занятия спортом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7"/>
            <p:cNvSpPr/>
            <p:nvPr/>
          </p:nvSpPr>
          <p:spPr>
            <a:xfrm flipV="1">
              <a:off x="938880" y="4295880"/>
              <a:ext cx="6761520" cy="624240"/>
            </a:xfrm>
            <a:custGeom>
              <a:avLst/>
              <a:gdLst>
                <a:gd name="textAreaLeft" fmla="*/ 860760 w 6761520"/>
                <a:gd name="textAreaRight" fmla="*/ 5900760 w 6761520"/>
                <a:gd name="textAreaTop" fmla="*/ 79200 h 624240"/>
                <a:gd name="textAreaBottom" fmla="*/ 54504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Чтение книг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058"/>
            <p:cNvSpPr/>
            <p:nvPr/>
          </p:nvSpPr>
          <p:spPr>
            <a:xfrm flipV="1">
              <a:off x="375840" y="4920120"/>
              <a:ext cx="7888680" cy="624240"/>
            </a:xfrm>
            <a:custGeom>
              <a:avLst/>
              <a:gdLst>
                <a:gd name="textAreaLeft" fmla="*/ 952200 w 7888680"/>
                <a:gd name="textAreaRight" fmla="*/ 6936480 w 7888680"/>
                <a:gd name="textAreaTop" fmla="*/ 75240 h 624240"/>
                <a:gd name="textAreaBottom" fmla="*/ 54900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825"/>
                </a:spcBef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Соблюдение гигиены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20"/>
          <p:cNvSpPr/>
          <p:nvPr/>
        </p:nvSpPr>
        <p:spPr>
          <a:xfrm>
            <a:off x="1547640" y="5805360"/>
            <a:ext cx="626436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Герой  нашего времени     –    человек    без вредных привычек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0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Из сочинений…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70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Все привычки человек воспитывает в себе сам. Только вредные привычки легко пускают корни, а воспитание полезных привычек требует ежедневного труда и большой силы воли. Но зато полезные привычки сделают из своего хозяина человека!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С детства необходимо работать над собой, вырабатывать в себе полезные привычки, которые помогут добиться успеха, достичь целей в жизни, быть счастливым. Человек может стать рабом вредных привычек, если не воспитывать с детства уважение к самому себе»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Первую сигарету часто предлагают «хорошие друзья». И молодой человек поддается стадному чувству. Чтобы отстоять свое мнение нужно быть сильным духом и телом. А для этого надо вести здоровый образ жизни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135" name="Picture 4" descr="дети"/>
          <p:cNvPicPr/>
          <p:nvPr/>
        </p:nvPicPr>
        <p:blipFill>
          <a:blip r:embed="rId2"/>
          <a:stretch/>
        </p:blipFill>
        <p:spPr>
          <a:xfrm>
            <a:off x="6983280" y="1916280"/>
            <a:ext cx="21607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9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8000" y="333000"/>
            <a:ext cx="540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Легче преуспевать в жизни, чем быть неудачником.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Легче быть счастливым, чем несчастным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Легче любить, чем ненавидеть.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Нужно лишь приложить усилия и жить, любить, работать, творить здоровое тело и здоровый дух, сохранять хорошее состояние мыслей и души.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137" name="Picture 4" descr="834050"/>
          <p:cNvPicPr/>
          <p:nvPr/>
        </p:nvPicPr>
        <p:blipFill>
          <a:blip r:embed="rId2"/>
          <a:stretch/>
        </p:blipFill>
        <p:spPr>
          <a:xfrm>
            <a:off x="6877080" y="3500280"/>
            <a:ext cx="2095560" cy="3141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00020806"/>
          <p:cNvPicPr/>
          <p:nvPr/>
        </p:nvPicPr>
        <p:blipFill>
          <a:blip r:embed="rId3"/>
          <a:stretch/>
        </p:blipFill>
        <p:spPr>
          <a:xfrm>
            <a:off x="3564000" y="2276640"/>
            <a:ext cx="2952720" cy="232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Biz-1"/>
          <p:cNvPicPr/>
          <p:nvPr/>
        </p:nvPicPr>
        <p:blipFill>
          <a:blip r:embed="rId4"/>
          <a:stretch/>
        </p:blipFill>
        <p:spPr>
          <a:xfrm>
            <a:off x="179280" y="2276640"/>
            <a:ext cx="3240360" cy="2260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J0316850"/>
          <p:cNvPicPr/>
          <p:nvPr/>
        </p:nvPicPr>
        <p:blipFill>
          <a:blip r:embed="rId5"/>
          <a:stretch/>
        </p:blipFill>
        <p:spPr>
          <a:xfrm>
            <a:off x="6804000" y="189000"/>
            <a:ext cx="2152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P9170001"/>
          <p:cNvPicPr/>
          <p:nvPr/>
        </p:nvPicPr>
        <p:blipFill>
          <a:blip r:embed="rId2"/>
          <a:stretch/>
        </p:blipFill>
        <p:spPr>
          <a:xfrm>
            <a:off x="108000" y="115920"/>
            <a:ext cx="4968720" cy="3719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P9170005"/>
          <p:cNvPicPr/>
          <p:nvPr/>
        </p:nvPicPr>
        <p:blipFill>
          <a:blip r:embed="rId3"/>
          <a:stretch/>
        </p:blipFill>
        <p:spPr>
          <a:xfrm>
            <a:off x="3635280" y="2708280"/>
            <a:ext cx="537696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P9170003"/>
          <p:cNvPicPr/>
          <p:nvPr/>
        </p:nvPicPr>
        <p:blipFill>
          <a:blip r:embed="rId2"/>
          <a:stretch/>
        </p:blipFill>
        <p:spPr>
          <a:xfrm>
            <a:off x="179280" y="189000"/>
            <a:ext cx="5077080" cy="3798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P9170011"/>
          <p:cNvPicPr/>
          <p:nvPr/>
        </p:nvPicPr>
        <p:blipFill>
          <a:blip r:embed="rId3"/>
          <a:srcRect l="0" t="12489" r="0" b="0"/>
          <a:stretch/>
        </p:blipFill>
        <p:spPr>
          <a:xfrm>
            <a:off x="3348000" y="2997360"/>
            <a:ext cx="55450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P9170012"/>
          <p:cNvPicPr/>
          <p:nvPr/>
        </p:nvPicPr>
        <p:blipFill>
          <a:blip r:embed="rId2"/>
          <a:srcRect l="6019" t="25500" r="0" b="0"/>
          <a:stretch/>
        </p:blipFill>
        <p:spPr>
          <a:xfrm>
            <a:off x="0" y="189000"/>
            <a:ext cx="5904000" cy="3603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P9170007"/>
          <p:cNvPicPr/>
          <p:nvPr/>
        </p:nvPicPr>
        <p:blipFill>
          <a:blip r:embed="rId3"/>
          <a:srcRect l="0" t="22678" r="0" b="0"/>
          <a:stretch/>
        </p:blipFill>
        <p:spPr>
          <a:xfrm>
            <a:off x="3203640" y="3213000"/>
            <a:ext cx="5616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Коллективный договор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Мы, учащиеся 6 «Б» класса, принимаем ответственное решение носить почетное звание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Comic Sans MS"/>
              </a:rPr>
              <a:t>«Некурящий класс»</a:t>
            </a:r>
            <a:r>
              <a:rPr b="1" lang="ru-RU" sz="40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и обязуемся не нарушать данный договор.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Мы хотим, чтобы у нас были здоровые дети, а здоровые дети могут быть только у здоровых родителей!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Мы хотим быть здоровыми, успешными и счастливыми!!!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omic Sans MS"/>
              </a:rPr>
              <a:t>Царство вредных привычек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9" name="Picture 12" descr="AMPOWER"/>
          <p:cNvPicPr/>
          <p:nvPr/>
        </p:nvPicPr>
        <p:blipFill>
          <a:blip r:embed="rId1"/>
          <a:stretch/>
        </p:blipFill>
        <p:spPr>
          <a:xfrm>
            <a:off x="250920" y="1557360"/>
            <a:ext cx="1811160" cy="1379520"/>
          </a:xfrm>
          <a:prstGeom prst="rect">
            <a:avLst/>
          </a:prstGeom>
          <a:ln w="0">
            <a:noFill/>
          </a:ln>
        </p:spPr>
      </p:pic>
      <p:grpSp>
        <p:nvGrpSpPr>
          <p:cNvPr id="50" name="Diagram 5"/>
          <p:cNvGrpSpPr/>
          <p:nvPr/>
        </p:nvGrpSpPr>
        <p:grpSpPr>
          <a:xfrm>
            <a:off x="539640" y="1588680"/>
            <a:ext cx="8278200" cy="4551120"/>
            <a:chOff x="539640" y="1588680"/>
            <a:chExt cx="8278200" cy="4551120"/>
          </a:xfrm>
        </p:grpSpPr>
        <p:sp>
          <p:nvSpPr>
            <p:cNvPr id="51" name="_s1028"/>
            <p:cNvSpPr/>
            <p:nvPr/>
          </p:nvSpPr>
          <p:spPr>
            <a:xfrm flipV="1">
              <a:off x="3848040" y="1588680"/>
              <a:ext cx="1663200" cy="907200"/>
            </a:xfrm>
            <a:custGeom>
              <a:avLst/>
              <a:gdLst>
                <a:gd name="textAreaLeft" fmla="*/ 596520 w 1663200"/>
                <a:gd name="textAreaRight" fmla="*/ 1066680 w 1663200"/>
                <a:gd name="textAreaTop" fmla="*/ 325440 h 907200"/>
                <a:gd name="textAreaBottom" fmla="*/ 581760 h 90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сквернословие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29"/>
            <p:cNvSpPr/>
            <p:nvPr/>
          </p:nvSpPr>
          <p:spPr>
            <a:xfrm flipV="1">
              <a:off x="3021120" y="2495880"/>
              <a:ext cx="3317400" cy="914400"/>
            </a:xfrm>
            <a:custGeom>
              <a:avLst/>
              <a:gdLst>
                <a:gd name="textAreaLeft" fmla="*/ 729360 w 3317400"/>
                <a:gd name="textAreaRight" fmla="*/ 2588040 w 3317400"/>
                <a:gd name="textAreaTop" fmla="*/ 200880 h 914400"/>
                <a:gd name="textAreaBottom" fmla="*/ 713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990000"/>
                  </a:solidFill>
                  <a:latin typeface="Comic Sans MS"/>
                </a:rPr>
                <a:t>игромания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0"/>
            <p:cNvSpPr/>
            <p:nvPr/>
          </p:nvSpPr>
          <p:spPr>
            <a:xfrm flipV="1">
              <a:off x="2193840" y="3410640"/>
              <a:ext cx="4969440" cy="907200"/>
            </a:xfrm>
            <a:custGeom>
              <a:avLst/>
              <a:gdLst>
                <a:gd name="textAreaLeft" fmla="*/ 862560 w 4969440"/>
                <a:gd name="textAreaRight" fmla="*/ 4106880 w 4969440"/>
                <a:gd name="textAreaTop" fmla="*/ 157320 h 907200"/>
                <a:gd name="textAreaBottom" fmla="*/ 749880 h 90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наркомания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1"/>
            <p:cNvSpPr/>
            <p:nvPr/>
          </p:nvSpPr>
          <p:spPr>
            <a:xfrm flipV="1">
              <a:off x="1366560" y="4317840"/>
              <a:ext cx="6624000" cy="912960"/>
            </a:xfrm>
            <a:custGeom>
              <a:avLst/>
              <a:gdLst>
                <a:gd name="textAreaLeft" fmla="*/ 996480 w 6624000"/>
                <a:gd name="textAreaRight" fmla="*/ 5627520 w 6624000"/>
                <a:gd name="textAreaTop" fmla="*/ 137160 h 912960"/>
                <a:gd name="textAreaBottom" fmla="*/ 775800 h 91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пьянство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2"/>
            <p:cNvSpPr/>
            <p:nvPr/>
          </p:nvSpPr>
          <p:spPr>
            <a:xfrm flipV="1">
              <a:off x="539640" y="5230800"/>
              <a:ext cx="8278200" cy="908640"/>
            </a:xfrm>
            <a:custGeom>
              <a:avLst/>
              <a:gdLst>
                <a:gd name="textAreaLeft" fmla="*/ 1130400 w 8278200"/>
                <a:gd name="textAreaRight" fmla="*/ 7147800 w 8278200"/>
                <a:gd name="textAreaTop" fmla="*/ 123840 h 908640"/>
                <a:gd name="textAreaBottom" fmla="*/ 784800 h 90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курение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" name="Object 14"/>
          <p:cNvGraphicFramePr/>
          <p:nvPr/>
        </p:nvGraphicFramePr>
        <p:xfrm>
          <a:off x="7093080" y="1197000"/>
          <a:ext cx="1904760" cy="22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93080" y="1197000"/>
                    <a:ext cx="19047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59" name="Object 8"/>
          <p:cNvGraphicFramePr/>
          <p:nvPr/>
        </p:nvGraphicFramePr>
        <p:xfrm>
          <a:off x="457200" y="1125360"/>
          <a:ext cx="4038480" cy="26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40384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9"/>
          <p:cNvGraphicFramePr/>
          <p:nvPr/>
        </p:nvGraphicFramePr>
        <p:xfrm>
          <a:off x="4648320" y="1185840"/>
          <a:ext cx="4038480" cy="253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185840"/>
                    <a:ext cx="40384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3"/>
          <p:cNvGraphicFramePr/>
          <p:nvPr/>
        </p:nvGraphicFramePr>
        <p:xfrm>
          <a:off x="468360" y="3789360"/>
          <a:ext cx="4038480" cy="26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3789360"/>
                    <a:ext cx="40384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1979640" y="1159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omic Sans MS"/>
              </a:rPr>
              <a:t>Результаты анкетир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AG00007_"/>
          <p:cNvPicPr/>
          <p:nvPr/>
        </p:nvPicPr>
        <p:blipFill>
          <a:blip r:embed="rId7"/>
          <a:stretch/>
        </p:blipFill>
        <p:spPr>
          <a:xfrm>
            <a:off x="5724360" y="4149720"/>
            <a:ext cx="17416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Вредные привычки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Чтобы казаться старше и современным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з любопытства 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За компанию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Лекарство от скуки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Успокоить нервы и снять напряжение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Будешь миллионером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484280"/>
            <a:ext cx="40384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Это не модно и не интеллигентно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Ухудшает внешность (вянет кожа, желтеют зубы, сипнет голос)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Укорачивает жизнь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Добавляет болезни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Отравляет организм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Мешает работе и бизнесу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Отравляет некурящих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Причина пожаров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619280" y="765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«За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651640" y="765000"/>
            <a:ext cx="19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«Против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j0254449"/>
          <p:cNvPicPr/>
          <p:nvPr/>
        </p:nvPicPr>
        <p:blipFill>
          <a:blip r:embed="rId1"/>
          <a:stretch/>
        </p:blipFill>
        <p:spPr>
          <a:xfrm>
            <a:off x="684360" y="4941720"/>
            <a:ext cx="1871640" cy="147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4"/>
          <p:cNvPicPr/>
          <p:nvPr/>
        </p:nvPicPr>
        <p:blipFill>
          <a:blip r:embed="rId2"/>
          <a:stretch/>
        </p:blipFill>
        <p:spPr>
          <a:xfrm>
            <a:off x="3492360" y="4941720"/>
            <a:ext cx="2303640" cy="15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007"/>
          <p:cNvPicPr/>
          <p:nvPr/>
        </p:nvPicPr>
        <p:blipFill>
          <a:blip r:embed="rId3"/>
          <a:stretch/>
        </p:blipFill>
        <p:spPr>
          <a:xfrm>
            <a:off x="6443640" y="4797360"/>
            <a:ext cx="237492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Сравнительные результаты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765000"/>
          <a:ext cx="8229600" cy="5759640"/>
        </p:xfrm>
        <a:graphic>
          <a:graphicData uri="http://schemas.openxmlformats.org/drawingml/2006/table">
            <a:tbl>
              <a:tblPr/>
              <a:tblGrid>
                <a:gridCol w="3898800"/>
                <a:gridCol w="2160720"/>
                <a:gridCol w="217008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аталог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Курящие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Некурящие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Нерв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4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онижение слух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3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ая памя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ое физическое состоя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ое умственное состоя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8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Нечистоплотн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ие отметк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8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Медленно соображаю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9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9" name="Text Box 64"/>
          <p:cNvSpPr/>
          <p:nvPr/>
        </p:nvSpPr>
        <p:spPr>
          <a:xfrm>
            <a:off x="395280" y="573408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Из сочинений…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В среднем, курящие люди живут на 6-8 лет меньше, чем некурящие. Так следует ли за такое сомнительное удовольствие платить такую дорогую цену?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Кто чаще курит? Те, кто не слишком уверен в себе или не так способен, не так стабилен психически!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уществует множество способов бросить курить. Одни курильщики сами справляются с этой задачей, другим нужна помощь. Но самое лучшее</a:t>
            </a: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 – никогда не начинать курить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Чем раньше подросток начинает курить, тем опаснее для него воздействие ядов табачного дыма. Он  хуже развивается, медленнее растет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Вместе с табачным дымом улетучивается женственность, красота, организм быстро увядает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Курить – здоровью вредить!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0920" y="5084280"/>
            <a:ext cx="74991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И о какой же привлекательности девушки можно говорить, если изо рта источается запах табачного перегара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84" name="Picture 6" descr="00019478"/>
          <p:cNvPicPr/>
          <p:nvPr/>
        </p:nvPicPr>
        <p:blipFill>
          <a:blip r:embed="rId1"/>
          <a:srcRect l="13752" t="0" r="5196" b="0"/>
          <a:stretch/>
        </p:blipFill>
        <p:spPr>
          <a:xfrm>
            <a:off x="539640" y="1484280"/>
            <a:ext cx="3384720" cy="3171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5796000" y="1628640"/>
            <a:ext cx="2263680" cy="30974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2"/>
          <p:cNvSpPr/>
          <p:nvPr/>
        </p:nvSpPr>
        <p:spPr>
          <a:xfrm>
            <a:off x="4211640" y="3068640"/>
            <a:ext cx="1366920" cy="504720"/>
          </a:xfrm>
          <a:prstGeom prst="rightArrow">
            <a:avLst>
              <a:gd name="adj1" fmla="val 50000"/>
              <a:gd name="adj2" fmla="val 677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SMOKIN~122"/>
          <p:cNvPicPr/>
          <p:nvPr/>
        </p:nvPicPr>
        <p:blipFill>
          <a:blip r:embed="rId1"/>
          <a:stretch/>
        </p:blipFill>
        <p:spPr>
          <a:xfrm>
            <a:off x="250920" y="1268280"/>
            <a:ext cx="2992320" cy="3154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058160" cy="10080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Истинная причина курения – это наркотическая зависимость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89" name="Picture 7" descr="00036558"/>
          <p:cNvPicPr/>
          <p:nvPr/>
        </p:nvPicPr>
        <p:blipFill>
          <a:blip r:embed="rId2"/>
          <a:stretch/>
        </p:blipFill>
        <p:spPr>
          <a:xfrm>
            <a:off x="2843280" y="2349360"/>
            <a:ext cx="3687840" cy="2946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584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3"/>
          <p:cNvSpPr/>
          <p:nvPr/>
        </p:nvSpPr>
        <p:spPr>
          <a:xfrm>
            <a:off x="324000" y="537372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Человек часто сам себе злейший враг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Цицеро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Органы-мишени поражения табачным дымом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(или что ждет того, кто курит) </a:t>
            </a:r>
            <a:endParaRPr b="1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93" name="Picture 7" descr="anatomiya"/>
          <p:cNvPicPr/>
          <p:nvPr/>
        </p:nvPicPr>
        <p:blipFill>
          <a:blip r:embed="rId1"/>
          <a:stretch/>
        </p:blipFill>
        <p:spPr>
          <a:xfrm>
            <a:off x="900000" y="958680"/>
            <a:ext cx="763272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17:50Z</dcterms:created>
  <dc:creator>1</dc:creator>
  <dc:description/>
  <dc:language>en-US</dc:language>
  <cp:lastModifiedBy>LEGION</cp:lastModifiedBy>
  <dcterms:modified xsi:type="dcterms:W3CDTF">2015-05-12T08:35:37Z</dcterms:modified>
  <cp:revision>47</cp:revision>
  <dc:subject/>
  <dc:title> </dc:title>
</cp:coreProperties>
</file>