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8095-69D9-4F3A-B9AE-34D73C7122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ческое занятие № 1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492-B17E-425E-97A1-060EBA016A7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клинической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можно определить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7BAF-6B31-400B-9956-38A467C1F46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становить проходимость дыхательных пу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чать искусственную вентиляцию легк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ступить к массажу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0822-64E8-4246-A96F-EEBF93BBD86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ми такой сердечно-легочной реанимации являются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хника восстановления проходимости дыхательных пут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актика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23AE-C367-4AE2-BE14-ADF109809C2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оретическая подготов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можно приступать к искусственному дыханию методом «рот в рот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1B19-DA47-4714-8679-AD5287534FF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осовой платок наложить на открытый р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жать нос пострадавш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9DFD-01D4-4FC5-AE9B-3C19C1AB9DE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E2E5-C6AB-4794-AA56-BC8C97BE651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львест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ий лежит на спине, а  спасатель у его изгол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FB34-CC77-4712-80C6-04DFECB828B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5EB-B740-4F70-A57B-E8DF0231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BFB-6821-4A46-A955-8D65066F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317-C7E8-4F52-A6FE-95047C8D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F3C-CF42-4A0A-8845-5E7A11E6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0A2E-4333-45BE-B3E2-8F03C5F1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DF46-EF7B-4A28-9E8C-053992E8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9A36-40A5-4414-ADE9-DE17BDE8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A582-B2C7-4F74-9EE3-C433DA33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699D-03ED-42B3-82E8-087D669A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87B3-D396-4BA7-B763-286D9223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5CD8-7352-4272-8F63-B599ECB4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061-BC32-4F0E-8399-C3001356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6850-6005-4E67-BAC0-38F047D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DBB8-612B-4BF9-8177-1FFF805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904B-BF5C-4F78-A60C-0CBD1757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5B24-6F2A-4C80-9137-ACA7E4A0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A0F7-B16F-47B4-A6B4-A779BB31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E5B-7B98-486F-A0D7-734325D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612-5E1C-4A2A-9CAD-58246B9B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684-5758-42DD-9DC5-F1AA4014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325-592C-4563-97B3-8254C3F3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AA1-B2E4-4C0A-B283-7C10F81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5D1-6110-4DFC-AE35-A3AE4048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FA4-DF0D-451F-8851-BA975C1E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546E-9B54-4E65-9803-F7BAD40CDC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E204-C35E-47FF-9395-F10453524F2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1121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рактическое занятие № 10.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ка д/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ть определение клинической смер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ких случаях можно определить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5000"/>
            <a:ext cx="7386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осстановить проходимость дыхательных путе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начать искусственную вентиляцию легки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приступить к массажу сердц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чами такой сердечно-легочной реанимации являются -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рок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техника восстановления проходимости дыхательных путей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 практика искусственное дыхание методом «рот в рот», «рот в нос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оретическая подгото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е этого можно приступать к искусственному дыханию методом «рот в рот»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носовой платок наложить на открытый рот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зажать нос пострадавшег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Сильвестр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радавший лежит на спине, а  спасатель у его изголов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40:57Z</dcterms:created>
  <dc:creator>Лена</dc:creator>
  <dc:description/>
  <dc:language>en-US</dc:language>
  <cp:lastModifiedBy>LEGION</cp:lastModifiedBy>
  <dcterms:modified xsi:type="dcterms:W3CDTF">2015-05-12T08:35:55Z</dcterms:modified>
  <cp:revision>8</cp:revision>
  <dc:subject/>
  <dc:title>Мероприятия при проведении искусственной вентиляции легких. Искусственное дыхание «рот в рот».</dc:title>
</cp:coreProperties>
</file>