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F70F-2489-4809-B37C-D9A14474B0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чему человек без вредных привычек является человеком будущег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и обучающиеся МОУ «Ополь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ковлева Ксения 11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знецова Екатерина 11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AF4C-0278-4A44-8D5D-A82B85A661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 ли ты отказаться от вредных привы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E880-CE7F-49E6-A3E3-95DDFECD34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е ли вы, что человек без вредных привычек-человек будущ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FCF0-3BF3-4A43-A9AA-BA9D2DADFB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 Ы   В   О   Д   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не будет курить, то он продлит себе жиз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 опрашиваемых  людей согласны отказаться от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AAC3-CFBF-4D7C-B6D1-77B8189AB5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CAC8-EEB0-4709-9A30-68884FFE13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м хорошо известно, что к вредным привычкам мы относи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оказать предположение, что человек без вредных привычек- человек будущ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2EEB-E730-411E-A425-CE8F88BDAA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и нашей группы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влияние вредных привычек на организм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39E4-C7A0-4127-8578-A55482CBE0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 И  П  О  Т  Е  З 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откажется от вредных привычек, то он будет являться человеком будущег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0D52-E9B4-49D0-B722-97152B09B3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C23D-7BD5-4A9F-9B2A-D0558F0937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9F52-67C0-439B-A0CC-435E909933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01D8-C52C-4EAC-BF21-5E4912F230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8AFA-85D8-4B82-8AE1-8B0E497BC8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вас какая-либо вредная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52CB-D23B-4E32-9F05-9051FDDFB1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F2C-9EE7-4C7A-8786-455A5BB4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AA7-4CBA-422D-85EC-23C17342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769-20B0-42D7-9F3D-8188A4FF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41E-9FDC-438A-B88F-131364CB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E5463-04FB-42E5-8706-490EDE53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DF352-AA97-4F48-9785-681B17D7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A67B8-4C46-4425-AF02-A2D96BBD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02484-447D-430E-BB4A-F4CB978F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D16E0-5BC6-42E1-AC59-DA564D0B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241F7-777C-4197-BF97-E080055D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1A944-DC77-430A-B90D-4B34C299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796-D5AF-4BC6-A904-386599DC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36377-A7D5-4812-AB99-690E9CA7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FD7B7-08CB-4568-97C5-F3518E4C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493E2-2A79-4CB3-B77E-9104AFE6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B3090-B128-408F-9E22-05B4017E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E198B-A38A-42E7-8567-F0CEFC81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524-F133-4109-A0E6-2A90934F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D10-C5D0-4112-B716-D31AE177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A30-8821-4C15-B1EF-34608C5B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B3E-C670-4E28-9B8F-1D376614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7C4-0EA1-4446-BECD-8D529D13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B69-1E37-4069-A461-1E1601A5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965-85D0-49C4-B614-95463E9B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CAD8-FBDB-4BA3-A20E-6BC7D1C77F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829B-9D2C-4F24-861A-9394EAD9D5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Почему человек без вредных привычек является человеком будущего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езентацию выполнили обучающиеся МОУ «Опольевская СОШ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ковлева Ксения 11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знецова Екатерина 11 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9" name="Object 7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тов ли ты отказаться от вредных привыч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читаете ли вы, что человек без вредных привычек-человек будущего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460440" y="2060640"/>
          <a:ext cx="8223120" cy="40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060640"/>
                    <a:ext cx="822312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   Ы   В   О   Д   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человек не будет курить, то он продлит себе жизн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инство  опрашиваемых  людей согласны отказаться от вредных привы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500720" y="5378400"/>
            <a:ext cx="412560" cy="1479600"/>
          </a:xfrm>
          <a:prstGeom prst="downArrow">
            <a:avLst>
              <a:gd name="adj1" fmla="val 50000"/>
              <a:gd name="adj2" fmla="val 8966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3851280" y="836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сем хорошо известно, что к вредным привычкам мы относим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лког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доказать предположение, что человек без вредных привычек- человек будуще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чи нашей группы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овать влияние вредных привычек на организм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  И  П  О  Т  Е  З  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человек откажется от вредных привычек, то он будет являться человеком будущег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ы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тически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ительны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ологический 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налитический метод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циологический опр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ли у вас какая-либо вредная привыч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932360" y="1628640"/>
          <a:ext cx="3456000" cy="35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628640"/>
                    <a:ext cx="345600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3:39:33Z</dcterms:created>
  <dc:creator>Admin</dc:creator>
  <dc:description/>
  <dc:language>en-US</dc:language>
  <cp:lastModifiedBy>LEGION</cp:lastModifiedBy>
  <dcterms:modified xsi:type="dcterms:W3CDTF">2015-05-12T08:36:21Z</dcterms:modified>
  <cp:revision>5</cp:revision>
  <dc:subject/>
  <dc:title>Слайд 1</dc:title>
</cp:coreProperties>
</file>