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media/image8.png" ContentType="image/png"/>
  <Override PartName="/ppt/media/image5.gif" ContentType="image/gif"/>
  <Override PartName="/ppt/media/image6.wmf" ContentType="image/x-wmf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77072-9BC8-4BAC-A8A3-16CDAEF279D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000099"/>
                </a:solidFill>
                <a:latin typeface="Georgia"/>
              </a:rPr>
              <a:t>ВРЕДНЫЕ ПРИВЫЧ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7ACE6-77AA-44A4-ABE0-0113891F529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cc3300"/>
                </a:solidFill>
                <a:latin typeface="Calibri"/>
              </a:rPr>
              <a:t>Рекомендации родителям  по раннему выявлению вредных привычек у подростков.</a:t>
            </a:r>
            <a:br>
              <a:rPr sz="1100"/>
            </a:br>
            <a:r>
              <a:rPr b="1" lang="ru-RU" sz="1100" spc="-1" strike="noStrike">
                <a:solidFill>
                  <a:srgbClr val="cc3300"/>
                </a:solidFill>
                <a:latin typeface="Calibri"/>
              </a:rPr>
              <a:t>  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cc6600"/>
                </a:solidFill>
                <a:latin typeface="Calibri"/>
              </a:rPr>
              <a:t>Важнейшая задача родителей - это постоянный контроль за состоянием ребен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33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996633"/>
                </a:solidFill>
                <a:latin typeface="Calibri"/>
              </a:rPr>
              <a:t>Необходимо обязательно обращать внимание на то, в каком состоянии он пришел домой, сравнивая с состоянием, в котором он вышел из дома. Это позволяет вовремя выявить случаи, когда ребенок впервые закурил, принял алкоголь или наркот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03EAB-E021-4171-903B-530D97A931C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сли ты любишь себя и ценишь свое здоровье, ты скажешь «нет» всему, что может принести тебе вре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F16F4-5B19-4B34-B2B3-B9EDBB81F7B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Calibri"/>
              </a:rPr>
              <a:t>Вредные привычки</a:t>
            </a: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 - </a:t>
            </a: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навязчивые действия, которые отрицательно сказываются 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поведении ребенка, его физическом и психическом развитии. Говоря о вредных привычках у детей, взрослые в первую очередь имеют в виду курение, алкоголь. Однако ими круг вредных привычек не исчерпывается. В поведении некоторых детей встречаются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навязчивые действия</a:t>
            </a: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, которые ребенок осуществляет неосознанно, </a:t>
            </a: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"по привычке</a:t>
            </a: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", и которые производят довольно неприятное внешнее впечатление. Это привычка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99"/>
                </a:solidFill>
                <a:uFillTx/>
                <a:latin typeface="Calibri"/>
              </a:rPr>
              <a:t>теребить волосы или мочку уха, сутулиться, шаркать ногами при ходьбе, ерзать на стуле, слишком жестикулировать, хватать собеседника за рукав или за пуговицу, поминутно отплевываться, ковырять в носу, употреблять слова-паразиты</a:t>
            </a: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 {"ну", "вот", "значит", "короче"} и т.п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Все они могут наблюдаться у одного ребен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098FD-FF77-446D-8E1E-0680EC388DF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ff"/>
                </a:solidFill>
                <a:latin typeface="Calibri"/>
              </a:rPr>
              <a:t>Причина их возникновения проста - недостаточное внимание со стороны родителей к поведению ребенка, и для устранения этих привычек, нужно увлекать ребенка интересными занятиями, общаться с ним, помогать ему изжить те глубинные внутренние переживания, которые породили неприятные действ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ff"/>
                </a:solidFill>
                <a:latin typeface="Calibri"/>
              </a:rPr>
              <a:t>Борьба с вредной привычкой – это всегда борьба с тревожностью, неуверенностью, пессимизм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ff"/>
                </a:solidFill>
                <a:latin typeface="Calibri"/>
              </a:rPr>
              <a:t>Предупреждение таких привычек не требует особых психологических рекоменд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Рецепт здесь один - привитие ребенку полезных навыков: опрятности, аккуратности, организованности, соблюдения элементарных правил этикета.</a:t>
            </a: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4D7BC-8687-4678-AA8D-CADD19134F1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Среди вредных привычек особую озабоченность родителей вызывает </a:t>
            </a: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курение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, получившее в последние годы широкое распространение среди школьников. Курение - одна из многих проблем подросткового возрас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Школьные годы - это годы роста как физического, психического, так и умственного. Организму нужно много сил, чтобы справиться со всеми нагрузками. Как известно, навыки, привычки, усвоенные в школьном возрасте, самые прочные. Это относиться не только к полезным, но и к вредным привычкам. Чем раньше дети, подростки, юноши, девушки познакомятся с курением и начнут курить, тем быстрее привыкнут к нему, и в дальнейшем отказаться от курения будет очень труд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B6C0C-F7BC-4369-8ED1-C4D428A1B7E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66"/>
                </a:solidFill>
                <a:latin typeface="Calibri"/>
              </a:rPr>
              <a:t>По статистике…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Опросы, проведенные НИИ гигиены детей и подростков показали, что пик интереса у детей  к курению отмечается в 9 и в 12-13 лет. Тогда они только пробую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К 15 годам курят 24% подрост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09B35-24EB-473E-AE44-D446ADC6DCF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9900"/>
                </a:solidFill>
                <a:latin typeface="Calibri"/>
              </a:rPr>
              <a:t>Результаты теста </a:t>
            </a:r>
            <a:br>
              <a:rPr sz="1400"/>
            </a:br>
            <a:r>
              <a:rPr b="0" lang="ru-RU" sz="1400" spc="-1" strike="noStrike">
                <a:solidFill>
                  <a:srgbClr val="009900"/>
                </a:solidFill>
                <a:latin typeface="Calibri"/>
              </a:rPr>
              <a:t>«Твой отношение к курению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99ff"/>
                </a:solidFill>
                <a:latin typeface="Calibri"/>
              </a:rPr>
              <a:t>37% - у этих детей нет предрасположенности к курению, сам процесс курения они не одобряю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Calibri"/>
              </a:rPr>
              <a:t>34% - эти дети не выработали собственного отношения к курению, могут приобщиться к нему при случае</a:t>
            </a: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29% - подростки хорошо относятся к курению, уже и приобщились к не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F9B6E-15AC-4B06-92BA-EF44576B923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Курение и школьник - несовместим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урение подростков, в первую очередь, сказывается на нервной и сердечной - сосудистой системах. В 12-15 лет они уже жалуются на отдышку при физической нагрузке. В результате многолетних наблюдений французский доктор еще 100 лет назад пришел к убеждению, что даже незначительное курение вызывает у детей малокровие, расстройство пищевар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урение отрицательно влияет на успеваемость школьника. Число неуспевающих возрастает в тех классах, где больше курящи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урение школьников замедляет их физическое и психическое развитие. Состояние здоровья, подорванное курением, не позволяет выбрать род занятий по душе, добиться успеха.</a:t>
            </a: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DC621-B0CB-46B5-8BD5-C6062752108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1" lang="ru-RU" sz="1000" spc="-1" strike="noStrike">
                <a:solidFill>
                  <a:srgbClr val="6600ff"/>
                </a:solidFill>
                <a:latin typeface="Calibri"/>
              </a:rPr>
              <a:t>Начальные классы:</a:t>
            </a:r>
            <a:br>
              <a:rPr sz="1000"/>
            </a:b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беседы</a:t>
            </a: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 по правилам личной гигиены;</a:t>
            </a:r>
            <a:br>
              <a:rPr sz="1200"/>
            </a:b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уроки «Мойдодыра»</a:t>
            </a:r>
            <a:br>
              <a:rPr sz="1200"/>
            </a:b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лекции:</a:t>
            </a: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 «Курение и алкоголь вредит нашему здоровью»</a:t>
            </a:r>
            <a:br>
              <a:rPr sz="1200"/>
            </a:b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«Наш внешний вид»</a:t>
            </a:r>
            <a:br>
              <a:rPr sz="1200"/>
            </a:b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«Чистые руки – залог здоровья»</a:t>
            </a:r>
            <a:br>
              <a:rPr sz="1200"/>
            </a:b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Классные часы:</a:t>
            </a: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 «Твой режим дня»</a:t>
            </a:r>
            <a:br>
              <a:rPr sz="1200"/>
            </a:b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«Что такое хорошо, что такое плохо»</a:t>
            </a:r>
            <a:br>
              <a:rPr sz="1200"/>
            </a:b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«Почему нельзя давать друг другу клички»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73880-F914-4F23-8C61-81C1544ED17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ff"/>
                </a:solidFill>
                <a:latin typeface="Calibri"/>
              </a:rPr>
              <a:t>Классные часы, беседы, тренинги, лекции на темы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«Что заставляет подростков пробовать курить?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«Пьянство и алкоголизм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«Твоё здоровье – богатство страны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«Культура и правила поведен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«Умеем ли мы общаться»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7F380-F4A8-4962-AEDA-147083F5CEB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8BF5-B6F9-4D82-AF0D-EEB8E0CE4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6E99-C486-4A30-9CE9-36881B00E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219BAC-82AC-48EA-9AFA-CDB2C8208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B1A558-2C0B-49CF-A904-B5F1F3075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A46EEE-0D7F-4EC6-B97D-1DC18E70B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BB2430-105A-4B1E-B3AA-68E61653C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661296-846E-4BE8-BC89-48E624039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4E9614-31DB-4822-A29C-B30778B8B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D902F5-84AC-4BB0-88AF-5E5E86058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A8DF5F-6A0B-4560-8DAC-052D074DB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7A586C-F719-4EF9-9A98-BCF1443A1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9CCF3D-4F12-4AB1-96D5-2951E5DE8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799A-866C-4B69-8ACC-AA2AEFBB4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F441A5-B535-4A09-9FD1-BC870FEA7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BC7696-A45B-4BAD-B7A0-B3B97F765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1DCA24-5B79-4D60-BF46-97879487F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BA9423-A27B-40EE-975B-B108E70D0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D2623B-83B6-4EB0-8A2A-E95EC430F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5A9B5E-5B92-4A0C-BC4C-120F1961B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A5E3F8-1C09-44E1-943F-1CC05BF8A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C186FC-5730-49F2-8471-C444553D8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D495AC-4349-4101-B925-0A4F2286F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9E0434-CD7F-4467-A2C3-EE156EE58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2B4B-596C-4AD7-9B26-85C2FDD38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AEDAC3-C344-44CC-8226-51D4FEECD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CF715D-0776-409C-8C8F-84AB9838F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68BE52-3478-43DC-8D98-5C1B8BA84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407C95-84EE-4EF8-886A-6A9B0F398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AC7FDE-25C0-41BD-96E0-F43CF0869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B12F23-9B27-4300-8384-03EB512B3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99B45C-1B03-4ED2-A182-CECD42652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E303C1-4B74-4BBD-8679-9A1B01F31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BC10BA-DDCD-4027-8FC4-E2BE2833E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6D6B35-64F7-4CB1-88FC-4FB4250FD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B9562-ACF2-49A3-83E3-0570C22C7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120A0E-DFDF-4EDD-86F6-E2274B3A7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A96264-7A96-494D-A981-8707083BA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1A299A-E908-46A6-A692-1BB9CB8E8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EECEDD-C9D8-4A6E-B13A-C2D3A13B4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77660F-5326-4EC6-AD28-8D78909AC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4D595C-6FF7-4280-98B2-309BE5D7F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EDB807-E3CF-483F-9E75-12C97947A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18ACA0-D0DF-4A25-B2B7-C649916F8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D7C06C-E17D-45A7-815C-93DD044D4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55F1A2-DE03-4A09-A625-0D331AE42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FF913-45E1-4BAF-92E3-185D01A63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7FE051-25A2-4B0E-9B62-A04BF2C9A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3C7C6E-E81F-4BCC-A25B-16EE5F95E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C310BA-AD8F-4EE1-8D2D-9832522FF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50CEBB-8572-4690-853B-FC843A1DE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D371AF-C9A1-47DD-9C7E-CB947DE22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039709-00E5-4421-87E3-735CDE357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04F2A7-8D9E-4416-9B3F-1BB396D80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3C2360-6AF2-4C71-92AF-0F6DF8638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1B0C4C-A1E5-4AC2-983F-02CDAAD7D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CC3E1A-B9B0-443A-BF67-265C185ED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C60B9-0CEC-4D3C-BCA6-C1FA3109C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2B9A33-9BC4-4EA8-9D71-9F7BB3661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790552-747C-425E-99D1-1EE3A1FD7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1B7199-49CD-4DF1-916D-4D6C275F4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93348F-C181-4B91-AE95-6653DCD0A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13C589-10EF-4EA7-87D1-B547CCABE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257C57-513E-48C3-AB2D-8A27F5BF4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50AAC8-18CD-466B-8B51-CDA48FAB5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74648-A376-4FDE-B965-10267AC69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62DDB-463F-437F-B679-C6955979B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8A1A6-4A6D-4C88-BFF0-C0CFF699A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50200-FEA9-469D-A99A-41190E7B2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986E-6EF3-4886-8E78-75BE8959E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3F006-5506-4A19-BE40-FCAE678D2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80257-3346-4DB7-9230-FFD726F95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3FA34-1239-4638-8141-984AD8383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29079-244C-40E2-80A2-7D362CDEB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C7568-5E7F-491B-987F-6869C1814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B67F3-495D-48DE-93ED-D64AA004A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82A86-B914-490C-BF1C-48D4D6BA3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A71F5-0F29-46AC-A1EA-E5205BD11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A78A0-3C2A-4327-823E-4F405ADFB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FCF81-562D-4328-9A3B-EED7CD14F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7020-8008-4753-B2A4-F296087AD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8D111-06B6-41AD-8215-A6BAACE36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E7237-7804-4F68-9722-28C89CB2D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2E627-CC08-45C8-A96B-65F7FF13E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5B58A-7E4E-4CDE-9368-D545F3D20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69D0A-3C7B-433E-B90E-73FB6F3C4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95BC5-CE3F-44DD-8C19-F55A9E179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A2658-CB32-4774-AEDC-075782732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05EFA-840D-4D77-A015-513677B03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D5441-9442-4A46-946C-F5120B0A9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CDCF4-3B32-4231-BD54-AFC9A51A1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D10D-BE15-48B1-8F9E-67B20F8B6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AB698-6006-4869-94C0-A84543F3E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145EB-23FF-44C2-A6D0-0BD269E00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35A9F-0B55-47E4-8433-FE11A8D4B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05FA6-D63C-4E73-B6C9-8480C43AD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17CE8-72AD-4E0D-89BE-79B6E22C7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A9766-0CA9-4F87-88C5-D3A415566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3F2A59-7CB8-4508-9AE0-E3925A961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96D19-5DF6-4E8A-B447-030AC6FC9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841FEA-1738-441D-AEC1-9B467C4B6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4CED4B-3BBC-4BB4-89BF-F81D58AE9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25A1-0095-4FBE-BBE8-253A7CE09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B6CB2B-BC2D-48A9-96A1-0FA0BD0E3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D899EF-FBBC-4729-AD8C-FCF1002B7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826DD4-A01D-4D31-A62A-08B851451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C275F5-F9AC-423E-A9C1-567CED020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42B542-9E1A-40C3-979A-549C5878E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17E6EA-1C18-4F24-8D3F-EF8BAB2BB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34A9A0-8F74-4FE8-A3E7-D9E589A40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EA8857-06B1-4D2E-94ED-928F395EE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45E33D-2737-4DC0-8C56-B4CDC559F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2B5544-3E4A-49E0-A542-E08C9223A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0519-B0A3-4328-BDCD-ACA989329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1DF99A-ABB9-42E8-B56E-BA011C96F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3117A4-A74B-424B-9405-5D4160469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1019E2-8BA8-49EF-8827-4AEDD4735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E1637B-B093-4F28-9A18-70BC8D28F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3A05A2-1ED2-4039-9881-6D8C8A41E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628404-22CE-4C1A-8FB2-B6A78876E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40D706-765B-4064-9FFF-BC691DC4A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D662AE-2AA3-4962-A599-1F79D9EE5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912D94-2A6B-4A70-BA4E-3CCB761CD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86B3EB-7D49-42E7-A29A-46781A73F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A5B3-24A5-4CD7-9323-B744F4B63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CB1191-FD70-4CFE-A6F5-AB8966D46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F0A71F-F20F-47A8-AA1C-58EFA2CDF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F6F3FF-15F2-4BE3-B7D5-9B5815C6B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7E2D67-1C58-475E-ADC2-2B3611C1A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193D02-4CA3-4376-A666-A5BD855F3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D3E4ED-906A-4140-985C-6247B154E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F5DE57-62B2-4C83-B587-9E336673F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EAD58F-F631-43C7-A969-A33AE789B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8BA788-B20B-4251-93A8-54C30FC43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3E4CCF-29DF-4106-AA07-D2CDC1F2E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DE93-0B24-4C9D-AFDD-A8EE92097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E4FED6-60BE-4FD0-8D66-C9575EF45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7AA51A-C593-4D7B-8C1D-3D03C850C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ECF235-E714-4650-A012-E07932D3F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0248D5-43E2-4E9D-8461-FDE2D771C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92DEAE-CF42-42E4-BF68-AD30D5FB9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BB4BA9-D82B-4560-AFB4-F9C451932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EA85F1-2D5E-4486-85A9-87BDD7878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490E2E-0895-4291-8414-CECF8FC7A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40B967-7428-4E80-817E-446D347E0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C292E9-FFD9-4E3D-8E73-7372309B7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2CE3-EECA-4AB7-9F57-99E3B13B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360774-B589-484C-8C81-E5218C619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1B1DD0-6403-478F-945B-E29CDCFE9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E89714-6C31-4D17-9681-3F372E6F5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C28615-83D1-446E-91C4-FCF0738CF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7D6183-E161-4726-B22A-D65A8B742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9C507E-AD33-4DFB-8C75-0DB56167D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846E5C-29DE-4E73-8A92-9DFC6FEB8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BFC041-CADD-4BB7-8328-798C26A0F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30F87F-EE70-4E80-AA54-7182C6300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D922D4-180C-4F66-831B-9F2C865A4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5A3CB-BD41-48B5-AE9F-D05629B2773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425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A2F2C-A6EE-4C07-84CB-0217ABE0D7F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472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31B22-23FD-4167-A9F5-7A69B1EBE78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8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519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7E170-1C4A-4EB2-B112-A08EA3D784A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566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0AFDD-66E6-4F5D-8F89-F346B751C9D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08B91-0CA4-4CEE-A4F4-09557336549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96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AE0AD-D85C-4D87-82B3-E4A63A438FA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43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2D7A4-4480-4303-B758-FD4E3F29AFA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90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3A37D-5692-41E8-8A82-981F7396BD5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237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15695-8A6C-4D83-88E9-4BDFDD40FF8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284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B524A-99EA-4AFA-96F1-B04A9B78061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33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4AD08-D479-45C9-9846-5EA85E5C2EF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378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7D994-882B-4849-9FC7-2EAE81708F8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WordArt 5"/>
          <p:cNvSpPr txBox="1"/>
          <p:nvPr/>
        </p:nvSpPr>
        <p:spPr>
          <a:xfrm>
            <a:off x="457200" y="228600"/>
            <a:ext cx="830592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000099"/>
                </a:solidFill>
                <a:latin typeface="Georgia"/>
              </a:rPr>
              <a:t>ВРЕДНЫЕ ПРИВЫЧКИ</a:t>
            </a:r>
            <a:endParaRPr b="1" i="1" lang="en-US" sz="4000" spc="1" strike="noStrike">
              <a:ln w="9360">
                <a:solidFill>
                  <a:srgbClr val="0066ff"/>
                </a:solidFill>
                <a:miter/>
              </a:ln>
              <a:solidFill>
                <a:srgbClr val="000099"/>
              </a:solidFill>
              <a:latin typeface="Georgia"/>
              <a:ea typeface="Georgia"/>
            </a:endParaRPr>
          </a:p>
        </p:txBody>
      </p:sp>
      <p:pic>
        <p:nvPicPr>
          <p:cNvPr id="620" name="Picture 11" descr="shkolniki_kurieniie"/>
          <p:cNvPicPr/>
          <p:nvPr/>
        </p:nvPicPr>
        <p:blipFill>
          <a:blip r:embed="rId1"/>
          <a:stretch/>
        </p:blipFill>
        <p:spPr>
          <a:xfrm>
            <a:off x="2895480" y="1981080"/>
            <a:ext cx="3505320" cy="259092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12" descr="о вредных привычках&#10;детей, советы детских психологов"/>
          <p:cNvPicPr/>
          <p:nvPr/>
        </p:nvPicPr>
        <p:blipFill>
          <a:blip r:embed="rId2"/>
          <a:stretch/>
        </p:blipFill>
        <p:spPr>
          <a:xfrm>
            <a:off x="152280" y="403848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13" descr="вредные привычки у детей"/>
          <p:cNvPicPr/>
          <p:nvPr/>
        </p:nvPicPr>
        <p:blipFill>
          <a:blip r:embed="rId3"/>
          <a:stretch/>
        </p:blipFill>
        <p:spPr>
          <a:xfrm>
            <a:off x="6324480" y="3886200"/>
            <a:ext cx="2708280" cy="2971800"/>
          </a:xfrm>
          <a:prstGeom prst="rect">
            <a:avLst/>
          </a:prstGeom>
          <a:ln w="0">
            <a:noFill/>
          </a:ln>
        </p:spPr>
      </p:pic>
      <p:sp>
        <p:nvSpPr>
          <p:cNvPr id="6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Рекомендации родителям  по раннему выявлению вредных привычек у подростков.</a:t>
            </a:r>
            <a:br>
              <a:rPr sz="2400"/>
            </a:b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 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cc6600"/>
                </a:solidFill>
                <a:latin typeface="Arial"/>
              </a:rPr>
              <a:t>Важнейшая задача родителей - это постоянный контроль за состоянием ребен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6633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996633"/>
                </a:solidFill>
                <a:latin typeface="Arial"/>
              </a:rPr>
              <a:t>Необходимо обязательно обращать внимание на то, в каком состоянии он пришел домой, сравнивая с состоянием, в котором он вышел из дома. Это позволяет вовремя выявить случаи, когда ребенок впервые закурил, принял алкоголь или наркот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Picture 4" descr="p223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ли ты любишь себя и ценишь свое здоровье, ты скажешь «нет» всему, что может принести тебе вр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7" name="Picture 8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6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9"/>
          <p:cNvSpPr/>
          <p:nvPr/>
        </p:nvSpPr>
        <p:spPr>
          <a:xfrm>
            <a:off x="1371600" y="667800"/>
            <a:ext cx="6629400" cy="56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Вредные привычки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-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навязчивые действия, которые отрицательно сказываются 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поведении ребенка, его физическом и психическом развитии. Говоря о вредных привычках у детей, взрослые в первую очередь имеют в виду курение, алкоголь. Однако ими круг вредных привычек не исчерпывается. В поведении некоторых детей встречаются </a:t>
            </a: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навязчивые действия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, которые ребенок осуществляет неосознанно, </a:t>
            </a: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"по привычке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", и которые производят довольно неприятное внешнее впечатление. Это привычка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99"/>
                </a:solidFill>
                <a:uFillTx/>
                <a:latin typeface="Arial"/>
              </a:rPr>
              <a:t>теребить волосы или мочку уха, сутулиться, шаркать ногами при ходьбе, ерзать на стуле, слишком жестикулировать, хватать собеседника за рукав или за пуговицу, поминутно отплевываться, ковырять в носу, употреблять слова-паразиты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{"ну", "вот", "значит", "короче"} и т.п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Все они могут наблюдаться у одного ребен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5"/>
          <p:cNvSpPr/>
          <p:nvPr/>
        </p:nvSpPr>
        <p:spPr>
          <a:xfrm>
            <a:off x="609480" y="132840"/>
            <a:ext cx="8077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Причина их возникновения проста - недостаточное внимание со стороны родителей к поведению ребенка, и для устранения этих привычек, нужно увлекать ребенка интересными занятиями, общаться с ним, помогать ему изжить те глубинные внутренние переживания, которые породили неприятные дейст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Борьба с вредной привычкой – это всегда борьба с тревожностью, неуверенностью, пессимизм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6"/>
          <p:cNvSpPr/>
          <p:nvPr/>
        </p:nvSpPr>
        <p:spPr>
          <a:xfrm>
            <a:off x="457200" y="3367440"/>
            <a:ext cx="815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ff"/>
                </a:solidFill>
                <a:latin typeface="Arial"/>
              </a:rPr>
              <a:t>Предупреждение таких привычек не требует особых психологических рекоменда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Рецепт здесь один - привитие ребенку полезных навыков: опрятности, аккуратности, организованности, соблюдения элементарных правил этикета.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8" name="Picture 8" descr="baby"/>
          <p:cNvPicPr/>
          <p:nvPr/>
        </p:nvPicPr>
        <p:blipFill>
          <a:blip r:embed="rId1"/>
          <a:stretch/>
        </p:blipFill>
        <p:spPr>
          <a:xfrm>
            <a:off x="3886200" y="5562720"/>
            <a:ext cx="1676520" cy="1143000"/>
          </a:xfrm>
          <a:prstGeom prst="rect">
            <a:avLst/>
          </a:prstGeom>
          <a:ln w="0">
            <a:noFill/>
          </a:ln>
        </p:spPr>
      </p:pic>
      <p:sp>
        <p:nvSpPr>
          <p:cNvPr id="6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4"/>
          <p:cNvSpPr/>
          <p:nvPr/>
        </p:nvSpPr>
        <p:spPr>
          <a:xfrm>
            <a:off x="533520" y="457200"/>
            <a:ext cx="8153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Среди вредных привычек особую озабоченность родителей вызывает 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курение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, получившее в последние годы широкое распространение среди школьников. Курение - одна из многих проблем подросткового возрас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5"/>
          <p:cNvSpPr/>
          <p:nvPr/>
        </p:nvSpPr>
        <p:spPr>
          <a:xfrm>
            <a:off x="609480" y="2384280"/>
            <a:ext cx="80773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Школьные годы - это годы роста как физического, психического, так и умственного. Организму нужно много сил, чтобы справиться со всеми нагрузками. Как известно, навыки, привычки, усвоенные в школьном возрасте, самые прочные. Это относиться не только к полезным, но и к вредным привычкам. Чем раньше дети, подростки, юноши, девушки познакомятся с курением и начнут курить, тем быстрее привыкнут к нему, и в дальнейшем отказаться от курения будет очень труд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Picture 7" descr="deva"/>
          <p:cNvPicPr/>
          <p:nvPr/>
        </p:nvPicPr>
        <p:blipFill>
          <a:blip r:embed="rId1"/>
          <a:stretch/>
        </p:blipFill>
        <p:spPr>
          <a:xfrm>
            <a:off x="4114800" y="5181480"/>
            <a:ext cx="1143000" cy="1676520"/>
          </a:xfrm>
          <a:prstGeom prst="rect">
            <a:avLst/>
          </a:prstGeom>
          <a:ln w="0">
            <a:noFill/>
          </a:ln>
        </p:spPr>
      </p:pic>
      <p:sp>
        <p:nvSpPr>
          <p:cNvPr id="6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cc66"/>
                </a:solidFill>
                <a:latin typeface="Arial"/>
              </a:rPr>
              <a:t>По статистике…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505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Опросы, проведенные НИИ гигиены детей и подростков показали, что пик интереса у детей  к курению отмечается в 9 и в 12-13 лет. Тогда они только пробую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К 15 годам курят 24% подрост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Picture 7" descr="j0301252"/>
          <p:cNvPicPr/>
          <p:nvPr/>
        </p:nvPicPr>
        <p:blipFill>
          <a:blip r:embed="rId1"/>
          <a:stretch/>
        </p:blipFill>
        <p:spPr>
          <a:xfrm>
            <a:off x="4572000" y="1447920"/>
            <a:ext cx="4154400" cy="4343400"/>
          </a:xfrm>
          <a:prstGeom prst="rect">
            <a:avLst/>
          </a:prstGeom>
          <a:ln w="0">
            <a:noFill/>
          </a:ln>
        </p:spPr>
      </p:pic>
      <p:sp>
        <p:nvSpPr>
          <p:cNvPr id="6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9900"/>
                </a:solidFill>
                <a:latin typeface="Arial"/>
              </a:rPr>
              <a:t>Результаты теста </a:t>
            </a:r>
            <a:br>
              <a:rPr sz="3400"/>
            </a:br>
            <a:r>
              <a:rPr b="0" lang="ru-RU" sz="3400" spc="-1" strike="noStrike">
                <a:solidFill>
                  <a:srgbClr val="009900"/>
                </a:solidFill>
                <a:latin typeface="Arial"/>
              </a:rPr>
              <a:t>«Твой отношение к курению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Arial"/>
              </a:rPr>
              <a:t>37% - у этих детей нет предрасположенности к курению, сам процесс курения они не одобря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Arial"/>
              </a:rPr>
              <a:t>34% - эти дети не выработали собственного отношения к курению, могут приобщиться к нему при случае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29% - подростки хорошо относятся к курению, уже и приобщились к не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Arial"/>
              </a:rPr>
              <a:t>Курение и школьник - несовместим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урение подростков, в первую очередь, сказывается на нервной и сердечной - сосудистой системах. В 12-15 лет они уже жалуются на отдышку при физической нагрузке. В результате многолетних наблюдений французский доктор еще 100 лет назад пришел к убеждению, что даже незначительное курение вызывает у детей малокровие, расстройство пищевар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урение отрицательно влияет на успеваемость школьника. Число неуспевающих возрастает в тех классах, где больше курящи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урение школьников замедляет их физическое и психическое развитие. Состояние здоровья, подорванное курением, не позволяет выбрать род занятий по душе, добиться успеха.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Начальные классы:</a:t>
            </a:r>
            <a:br>
              <a:rPr sz="2400"/>
            </a:b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беседы</a:t>
            </a: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 по правилам личной гигиены;</a:t>
            </a:r>
            <a:br>
              <a:rPr sz="3200"/>
            </a:b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уроки «Мойдодыра»</a:t>
            </a:r>
            <a:br>
              <a:rPr sz="3200"/>
            </a:b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лекции:</a:t>
            </a: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 «Курение и алкоголь вредит нашему здоровью»</a:t>
            </a:r>
            <a:br>
              <a:rPr sz="3200"/>
            </a:b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«Наш внешний вид»</a:t>
            </a:r>
            <a:br>
              <a:rPr sz="3200"/>
            </a:b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«Чистые руки – залог здоровья»</a:t>
            </a:r>
            <a:br>
              <a:rPr sz="3200"/>
            </a:b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Классные часы:</a:t>
            </a: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 «Твой режим дня»</a:t>
            </a:r>
            <a:br>
              <a:rPr sz="3200"/>
            </a:b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«Что такое хорошо, что такое плохо»</a:t>
            </a:r>
            <a:br>
              <a:rPr sz="3200"/>
            </a:b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«Почему нельзя давать друг другу клички»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6600ff"/>
                </a:solidFill>
                <a:latin typeface="Arial"/>
              </a:rPr>
              <a:t>Классные часы, беседы, тренинги, лекции на темы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«Что заставляет подростков пробовать курить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«Пьянство и алкоголизм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«Твоё здоровье – богатство страны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«Культура и правила поведен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«Умеем ли мы общаться» и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5-12T08:38:00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