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gif" ContentType="image/gif"/>
  <Override PartName="/ppt/media/image8.png" ContentType="image/png"/>
  <Override PartName="/ppt/media/image5.gif" ContentType="image/gif"/>
  <Override PartName="/ppt/media/image6.wmf" ContentType="image/x-wmf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C5D37-3B7A-47A4-9773-4C79BF26C77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200" spc="-1" strike="noStrike">
                <a:solidFill>
                  <a:srgbClr val="000099"/>
                </a:solidFill>
                <a:latin typeface="Georgia"/>
              </a:rPr>
              <a:t>ВРЕДНЫЕ ПРИВЫЧ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2B69F-0E1C-494B-A06C-4908B1A31BF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cc3300"/>
                </a:solidFill>
                <a:latin typeface="Calibri"/>
              </a:rPr>
              <a:t>Рекомендации родителям  по раннему выявлению вредных привычек у подростков.</a:t>
            </a:r>
            <a:br>
              <a:rPr sz="1100"/>
            </a:br>
            <a:r>
              <a:rPr b="1" lang="ru-RU" sz="1100" spc="-1" strike="noStrike">
                <a:solidFill>
                  <a:srgbClr val="cc3300"/>
                </a:solidFill>
                <a:latin typeface="Calibri"/>
              </a:rPr>
              <a:t>  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1200" spc="-1" strike="noStrike">
                <a:solidFill>
                  <a:srgbClr val="cc6600"/>
                </a:solidFill>
                <a:latin typeface="Calibri"/>
              </a:rPr>
              <a:t>Важнейшая задача родителей - это постоянный контроль за состоянием ребен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6633"/>
                </a:solidFill>
                <a:latin typeface="Calibri"/>
              </a:rPr>
              <a:t>    </a:t>
            </a:r>
            <a:r>
              <a:rPr b="1" lang="ru-RU" sz="1200" spc="-1" strike="noStrike">
                <a:solidFill>
                  <a:srgbClr val="996633"/>
                </a:solidFill>
                <a:latin typeface="Calibri"/>
              </a:rPr>
              <a:t>Необходимо обязательно обращать внимание на то, в каком состоянии он пришел домой, сравнивая с состоянием, в котором он вышел из дома. Это позволяет вовремя выявить случаи, когда ребенок впервые закурил, принял алкоголь или наркот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74857-70CA-4443-B9EB-A4CCE4E9998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Если ты любишь себя и ценишь свое здоровье, ты скажешь «нет» всему, что может принести тебе вре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46568-2838-4285-84F6-835D23B2A64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Calibri"/>
              </a:rPr>
              <a:t>Вредные привычки</a:t>
            </a: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 - </a:t>
            </a: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навязчивые действия, которые отрицательно сказываются 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поведении ребенка, его физическом и психическом развитии. Говоря о вредных привычках у детей, взрослые в первую очередь имеют в виду курение, алкоголь. Однако ими круг вредных привычек не исчерпывается. В поведении некоторых детей встречаются </a:t>
            </a: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навязчивые действия</a:t>
            </a: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, которые ребенок осуществляет неосознанно, </a:t>
            </a:r>
            <a:r>
              <a:rPr b="0" lang="ru-RU" sz="1200" spc="-1" strike="noStrike">
                <a:solidFill>
                  <a:srgbClr val="ff0066"/>
                </a:solidFill>
                <a:latin typeface="Calibri"/>
              </a:rPr>
              <a:t>"по привычке</a:t>
            </a: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", и которые производят довольно неприятное внешнее впечатление. Это привычка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99"/>
                </a:solidFill>
                <a:uFillTx/>
                <a:latin typeface="Calibri"/>
              </a:rPr>
              <a:t>теребить волосы или мочку уха, сутулиться, шаркать ногами при ходьбе, ерзать на стуле, слишком жестикулировать, хватать собеседника за рукав или за пуговицу, поминутно отплевываться, ковырять в носу, употреблять слова-паразиты</a:t>
            </a: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 {"ну", "вот", "значит", "короче"} и т.п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Все они могут наблюдаться у одного ребен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F028C-CA44-49A3-BA08-90040A03EE5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ff"/>
                </a:solidFill>
                <a:latin typeface="Calibri"/>
              </a:rPr>
              <a:t>Причина их возникновения проста - недостаточное внимание со стороны родителей к поведению ребенка, и для устранения этих привычек, нужно увлекать ребенка интересными занятиями, общаться с ним, помогать ему изжить те глубинные внутренние переживания, которые породили неприятные действ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ff"/>
                </a:solidFill>
                <a:latin typeface="Calibri"/>
              </a:rPr>
              <a:t>Борьба с вредной привычкой – это всегда борьба с тревожностью, неуверенностью, пессимизм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ff"/>
                </a:solidFill>
                <a:latin typeface="Calibri"/>
              </a:rPr>
              <a:t>Предупреждение таких привычек не требует особых психологических рекоменда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ff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0066"/>
                </a:solidFill>
                <a:latin typeface="Calibri"/>
              </a:rPr>
              <a:t>Рецепт здесь один - привитие ребенку полезных навыков: опрятности, аккуратности, организованности, соблюдения элементарных правил этикета.</a:t>
            </a:r>
            <a:r>
              <a:rPr b="0" lang="ru-RU" sz="1200" spc="-1" strike="noStrike">
                <a:solidFill>
                  <a:srgbClr val="ff0066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635B9-60B2-4021-A393-57FF102851C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Среди вредных привычек особую озабоченность родителей вызывает </a:t>
            </a:r>
            <a:r>
              <a:rPr b="0" lang="ru-RU" sz="1200" spc="-1" strike="noStrike">
                <a:solidFill>
                  <a:srgbClr val="ff0066"/>
                </a:solidFill>
                <a:latin typeface="Calibri"/>
              </a:rPr>
              <a:t>курение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, получившее в последние годы широкое распространение среди школьников. Курение - одна из многих проблем подросткового возрас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Школьные годы - это годы роста как физического, психического, так и умственного. Организму нужно много сил, чтобы справиться со всеми нагрузками. Как известно, навыки, привычки, усвоенные в школьном возрасте, самые прочные. Это относиться не только к полезным, но и к вредным привычкам. Чем раньше дети, подростки, юноши, девушки познакомятся с курением и начнут курить, тем быстрее привыкнут к нему, и в дальнейшем отказаться от курения будет очень труд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C1BAD-D102-4EEA-8CB3-1FFEA22EFEE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cc66"/>
                </a:solidFill>
                <a:latin typeface="Calibri"/>
              </a:rPr>
              <a:t>По статистике…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Опросы, проведенные НИИ гигиены детей и подростков показали, что пик интереса у детей  к курению отмечается в 9 и в 12-13 лет. Тогда они только пробую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К 15 годам курят 24% подрост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314B2-3279-4C6E-AE6E-F70B955A53D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9900"/>
                </a:solidFill>
                <a:latin typeface="Calibri"/>
              </a:rPr>
              <a:t>Результаты теста </a:t>
            </a:r>
            <a:br>
              <a:rPr sz="1400"/>
            </a:br>
            <a:r>
              <a:rPr b="0" lang="ru-RU" sz="1400" spc="-1" strike="noStrike">
                <a:solidFill>
                  <a:srgbClr val="009900"/>
                </a:solidFill>
                <a:latin typeface="Calibri"/>
              </a:rPr>
              <a:t>«Твой отношение к курению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99ff"/>
                </a:solidFill>
                <a:latin typeface="Calibri"/>
              </a:rPr>
              <a:t>37% - у этих детей нет предрасположенности к курению, сам процесс курения они не одобряю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ff"/>
                </a:solidFill>
                <a:latin typeface="Calibri"/>
              </a:rPr>
              <a:t>34% - эти дети не выработали собственного отношения к курению, могут приобщиться к нему при случае</a:t>
            </a: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29% - подростки хорошо относятся к курению, уже и приобщились к нем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30BD7-E96D-47CB-B261-E3DF7FE6CDB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Курение и школьник - несовместим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Курение подростков, в первую очередь, сказывается на нервной и сердечной - сосудистой системах. В 12-15 лет они уже жалуются на отдышку при физической нагрузке. В результате многолетних наблюдений французский доктор еще 100 лет назад пришел к убеждению, что даже незначительное курение вызывает у детей малокровие, расстройство пищевар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Курение отрицательно влияет на успеваемость школьника. Число неуспевающих возрастает в тех классах, где больше курящи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Курение школьников замедляет их физическое и психическое развитие. Состояние здоровья, подорванное курением, не позволяет выбрать род занятий по душе, добиться успеха.</a:t>
            </a:r>
            <a:r>
              <a:rPr b="1" i="1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99D36-C04C-4B66-BF54-6409C955818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1" lang="ru-RU" sz="1000" spc="-1" strike="noStrike">
                <a:solidFill>
                  <a:srgbClr val="6600ff"/>
                </a:solidFill>
                <a:latin typeface="Calibri"/>
              </a:rPr>
              <a:t>Начальные классы:</a:t>
            </a:r>
            <a:br>
              <a:rPr sz="1000"/>
            </a:br>
            <a:r>
              <a:rPr b="1" lang="ru-RU" sz="1200" spc="-1" strike="noStrike">
                <a:solidFill>
                  <a:srgbClr val="ff3300"/>
                </a:solidFill>
                <a:latin typeface="Calibri"/>
              </a:rPr>
              <a:t>беседы</a:t>
            </a:r>
            <a:r>
              <a:rPr b="1" lang="ru-RU" sz="1200" spc="-1" strike="noStrike">
                <a:solidFill>
                  <a:srgbClr val="009900"/>
                </a:solidFill>
                <a:latin typeface="Calibri"/>
              </a:rPr>
              <a:t> по правилам личной гигиены;</a:t>
            </a:r>
            <a:br>
              <a:rPr sz="1200"/>
            </a:br>
            <a:r>
              <a:rPr b="1" lang="ru-RU" sz="1200" spc="-1" strike="noStrike">
                <a:solidFill>
                  <a:srgbClr val="009900"/>
                </a:solidFill>
                <a:latin typeface="Calibri"/>
              </a:rPr>
              <a:t>уроки «Мойдодыра»</a:t>
            </a:r>
            <a:br>
              <a:rPr sz="1200"/>
            </a:br>
            <a:r>
              <a:rPr b="1" lang="ru-RU" sz="1200" spc="-1" strike="noStrike">
                <a:solidFill>
                  <a:srgbClr val="ff3300"/>
                </a:solidFill>
                <a:latin typeface="Calibri"/>
              </a:rPr>
              <a:t>лекции:</a:t>
            </a:r>
            <a:r>
              <a:rPr b="1" lang="ru-RU" sz="1200" spc="-1" strike="noStrike">
                <a:solidFill>
                  <a:srgbClr val="009900"/>
                </a:solidFill>
                <a:latin typeface="Calibri"/>
              </a:rPr>
              <a:t> «Курение и алкоголь вредит нашему здоровью»</a:t>
            </a:r>
            <a:br>
              <a:rPr sz="1200"/>
            </a:br>
            <a:r>
              <a:rPr b="1" lang="ru-RU" sz="1200" spc="-1" strike="noStrike">
                <a:solidFill>
                  <a:srgbClr val="009900"/>
                </a:solidFill>
                <a:latin typeface="Calibri"/>
              </a:rPr>
              <a:t>«Наш внешний вид»</a:t>
            </a:r>
            <a:br>
              <a:rPr sz="1200"/>
            </a:br>
            <a:r>
              <a:rPr b="1" lang="ru-RU" sz="1200" spc="-1" strike="noStrike">
                <a:solidFill>
                  <a:srgbClr val="009900"/>
                </a:solidFill>
                <a:latin typeface="Calibri"/>
              </a:rPr>
              <a:t>«Чистые руки – залог здоровья»</a:t>
            </a:r>
            <a:br>
              <a:rPr sz="1200"/>
            </a:br>
            <a:r>
              <a:rPr b="1" lang="ru-RU" sz="1200" spc="-1" strike="noStrike">
                <a:solidFill>
                  <a:srgbClr val="ff3300"/>
                </a:solidFill>
                <a:latin typeface="Calibri"/>
              </a:rPr>
              <a:t>Классные часы:</a:t>
            </a:r>
            <a:r>
              <a:rPr b="1" lang="ru-RU" sz="1200" spc="-1" strike="noStrike">
                <a:solidFill>
                  <a:srgbClr val="009900"/>
                </a:solidFill>
                <a:latin typeface="Calibri"/>
              </a:rPr>
              <a:t> «Твой режим дня»</a:t>
            </a:r>
            <a:br>
              <a:rPr sz="1200"/>
            </a:br>
            <a:r>
              <a:rPr b="1" lang="ru-RU" sz="1200" spc="-1" strike="noStrike">
                <a:solidFill>
                  <a:srgbClr val="009900"/>
                </a:solidFill>
                <a:latin typeface="Calibri"/>
              </a:rPr>
              <a:t>«Что такое хорошо, что такое плохо»</a:t>
            </a:r>
            <a:br>
              <a:rPr sz="1200"/>
            </a:br>
            <a:r>
              <a:rPr b="1" lang="ru-RU" sz="1200" spc="-1" strike="noStrike">
                <a:solidFill>
                  <a:srgbClr val="009900"/>
                </a:solidFill>
                <a:latin typeface="Calibri"/>
              </a:rPr>
              <a:t>«Почему нельзя давать друг другу клички»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8F2EC-51F5-4493-98A6-77AF0DADECA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00ff"/>
                </a:solidFill>
                <a:latin typeface="Calibri"/>
              </a:rPr>
              <a:t>Классные часы, беседы, тренинги, лекции на темы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Calibri"/>
              </a:rPr>
              <a:t>«Что заставляет подростков пробовать курить?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Calibri"/>
              </a:rPr>
              <a:t>«Пьянство и алкоголизм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Calibri"/>
              </a:rPr>
              <a:t>«Твоё здоровье – богатство страны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Calibri"/>
              </a:rPr>
              <a:t>«Культура и правила поведени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Calibri"/>
              </a:rPr>
              <a:t>«Умеем ли мы общаться»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40273-12E8-4457-B2ED-AEE281B2939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9D8B-A627-4E97-8D65-FF08C7B76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430E-AF97-41AC-A99D-A3A777139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885DFE-2A58-4651-8EBE-4EA18528D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E550EE-3CC7-4764-8848-6DA1B1E55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6921DC-6B1F-4F28-8FE0-4AD0923D4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718170-7CD9-4728-9B4A-36766FBB5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D5B183-68FF-4C51-AFD0-3CE421696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FC5F5F-FCFF-4F22-9C9B-8F44BFCE1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3EFEED-0D50-4A67-9551-3F019B7E1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90B8AE-512E-4872-ACD3-5B1D02B3F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A96B4C-2C5F-4210-9326-5EDBFD9C2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3F1647-E49C-4D64-9CE9-8A7305033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9F81-2723-4B0A-BDB4-314707519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20D297-0686-4249-AD33-DFABB3351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6B275E-5E21-4FEA-AF45-DD5A7A5CC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AEA03D-1593-407A-A3B6-BB2349070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74D4F6-1377-4FCA-BA26-586776F09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F80865-F524-44A9-A179-142A0A73E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CA921B-D0A1-4D57-A40B-9D92EF83F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C52C47-EBD8-4004-9459-1460161AD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69CD83-FFC3-4048-A1AC-F580133E3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3E1C5B-92F6-4221-B9F3-8CC831BC9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8162D1-5998-40A3-AA84-110B90C4D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A746-9CF9-4971-A540-2CD7E5A34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4B7CEA-ED63-4DAE-8821-18D69EF40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E3A889-CD3B-4D13-8DA5-D93454E47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572DBC-934B-4E75-B91F-7B1A53EEC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EB026D-17DC-4957-8371-033552535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F55F5A-BD97-47AB-B5A5-441CEDCAF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072814-E06D-4E34-94EC-54690386E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62AB6E-DF3C-4B49-A765-AC847AAA1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9753A0-B2A3-4957-8FD5-880039E99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298CC0-8CA8-43AA-B780-64CC62F99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126500-F620-4740-98BE-A2DCFE47C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64D29-0272-4B56-8E64-DEBE8EC1A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E05B6A-AC79-464A-955E-B992BEF07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09C689-7C83-4762-918C-F3E8F6D56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4329C1-5F0C-4F7E-8EA2-6A0F2F711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BD824F-7023-4AEA-A675-30E2A2CED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FC380C-5E38-4CE4-9161-4D89A3005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748083-5E44-4D7C-A430-9C59F5177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269D9E-F507-48C0-83AD-1630913C6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B0596D-5D40-4654-8CFA-59F051CF1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D6767A-59DF-4914-84DE-96FB97898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9CC2E8-F07F-45D8-AEA5-6946CB27A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A1D7D-8974-43F9-97E4-8C044EA4E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290058-C5B9-42CD-A5B6-DD926E596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ED9A20-94CC-4540-9DC3-2F8E343C5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265C0B-7232-4C89-9D9D-D5A666CBC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25DCD0-651F-4190-B01B-30FDD434C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5B56FE-B8FC-4759-B21C-8673FEBEA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A8E411-9273-432F-AE41-F29218E9F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7C01D3-E065-4399-AFEE-5DC3711DB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160EB3-AA07-441E-BCB5-8C74097B0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13C653-2D51-4A8A-8271-99B1FF777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66B318-AB52-48F3-984A-38535F2FA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D502F-D7E8-426A-9889-327A61FA6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605F83-FD5A-42D0-81F6-954D23088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30CEF5-7CA1-44DD-98C0-2A82C6B90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617A38-C431-41EC-8226-DB90FDC5C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7F650B-B25F-4003-92B7-07CA5F89E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C60171-8D0A-4A06-B882-B51FD9C93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246353-102F-420C-A7A4-0AB1E68DE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A450D1-4725-42CA-AC85-AAFA12701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50F2A-1381-4879-9C73-B40DBC323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3107F-DA0D-458E-BAB3-5703A0DA7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E79E3-FB42-4841-A550-FF2976AE6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E9EA6-4B4F-40E4-B266-1B8367CC3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1460-7F78-4634-AA79-8DDB953BE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E2EA3-ED5E-49F2-8589-0FAAE8037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67617-4D03-435F-BAC2-0134DA587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0CD0D-1232-476D-B2A1-65572C632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0DD0A-BCE1-4B5A-8A94-3A6A259F5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908DF-4ED0-4403-B3B4-925CA0F45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76BDFA-C658-49C4-9F2F-5B66D83CC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8855E7-2C75-4E45-818B-B5EE39EB8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0085C7-4586-4CD4-AABC-52D77FB0E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8D349A-888A-4460-B10C-F862F4861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1BD71E-526B-4B58-9FC2-109149D65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2171-2DF3-47B9-8F2B-3AEB4623A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932210-1E6F-4780-A378-539693259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72CDB4-ED4D-4708-812A-068C21F12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A26147-8A83-451B-90F8-6702C87D7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F9BE25-5ED7-42C9-9E0E-C0F912836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6EA31D-64E3-4889-BF5F-1D88BC741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555F6A-72C9-4BCC-B1E8-A6B948011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94A1D1-5C5B-447F-BEBB-2BBB3CF72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7D219A-A369-4160-A1C1-62226B480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AD1A03-CEA0-464B-A438-52F7A1A38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61D0D8-3BD5-4B9A-9D2C-A738F1151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5765-2FCE-4CAC-AF38-2D7E10E09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786B95-0F91-4F21-8413-8DFE6F9F1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B86A26-3240-49CE-ACCE-B8BC8AC0C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4C2C73-FE38-4C0A-9DE9-69E979A0B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58EBAA-3525-4A80-B6EA-00F288DBF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263DD3-2D5B-45CC-89BE-542F51934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FAEB09-2092-4950-B457-CD3184E93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82851E-5C8B-4CA7-B36E-74C43D90F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9F6890-283F-457C-8C18-2490B7708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062008-DCBD-463C-89D5-73D035173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2940C5-2DB0-4A19-81A0-F0918C766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3B99-EEFD-4FC0-A589-128784B41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4AD5DC-68C8-475A-B65E-2C2606B94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D214F2-9487-4EA8-8A53-DD42E2DF3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95D3B1-C48E-4E90-8CC6-22127DADD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613926-D521-43A5-8DBD-BF8CD3B4F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1B8F8F-A4C4-4587-9960-D3D6573BD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45214C-5120-4709-9852-A6D064388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3BC6CB-BADC-4910-96F5-8F075AC85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B518BF-D2D3-46FF-86A6-94AFF520D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B431AE-E0B6-4CA2-B9A5-CA87FF069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789705-0364-40B3-BA4D-91559E85E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BC96-A26F-4FB5-A9B4-BC09ADC1A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A0C8FB-ED2F-474A-A4E9-9BB39D291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8266C5-C141-467A-864E-99E4A13B7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B52537-C726-4978-A933-1F5A1BF07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0D2198-4C52-42A1-88AF-8B0D4BC0C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ACB92D-30C0-4128-851F-BD02003D6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A74563-2270-47FD-9158-A3D55386F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31927D-DA67-4D56-9D22-570A7BA3B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C94E64-964B-4619-8897-51CBD9D02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AA829B-3F9D-4139-A1BC-8270D6E44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ABCA80-0A5A-4F8C-8D69-7BD8CB18F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CEAE-AACB-4DAA-A6AE-1A751DBEA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390056-809D-4DD6-8649-6CC8159AE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C40D8F-5A2C-495F-9A4A-FEC65DA88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BD38FB-AE89-4916-AADA-02ABE0CA0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3C68C1-58F6-40A3-AFEE-20D229E65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14953F-546D-4E85-B9C8-36C8660DA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CCECB1-EF32-4230-8C1E-F025E375B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9AAD56-62A0-410E-9ECC-CFEEBFA8A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256C00-A76B-4ADE-93A7-5F976E876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37216D-0588-4E76-8CA8-079807C15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2DA9DE-C2B7-4571-9470-82F8D6C8F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A03C-C0F5-4DB2-B56F-5C41CCD48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DCAEF9-3223-4432-9C2C-299A9A647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ED7231-4DFC-45E7-A725-1A2BD0D4D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22DCFE-19A3-4434-9E39-0C1130067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FC344D-7366-4D0F-8462-E8B67A052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FBF6AD-B277-4921-9A35-D5742D170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BC99B7-5009-4132-8AB1-569D15C72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1B212C-6BB8-4D98-8E64-4537E54CB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0E3DA3-C76C-4182-8E53-F44FD0772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98AA3A-B937-4468-8798-F86F88E86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6CE875-9C85-427C-B72F-4A876A041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FC7B-7505-4075-B0C5-1937BA911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5CA14D-07B9-4777-91C3-132C28500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CE9CCE-E8DF-4889-9988-4945D15FA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DB34B9-B2E5-4008-A709-ADDB08B1A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BE71D2-6D27-4807-867E-561FF1966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2D9F6C-F02B-4EBD-817D-EBA5DC5C1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9B3733-4F3F-4B54-93D1-6386B39B6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24B0F2-90DF-4222-A6CF-CC64F0F61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513883-44FF-43B7-B1F1-61D8BBA92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CAAD05-5C73-46B5-A526-A25CD1667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822938-3291-4912-9A02-B8580774F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27002-AE53-4378-B4A0-8151216D105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4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425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0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EF020-EDA3-4D29-B05A-E1F6F618FA2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1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472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95B79-6095-4BE3-AF9D-8464062928C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8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519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C179B-9B99-40A8-AF88-2DBE15E71E6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5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566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1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4AA07-7A56-436A-80C1-9EF697CD177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11A79-67A2-4DBC-8DAD-88E4AA952C0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96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AFC31-50E0-4B47-90D3-F75974823B0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43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79AEE-2A52-458C-9208-CB6BF54D848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90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93E0A-60ED-472D-8325-9909A401DCD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237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D8483-F3E7-43D1-BB3F-C3EE45DCB6B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3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284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E81A4-137E-4F6E-A8E8-09125EAC947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33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CCB0A-3DB2-4743-821C-E45A8B4D3E5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7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378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3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68B5F-D3EB-420F-9C02-18838F0ACF5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WordArt 5"/>
          <p:cNvSpPr txBox="1"/>
          <p:nvPr/>
        </p:nvSpPr>
        <p:spPr>
          <a:xfrm>
            <a:off x="457200" y="228600"/>
            <a:ext cx="830592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000099"/>
                </a:solidFill>
                <a:latin typeface="Georgia"/>
              </a:rPr>
              <a:t>ВРЕДНЫЕ ПРИВЫЧКИ</a:t>
            </a:r>
            <a:endParaRPr b="1" i="1" lang="en-US" sz="4000" spc="1" strike="noStrike">
              <a:ln w="9360">
                <a:solidFill>
                  <a:srgbClr val="0066ff"/>
                </a:solidFill>
                <a:miter/>
              </a:ln>
              <a:solidFill>
                <a:srgbClr val="000099"/>
              </a:solidFill>
              <a:latin typeface="Georgia"/>
              <a:ea typeface="Georgia"/>
            </a:endParaRPr>
          </a:p>
        </p:txBody>
      </p:sp>
      <p:pic>
        <p:nvPicPr>
          <p:cNvPr id="620" name="Picture 11" descr="shkolniki_kurieniie"/>
          <p:cNvPicPr/>
          <p:nvPr/>
        </p:nvPicPr>
        <p:blipFill>
          <a:blip r:embed="rId1"/>
          <a:stretch/>
        </p:blipFill>
        <p:spPr>
          <a:xfrm>
            <a:off x="2895480" y="1981080"/>
            <a:ext cx="3505320" cy="2590920"/>
          </a:xfrm>
          <a:prstGeom prst="rect">
            <a:avLst/>
          </a:prstGeom>
          <a:ln w="0">
            <a:noFill/>
          </a:ln>
        </p:spPr>
      </p:pic>
      <p:pic>
        <p:nvPicPr>
          <p:cNvPr id="621" name="Picture 12" descr="о вредных привычках&#10;детей, советы детских психологов"/>
          <p:cNvPicPr/>
          <p:nvPr/>
        </p:nvPicPr>
        <p:blipFill>
          <a:blip r:embed="rId2"/>
          <a:stretch/>
        </p:blipFill>
        <p:spPr>
          <a:xfrm>
            <a:off x="152280" y="403848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622" name="Picture 13" descr="вредные привычки у детей"/>
          <p:cNvPicPr/>
          <p:nvPr/>
        </p:nvPicPr>
        <p:blipFill>
          <a:blip r:embed="rId3"/>
          <a:stretch/>
        </p:blipFill>
        <p:spPr>
          <a:xfrm>
            <a:off x="6324480" y="3886200"/>
            <a:ext cx="2708280" cy="2971800"/>
          </a:xfrm>
          <a:prstGeom prst="rect">
            <a:avLst/>
          </a:prstGeom>
          <a:ln w="0">
            <a:noFill/>
          </a:ln>
        </p:spPr>
      </p:pic>
      <p:sp>
        <p:nvSpPr>
          <p:cNvPr id="6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Рекомендации родителям  по раннему выявлению вредных привычек у подростков.</a:t>
            </a:r>
            <a:br>
              <a:rPr sz="2400"/>
            </a:b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 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cc6600"/>
                </a:solidFill>
                <a:latin typeface="Arial"/>
              </a:rPr>
              <a:t>Важнейшая задача родителей - это постоянный контроль за состоянием ребенк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6633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996633"/>
                </a:solidFill>
                <a:latin typeface="Arial"/>
              </a:rPr>
              <a:t>Необходимо обязательно обращать внимание на то, в каком состоянии он пришел домой, сравнивая с состоянием, в котором он вышел из дома. Это позволяет вовремя выявить случаи, когда ребенок впервые закурил, принял алкоголь или наркоти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Picture 4" descr="p223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сли ты любишь себя и ценишь свое здоровье, ты скажешь «нет» всему, что может принести тебе вре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7" name="Picture 8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6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Rectangle 9"/>
          <p:cNvSpPr/>
          <p:nvPr/>
        </p:nvSpPr>
        <p:spPr>
          <a:xfrm>
            <a:off x="1371600" y="667800"/>
            <a:ext cx="6629400" cy="56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Вредные привычки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 -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навязчивые действия, которые отрицательно сказываются 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поведении ребенка, его физическом и психическом развитии. Говоря о вредных привычках у детей, взрослые в первую очередь имеют в виду курение, алкоголь. Однако ими круг вредных привычек не исчерпывается. В поведении некоторых детей встречаются </a:t>
            </a: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навязчивые действия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, которые ребенок осуществляет неосознанно, </a:t>
            </a:r>
            <a:r>
              <a:rPr b="0" lang="ru-RU" sz="2000" spc="-1" strike="noStrike">
                <a:solidFill>
                  <a:srgbClr val="ff0066"/>
                </a:solidFill>
                <a:latin typeface="Arial"/>
              </a:rPr>
              <a:t>"по привычке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", и которые производят довольно неприятное внешнее впечатление. Это привычка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99"/>
                </a:solidFill>
                <a:uFillTx/>
                <a:latin typeface="Arial"/>
              </a:rPr>
              <a:t>теребить волосы или мочку уха, сутулиться, шаркать ногами при ходьбе, ерзать на стуле, слишком жестикулировать, хватать собеседника за рукав или за пуговицу, поминутно отплевываться, ковырять в носу, употреблять слова-паразиты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 {"ну", "вот", "значит", "короче"} и т.п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Все они могут наблюдаться у одного ребен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5"/>
          <p:cNvSpPr/>
          <p:nvPr/>
        </p:nvSpPr>
        <p:spPr>
          <a:xfrm>
            <a:off x="609480" y="132840"/>
            <a:ext cx="8077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Причина их возникновения проста - недостаточное внимание со стороны родителей к поведению ребенка, и для устранения этих привычек, нужно увлекать ребенка интересными занятиями, общаться с ним, помогать ему изжить те глубинные внутренние переживания, которые породили неприятные действ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Борьба с вредной привычкой – это всегда борьба с тревожностью, неуверенностью, пессимизм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6"/>
          <p:cNvSpPr/>
          <p:nvPr/>
        </p:nvSpPr>
        <p:spPr>
          <a:xfrm>
            <a:off x="457200" y="3367440"/>
            <a:ext cx="8153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ff"/>
                </a:solidFill>
                <a:latin typeface="Arial"/>
              </a:rPr>
              <a:t>Предупреждение таких привычек не требует особых психологических рекоменда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Рецепт здесь один - привитие ребенку полезных навыков: опрятности, аккуратности, организованности, соблюдения элементарных правил этикета.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8" name="Picture 8" descr="baby"/>
          <p:cNvPicPr/>
          <p:nvPr/>
        </p:nvPicPr>
        <p:blipFill>
          <a:blip r:embed="rId1"/>
          <a:stretch/>
        </p:blipFill>
        <p:spPr>
          <a:xfrm>
            <a:off x="3886200" y="5562720"/>
            <a:ext cx="1676520" cy="1143000"/>
          </a:xfrm>
          <a:prstGeom prst="rect">
            <a:avLst/>
          </a:prstGeom>
          <a:ln w="0">
            <a:noFill/>
          </a:ln>
        </p:spPr>
      </p:pic>
      <p:sp>
        <p:nvSpPr>
          <p:cNvPr id="6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Rectangle 4"/>
          <p:cNvSpPr/>
          <p:nvPr/>
        </p:nvSpPr>
        <p:spPr>
          <a:xfrm>
            <a:off x="533520" y="457200"/>
            <a:ext cx="8153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Среди вредных привычек особую озабоченность родителей вызывает 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курение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, получившее в последние годы широкое распространение среди школьников. Курение - одна из многих проблем подросткового возрас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Rectangle 5"/>
          <p:cNvSpPr/>
          <p:nvPr/>
        </p:nvSpPr>
        <p:spPr>
          <a:xfrm>
            <a:off x="609480" y="2384280"/>
            <a:ext cx="80773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      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Школьные годы - это годы роста как физического, психического, так и умственного. Организму нужно много сил, чтобы справиться со всеми нагрузками. Как известно, навыки, привычки, усвоенные в школьном возрасте, самые прочные. Это относиться не только к полезным, но и к вредным привычкам. Чем раньше дети, подростки, юноши, девушки познакомятся с курением и начнут курить, тем быстрее привыкнут к нему, и в дальнейшем отказаться от курения будет очень труд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2" name="Picture 7" descr="deva"/>
          <p:cNvPicPr/>
          <p:nvPr/>
        </p:nvPicPr>
        <p:blipFill>
          <a:blip r:embed="rId1"/>
          <a:stretch/>
        </p:blipFill>
        <p:spPr>
          <a:xfrm>
            <a:off x="4114800" y="5181480"/>
            <a:ext cx="1143000" cy="1676520"/>
          </a:xfrm>
          <a:prstGeom prst="rect">
            <a:avLst/>
          </a:prstGeom>
          <a:ln w="0">
            <a:noFill/>
          </a:ln>
        </p:spPr>
      </p:pic>
      <p:sp>
        <p:nvSpPr>
          <p:cNvPr id="6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cc66"/>
                </a:solidFill>
                <a:latin typeface="Arial"/>
              </a:rPr>
              <a:t>По статистике…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5053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Опросы, проведенные НИИ гигиены детей и подростков показали, что пик интереса у детей  к курению отмечается в 9 и в 12-13 лет. Тогда они только пробую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К 15 годам курят 24% подрост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6" name="Picture 7" descr="j0301252"/>
          <p:cNvPicPr/>
          <p:nvPr/>
        </p:nvPicPr>
        <p:blipFill>
          <a:blip r:embed="rId1"/>
          <a:stretch/>
        </p:blipFill>
        <p:spPr>
          <a:xfrm>
            <a:off x="4572000" y="1447920"/>
            <a:ext cx="4154400" cy="4343400"/>
          </a:xfrm>
          <a:prstGeom prst="rect">
            <a:avLst/>
          </a:prstGeom>
          <a:ln w="0">
            <a:noFill/>
          </a:ln>
        </p:spPr>
      </p:pic>
      <p:sp>
        <p:nvSpPr>
          <p:cNvPr id="6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9900"/>
                </a:solidFill>
                <a:latin typeface="Arial"/>
              </a:rPr>
              <a:t>Результаты теста </a:t>
            </a:r>
            <a:br>
              <a:rPr sz="3400"/>
            </a:br>
            <a:r>
              <a:rPr b="0" lang="ru-RU" sz="3400" spc="-1" strike="noStrike">
                <a:solidFill>
                  <a:srgbClr val="009900"/>
                </a:solidFill>
                <a:latin typeface="Arial"/>
              </a:rPr>
              <a:t>«Твой отношение к курению»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99ff"/>
                </a:solidFill>
                <a:latin typeface="Arial"/>
              </a:rPr>
              <a:t>37% - у этих детей нет предрасположенности к курению, сам процесс курения они не одобряю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Arial"/>
              </a:rPr>
              <a:t>34% - эти дети не выработали собственного отношения к курению, могут приобщиться к нему при случае</a:t>
            </a: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29% - подростки хорошо относятся к курению, уже и приобщились к не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Arial"/>
              </a:rPr>
              <a:t>Курение и школьник - несовместим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Курение подростков, в первую очередь, сказывается на нервной и сердечной - сосудистой системах. В 12-15 лет они уже жалуются на отдышку при физической нагрузке. В результате многолетних наблюдений французский доктор еще 100 лет назад пришел к убеждению, что даже незначительное курение вызывает у детей малокровие, расстройство пищевар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Курение отрицательно влияет на успеваемость школьника. Число неуспевающих возрастает в тех классах, где больше курящи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Курение школьников замедляет их физическое и психическое развитие. Состояние здоровья, подорванное курением, не позволяет выбрать род занятий по душе, добиться успеха.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Начальные классы:</a:t>
            </a:r>
            <a:br>
              <a:rPr sz="2400"/>
            </a:b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беседы</a:t>
            </a: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 по правилам личной гигиены;</a:t>
            </a:r>
            <a:br>
              <a:rPr sz="3200"/>
            </a:b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уроки «Мойдодыра»</a:t>
            </a:r>
            <a:br>
              <a:rPr sz="3200"/>
            </a:b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лекции:</a:t>
            </a: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 «Курение и алкоголь вредит нашему здоровью»</a:t>
            </a:r>
            <a:br>
              <a:rPr sz="3200"/>
            </a:b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«Наш внешний вид»</a:t>
            </a:r>
            <a:br>
              <a:rPr sz="3200"/>
            </a:b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«Чистые руки – залог здоровья»</a:t>
            </a:r>
            <a:br>
              <a:rPr sz="3200"/>
            </a:b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Классные часы:</a:t>
            </a: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 «Твой режим дня»</a:t>
            </a:r>
            <a:br>
              <a:rPr sz="3200"/>
            </a:b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«Что такое хорошо, что такое плохо»</a:t>
            </a:r>
            <a:br>
              <a:rPr sz="3200"/>
            </a:b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«Почему нельзя давать друг другу клички»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6600ff"/>
                </a:solidFill>
                <a:latin typeface="Arial"/>
              </a:rPr>
              <a:t>Классные часы, беседы, тренинги, лекции на темы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«Что заставляет подростков пробовать курить?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«Пьянство и алкоголизм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«Твоё здоровье – богатство страны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«Культура и правила поведени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«Умеем ли мы общаться» и д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5-12T08:38:00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