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D58-D486-4197-926F-C26EA48AA3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хорошие и плох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ь от невоздерж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ов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0B19-D4A8-4E40-8C44-668FE6FDA22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, что рядом есть и Царство хороших привыче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8715-CEE7-476F-8B42-86E5FB2FF4D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Путешествие в царство хороших привычек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2F4-C00E-4E46-972A-027FBAE9DF8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о ли говорить о наших привыч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ам было скучно? Интерес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онравилось? Что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D2AE-BCE6-4C7D-AFDD-8231CE14787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пагандировать здоровый образ жизн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негативное отношение к вредным привычкам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воспитывать умение детей контролировать свои поступ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побуждать детей к   формированию у себя хороши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EF8D-B076-4288-90A5-3787B7EE01C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считаете, что такое привыч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бывают привыч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олезные привычки вы знае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ие привычки вредны для человек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Как вы понимаете пословицу «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дность от лени, а болезни от невоздержанност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5346-B801-4A31-A2A6-37508D268B7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вредных привыч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т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ко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хороши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C95D-A3FB-43B5-9674-CF7D7768DAF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жете ли вы дать отпор вредным привычкам или устоять перед их натис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й вопрос надо дать ответ  «да» или  «н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68D1-66EB-4458-9E9A-950B8283F3E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бишь ли ты смотреть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телось ли тебе играть в компьютерные игры больше трех часов ежедневно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Хотелось ли тебе попробовать закурить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Можешь ли ты весь выходной просидеть перед телевизором, оставив все свои дела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Пробовал ли ты алкогольные напитки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089-4F55-4ECB-BC77-FB708F2D685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Любишь ли ты уроки физкультур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Если друзья предложили тебе сбежать с уроков, согласишься ли ты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Умеешь ли ты не повторять свои ошибк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Если тебе прямо на улице незнакомый предложил коробку конфет, взял бы ты е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Друзья зову тебя в игровые автоматы, а ты еще не сделал уроки, сможешь отказа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DD9B-3115-449A-AD7A-CAD3D703820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колько раз вы ответили «да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20CA-7C92-4C20-961F-218DB490A17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9F1-F20A-4A5F-857F-0F4080920C5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467-8B9D-4CFA-8F33-84AD8DEF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11B-2337-4791-940D-DE4B12B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965-D1C0-44D1-BBC7-4B1D370D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99E-0D43-415A-9077-E0F87315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A98F-A634-4734-BE3F-58A34279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484-362C-48CF-A167-5E69FA59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4634-CDB9-4A01-A3BF-CB35C5C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C983-E93F-4D88-9EA2-99D95CE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4DC9-64A1-4219-BFA4-029D513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93F3-8435-4A57-9A52-6A9A3B7F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FC90-8983-43B3-9339-FE279CAE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3C5-32C8-49F6-9BE0-982AD295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687-9DD8-4BEC-A4AC-5B1A386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0ECD-322F-488E-BBD4-5D4F96F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40C-4BAB-4C5A-90DF-04D8525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9D52-4EC6-4CE2-A95B-7868E5CB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7CD-16A3-4AFE-B076-A9823F1D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448-C1DB-418F-AFE1-B20DD79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2E4-3F05-4A4C-B8A2-9F0CD11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735-3155-4A42-AD5B-F166005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8D9-A153-486E-AD27-AA532FD9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C19-55E2-4D8B-BDAE-8A35E32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804-1A36-4145-B39E-4D0390D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558-FB8F-4672-B04B-A967E7A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AE0-CADA-41BF-BC04-17BDDB0011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1D44-DC7D-4CDB-B795-345EF2586A4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 хорошие и плох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дность от лени, а болезнь от невоздержанно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Хорошо, что рядом есть и Царство хороших привычек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 это Царство попасть непросто: нужно трудиться , работать над собой, заставлять себя постоянно тренироваться. Зато в награду ты получишь здоровье, хорошее настроение, успешную работу, уважение людей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«Путешествие в царство хороших привычек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едставьте, что вы работаете в туристическом агенстве. Вы получили задание- сделать рекламу одного из городов Царства хороших привычек. Продолжительность рекламы-1мину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ремя подготовки-5 минут(задания группам).Желательно, чтобы каждый член группы сказал несколько слов о своем город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18"/>
          <p:cNvGrpSpPr/>
          <p:nvPr/>
        </p:nvGrpSpPr>
        <p:grpSpPr>
          <a:xfrm>
            <a:off x="250920" y="404640"/>
            <a:ext cx="7344720" cy="6192000"/>
            <a:chOff x="250920" y="404640"/>
            <a:chExt cx="7344720" cy="6192000"/>
          </a:xfrm>
        </p:grpSpPr>
        <p:cxnSp>
          <p:nvCxnSpPr>
            <p:cNvPr id="228" name="_s1028"/>
            <p:cNvCxnSpPr>
              <a:stCxn id="229" idx="1"/>
              <a:endCxn id="230" idx="2"/>
            </p:cNvCxnSpPr>
            <p:nvPr/>
          </p:nvCxnSpPr>
          <p:spPr>
            <a:xfrm rot="10800000">
              <a:off x="3922560" y="152964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1" name="_s1029"/>
            <p:cNvCxnSpPr>
              <a:stCxn id="232" idx="3"/>
              <a:endCxn id="230" idx="2"/>
            </p:cNvCxnSpPr>
            <p:nvPr/>
          </p:nvCxnSpPr>
          <p:spPr>
            <a:xfrm flipV="1">
              <a:off x="3398400" y="1530000"/>
              <a:ext cx="525240" cy="4504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3" name="_s1030"/>
            <p:cNvCxnSpPr>
              <a:stCxn id="234" idx="1"/>
              <a:endCxn id="230" idx="2"/>
            </p:cNvCxnSpPr>
            <p:nvPr/>
          </p:nvCxnSpPr>
          <p:spPr>
            <a:xfrm rot="10800000">
              <a:off x="3922560" y="152964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5" name="_s1031"/>
            <p:cNvCxnSpPr>
              <a:stCxn id="236" idx="3"/>
              <a:endCxn id="230" idx="2"/>
            </p:cNvCxnSpPr>
            <p:nvPr/>
          </p:nvCxnSpPr>
          <p:spPr>
            <a:xfrm flipV="1">
              <a:off x="3398400" y="1530000"/>
              <a:ext cx="525240" cy="28152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7" name="_s1032"/>
            <p:cNvCxnSpPr>
              <a:stCxn id="238" idx="1"/>
              <a:endCxn id="230" idx="2"/>
            </p:cNvCxnSpPr>
            <p:nvPr/>
          </p:nvCxnSpPr>
          <p:spPr>
            <a:xfrm rot="10800000">
              <a:off x="392256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39" name="_s1033"/>
            <p:cNvCxnSpPr>
              <a:stCxn id="240" idx="3"/>
              <a:endCxn id="230" idx="2"/>
            </p:cNvCxnSpPr>
            <p:nvPr/>
          </p:nvCxnSpPr>
          <p:spPr>
            <a:xfrm flipV="1">
              <a:off x="3398400" y="1529640"/>
              <a:ext cx="525240" cy="11264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30" name="_s1034"/>
            <p:cNvSpPr/>
            <p:nvPr/>
          </p:nvSpPr>
          <p:spPr>
            <a:xfrm>
              <a:off x="2349360" y="40464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dc893e"/>
                  </a:solidFill>
                  <a:latin typeface="Arial"/>
                </a:rPr>
                <a:t>Задания для групп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5092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труда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дороги, мосты, одежд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божают трудится, не сидят без дел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аходят рукам  занятие, город мастеров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, шьют, строят, пекут, Лечат .вяжут. вышиваю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8" name="_s1036"/>
            <p:cNvSpPr/>
            <p:nvPr/>
          </p:nvSpPr>
          <p:spPr>
            <a:xfrm>
              <a:off x="4447800" y="209340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музыки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заниматься музыкой, скрипка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барабан, балет, хор, чудесная музыка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жизнь станет богаче, станет знамениты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25092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f1311"/>
                  </a:solidFill>
                  <a:latin typeface="Arial"/>
                </a:rPr>
                <a:t>Город спорта</a:t>
              </a: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: не может без движения, стадио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портивные площадки, велосипеды, роликовые коньк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скейдборды, утренняя зарядка,обливаться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забывать про болезни. физкультура и спорт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dc893e"/>
                  </a:solidFill>
                  <a:latin typeface="Arial"/>
                </a:rPr>
                <a:t>дарят здоровье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4" name="_s1038"/>
            <p:cNvSpPr/>
            <p:nvPr/>
          </p:nvSpPr>
          <p:spPr>
            <a:xfrm>
              <a:off x="4447800" y="378216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природ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утопает в зелени, цветы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фонтаны, птица, зайцы, белки, олен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воздух чист и свеж, общаться с природ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глоток свежего воздуха, пение птиц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шум листвы, плеск речной волн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арит радость, счастье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душевную гармонию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_s1039"/>
            <p:cNvSpPr/>
            <p:nvPr/>
          </p:nvSpPr>
          <p:spPr>
            <a:xfrm>
              <a:off x="250920" y="5470920"/>
              <a:ext cx="31478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книг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привык читать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не представляет себе жизнь без книги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тихо, уютно сказки, стихи, детективы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романы, новости политики, бизнеса, спор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ожно поговорить обо всем,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интересный человек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1040"/>
            <p:cNvSpPr/>
            <p:nvPr/>
          </p:nvSpPr>
          <p:spPr>
            <a:xfrm>
              <a:off x="4447800" y="5470920"/>
              <a:ext cx="3144240" cy="1125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f1311"/>
                  </a:solidFill>
                  <a:latin typeface="Arial"/>
                </a:rPr>
                <a:t>Город гигиены</a:t>
              </a: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: ослепительная чистота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прятные, аккуратные.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выкли следить за собой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прически, одежда, никто не болеет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мыть руки, мыть овощи, и фрукты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ослепительные улыбки,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c893e"/>
                  </a:solidFill>
                  <a:latin typeface="Arial"/>
                </a:rPr>
                <a:t>следить за зубами.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41" name="Ink 34" descr=""/>
          <p:cNvPicPr/>
          <p:nvPr/>
        </p:nvPicPr>
        <p:blipFill>
          <a:blip r:embed="rId1"/>
          <a:stretch/>
        </p:blipFill>
        <p:spPr>
          <a:xfrm>
            <a:off x="1243080" y="6294600"/>
            <a:ext cx="156960" cy="15696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вы считаете, нужно ли говорить о наших привычках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вам было скучно? Интересно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понравилось? Что нет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47684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ель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- пропагандировать здоровый образ жизн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негативное отношение к вредным привычкам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воспитывать умение детей контролировать свои поступки;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-побуждать детей к   формированию у себя хороших привычек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считаете, что такое привыч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бывают привычки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олезные привычки вы знаете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ие привычки вредны для человека?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*Как вы понимаете пословицу «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едность от лени, а болезни от невоздержанности»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вычк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вредных привычек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икотин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лкого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ркоти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за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ство хороши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о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иги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07760" y="620640"/>
            <a:ext cx="8111880" cy="28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ожете ли вы дать отпор вредным привычкам или устоять перед их натиск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3933720"/>
            <a:ext cx="835344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нкет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каждый вопрос надо дать ответ  «да» или  «нет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98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147160" cy="589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1.Любишь ли ты смотреть телевизор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2.Хотелось ли тебе играть в компьютерные игры больше трех часов ежедневно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3.Хотелось ли тебе попробовать закурить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4.Можешь ли ты весь выходной просидеть перед телевизором, оставив все свои дела?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5.Пробовал ли ты алкогольные напитки?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6.Любишь ли ты уроки физкультур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7.Если друзья предложили тебе сбежать с уроков, согласишься ли ты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8.Умеешь ли ты не повторять свои ошибки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9.Если тебе прямо на улице незнакомый предложил коробку конфет, взял бы ты ее?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10.Друзья зову тебя в игровые автоматы, а ты еще не сделал уроки, сможешь отказать?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6748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олько раз вы ответили «да»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е больше 3 раз -вы умеете управлять своими желаниями. У вас сильная воля и крепкий характер. Вы умеете отказаться от удовольствия , если это может принести вре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4 до 8 раз -ваш результат похуже. вам не всегда удается управлять своими желаниями, не хватает силы воли. из-за этого можно попасть в зависимость от вредных привычек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т 9 до 10 раз-тут уже пора задуматься. Вам очень трудно справиться со своими желаниями, вас неудержимо тянет к сияминутным удовольствиям. Вам нужно оценить свои действия. Вам нужно научиться говорить себе «нет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тот тест нельзя назвать серьезным и научным, но он может показать, кому надо работать над своим характером. Укреплять свою волю, учиться самостоятельност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9:48:19Z</dcterms:created>
  <dc:creator>Серёжа</dc:creator>
  <dc:description/>
  <dc:language>en-US</dc:language>
  <cp:lastModifiedBy>LEGION</cp:lastModifiedBy>
  <dcterms:modified xsi:type="dcterms:W3CDTF">2015-05-12T08:38:32Z</dcterms:modified>
  <cp:revision>6</cp:revision>
  <dc:subject/>
  <dc:title>Привычки хорошие и плохие</dc:title>
</cp:coreProperties>
</file>