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503E-2ABF-4145-ADDD-186F144A83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хорошие и плох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ь от невоздерж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ов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43B3-4BCC-4036-A062-F8DA7ED911C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, что рядом есть и Царство хороших привыче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7195-7093-4950-8CC2-9365E40B713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Путешествие в царство хороших привычек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D4D9-7CBF-4C2F-B018-EFA6909B676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о ли говорить о наших привыч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ам было скучно? Интерес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онравилось? Что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9DA9-9D8F-4B65-90A3-E00B5091787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пагандировать здоровый образ жизн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негативное отношение к вредным привычкам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умение детей контролировать свои поступ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побуждать детей к   формированию у себя хороши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2292-7386-4882-BAAC-DA9679C0D0C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считаете, что такое привыч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бывают привыч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олезные привычки вы знае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ривычки вредны для челове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понимаете пословицу «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и от невоздержанност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565B-BE84-463E-ACF1-D221009BC45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вредных привыче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хороши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354B-F30E-4416-9D86-1B166A1D416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жете ли вы дать отпор вредным привычкам или устоять перед их натис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й вопрос надо дать ответ  «да» или  «н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3C59-318A-4B41-AA37-95B94AB3497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бишь ли ты смотреть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телось ли тебе играть в компьютерные игры больше трех часов ежедневно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Хотелось ли тебе попробовать закурить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Можешь ли ты весь выходной просидеть перед телевизором, оставив все свои дел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Пробовал ли ты алкогольные напитки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B816-BC6E-4216-B9AF-4D5A9ACE08D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Любишь ли ты уроки физкультур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Если друзья предложили тебе сбежать с уроков, согласишься ли т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Умеешь ли ты не повторять свои ошиб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Если тебе прямо на улице незнакомый предложил коробку конфет, взял бы ты е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Друзья зову тебя в игровые автоматы, а ты еще не сделал уроки, сможешь отказа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4A02-11C3-4749-8D36-515838934DA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олько раз вы ответили «да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C896-20CF-4EC0-BB09-9C4887B35A3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8658-B331-41A8-BD2D-EAE5D15CB96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72F-91A1-486D-A8E6-E5A6B128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C92-E32A-4CB9-A5E3-2EF14B1A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CD6-440D-4EE4-9A12-897744BD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10C-BB11-4060-AB7E-A88D2124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3D1D-D78B-4BE2-A41F-96C5B7B1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E09A-30D0-491B-923C-30431979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F48C-2879-459A-B084-F7E8A575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B3A7-67C5-4AB3-BF6B-96BB8A5D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702F-E54F-424C-9F44-4B1EEFDB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79AD-011C-4580-B74A-79384D98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D414-634F-4866-B422-E02628BD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945-90CD-4B6A-B302-45055C00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FBC2-28E7-447A-9D44-A0EB4B54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EE6C-A120-453A-BC49-080AF9D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57FB-CF88-4468-BDDC-1BEB0A8F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11E5-D944-4A88-9BBC-800FC769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EBD8-7260-483B-B7A7-160F0A76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0B5-6A64-4CF7-98DD-0E468D27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03C-1AE5-46BB-A3B2-2DCC1A72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417-18BB-4BE4-808F-C0107981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A86-A335-4C7D-8EB1-A4B73EE6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60C-2792-4DB5-86AC-81037460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697-7EEC-4F2C-8BF7-4E1D3AC6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704-9743-46DD-909A-A77E83A8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7034-2BA5-41FA-AEA5-A93E8C98B7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19DB-D2BE-4CC0-B6D2-26FAA73D1D6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 хорошие и плох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дность от лени, а болезнь от невоздержан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рошо, что рядом есть и Царство хороших привычек.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«Путешествие в царство хороших привычек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18"/>
          <p:cNvGrpSpPr/>
          <p:nvPr/>
        </p:nvGrpSpPr>
        <p:grpSpPr>
          <a:xfrm>
            <a:off x="250920" y="404640"/>
            <a:ext cx="7344720" cy="6192000"/>
            <a:chOff x="250920" y="404640"/>
            <a:chExt cx="7344720" cy="6192000"/>
          </a:xfrm>
        </p:grpSpPr>
        <p:cxnSp>
          <p:nvCxnSpPr>
            <p:cNvPr id="228" name="_s1028"/>
            <p:cNvCxnSpPr>
              <a:stCxn id="229" idx="1"/>
              <a:endCxn id="230" idx="2"/>
            </p:cNvCxnSpPr>
            <p:nvPr/>
          </p:nvCxnSpPr>
          <p:spPr>
            <a:xfrm rot="10800000">
              <a:off x="3922560" y="152964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1" name="_s1029"/>
            <p:cNvCxnSpPr>
              <a:stCxn id="232" idx="3"/>
              <a:endCxn id="230" idx="2"/>
            </p:cNvCxnSpPr>
            <p:nvPr/>
          </p:nvCxnSpPr>
          <p:spPr>
            <a:xfrm flipV="1">
              <a:off x="3398400" y="153000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3" name="_s1030"/>
            <p:cNvCxnSpPr>
              <a:stCxn id="234" idx="1"/>
              <a:endCxn id="230" idx="2"/>
            </p:cNvCxnSpPr>
            <p:nvPr/>
          </p:nvCxnSpPr>
          <p:spPr>
            <a:xfrm rot="10800000">
              <a:off x="3922560" y="152964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5" name="_s1031"/>
            <p:cNvCxnSpPr>
              <a:stCxn id="236" idx="3"/>
              <a:endCxn id="230" idx="2"/>
            </p:cNvCxnSpPr>
            <p:nvPr/>
          </p:nvCxnSpPr>
          <p:spPr>
            <a:xfrm flipV="1">
              <a:off x="3398400" y="153000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7" name="_s1032"/>
            <p:cNvCxnSpPr>
              <a:stCxn id="238" idx="1"/>
              <a:endCxn id="230" idx="2"/>
            </p:cNvCxnSpPr>
            <p:nvPr/>
          </p:nvCxnSpPr>
          <p:spPr>
            <a:xfrm rot="10800000">
              <a:off x="392256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9" name="_s1033"/>
            <p:cNvCxnSpPr>
              <a:stCxn id="240" idx="3"/>
              <a:endCxn id="230" idx="2"/>
            </p:cNvCxnSpPr>
            <p:nvPr/>
          </p:nvCxnSpPr>
          <p:spPr>
            <a:xfrm flipV="1">
              <a:off x="339840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30" name="_s1034"/>
            <p:cNvSpPr/>
            <p:nvPr/>
          </p:nvSpPr>
          <p:spPr>
            <a:xfrm>
              <a:off x="2349360" y="40464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c893e"/>
                  </a:solidFill>
                  <a:latin typeface="Arial"/>
                </a:rPr>
                <a:t>Задания для групп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5092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труда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дороги, мосты, одежд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божают трудится, не сидят без дел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аходят рукам  занятие, город мастеров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, шьют, строят, пекут, Лечат .вяжут. вышиваю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_s1036"/>
            <p:cNvSpPr/>
            <p:nvPr/>
          </p:nvSpPr>
          <p:spPr>
            <a:xfrm>
              <a:off x="444780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музыки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заниматься музыкой, скрипка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барабан, балет, хор, чудесная музыка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жизнь станет богаче, станет знамениты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25092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f1311"/>
                  </a:solidFill>
                  <a:latin typeface="Arial"/>
                </a:rPr>
                <a:t>Город спорта</a:t>
              </a: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: не может без движения, стадио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портивные площадки, велосипеды, роликовые коньк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кейдборды, утренняя зарядка,обливаться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забывать про болезни. физкультура и спор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дарят здоровье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4" name="_s1038"/>
            <p:cNvSpPr/>
            <p:nvPr/>
          </p:nvSpPr>
          <p:spPr>
            <a:xfrm>
              <a:off x="444780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природ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утопает в зелени, цветы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фонтаны, птица, зайцы, белки, олен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воздух чист и свеж, общаться с природ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глоток свежего воздуха, пение птиц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шум листвы, плеск речной вол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арит радость, счастье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ушевную гармонию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_s1039"/>
            <p:cNvSpPr/>
            <p:nvPr/>
          </p:nvSpPr>
          <p:spPr>
            <a:xfrm>
              <a:off x="250920" y="547092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книг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привык читать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е представляет себе жизнь без книг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тихо, уютно сказки, стихи, детективы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романы, новости политики, бизнеса, спор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ожно поговорить обо всем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интересный человек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1040"/>
            <p:cNvSpPr/>
            <p:nvPr/>
          </p:nvSpPr>
          <p:spPr>
            <a:xfrm>
              <a:off x="4447800" y="5470920"/>
              <a:ext cx="31442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гигиен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ослепительная чисто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прятные, аккуратные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выкли следить за соб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чески, одежда, никто не болеет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ыть руки, мыть овощи, и фрукт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слепительные улыбки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следить за зубами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41" name="Ink 34" descr=""/>
          <p:cNvPicPr/>
          <p:nvPr/>
        </p:nvPicPr>
        <p:blipFill>
          <a:blip r:embed="rId1"/>
          <a:stretch/>
        </p:blipFill>
        <p:spPr>
          <a:xfrm>
            <a:off x="1243080" y="6294600"/>
            <a:ext cx="156960" cy="15696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вы считаете, нужно ли говорить о наших привычка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вам было скучно? Интересн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понравилось? Что нет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747684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ель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 пропагандировать здоровый образ жизн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негативное отношение к вредным привычкам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умение детей контролировать свои поступк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побуждать детей к   формированию у себя хороших привыч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считаете, что такое привыч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бывают привычки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олезные привычки вы знаете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ривычки вредны для челове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понимаете пословицу «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едность от лени, а болезни от невоздержанности»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вредных привычек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коти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за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хороши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иги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7760" y="620640"/>
            <a:ext cx="8111880" cy="28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можете ли вы дать отпор вредным привычкам или устоять перед их натиском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3933720"/>
            <a:ext cx="835344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ке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каждый вопрос надо дать ответ  «да» или  «нет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47160" cy="58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1.Любишь ли ты смотреть телевизор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2.Хотелось ли тебе играть в компьютерные игры больше трех часов ежедневно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3.Хотелось ли тебе попробовать закурить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4.Можешь ли ты весь выходной просидеть перед телевизором, оставив все свои дела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5.Пробовал ли ты алкогольные напитки?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6.Любишь ли ты уроки физкультур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7.Если друзья предложили тебе сбежать с уроков, согласишься ли т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8.Умеешь ли ты не повторять свои ошибки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9.Если тебе прямо на улице незнакомый предложил коробку конфет, взял бы ты ее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10.Друзья зову тебя в игровые автоматы, а ты еще не сделал уроки, сможешь отказать?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6748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колько раз вы ответили «да»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9:48:19Z</dcterms:created>
  <dc:creator>Серёжа</dc:creator>
  <dc:description/>
  <dc:language>en-US</dc:language>
  <cp:lastModifiedBy>LEGION</cp:lastModifiedBy>
  <dcterms:modified xsi:type="dcterms:W3CDTF">2015-05-12T08:38:32Z</dcterms:modified>
  <cp:revision>6</cp:revision>
  <dc:subject/>
  <dc:title>Привычки хорошие и плохие</dc:title>
</cp:coreProperties>
</file>