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6531-D813-4D04-99E4-B7AD4FA252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F6CD-E2D0-4026-8516-8637C2A876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1400"/>
            </a:b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AD57-4738-4AC2-B1D9-42E7643A7E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нятие божества совпадает с понятие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еловечества. Все божественные определен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 определения делающие Бога богом, суть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пределения рода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 определения, ограниченны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тдельным существом, индивидом и н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граниченные в сущности рода и даже в ег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уществовании, поскольку это существова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оответственно проявляется только во все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юдях, взятых как нечто собирательное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&lt;…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ог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есть понятие рода как индивида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понят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сущность рода; он как всеобщая сущность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средоточие всех совершенств, всех качеств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вободных от действительных или мнимы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раниц индивида, есть в то же время существо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тдельное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индивидуаль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E7E2-4BF1-4232-ACFB-E0EE3BDF8C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лигия – не просто результат корыстного обмана (хотя её и используют в корыстных интересах) и невежества (хотя непонимание её корней и её действительной функции играет существенную роль в её возникновении и в сохранении её в существующей – «отчуждённой» – форм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щность религии – 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енесении родовой сущности человек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 реализуемой в индивидуальном человеческом существовании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 индивидуальное суще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в поклонении этому существу как своего рода «идеальному человек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езультате такого переноса это антропоморфное идеальное существо оказывается наделённым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трибутами человеческого род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х лишены действительные человеческие индивиды: бессмертием, могуществом, всеведением и пр., иными словами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адиционными атрибутами Бог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монотеистических рели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такое разрешение противоречия между сущностью и существованием человека ведёт 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отчуждению»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отрыву человеческой сущности от самого человека, противопоставлению первой второму и – сначала идеальному, а потом и реальному –  порабощению человека плодом его собственной фант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отчуждение» должно быть преодолено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обходимо вернуть реальному, живому «ты» его законное место в мыслях, чувствах и сердце «Я», не по праву занятое Богом – этой проекцией вовне человеческих  жел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A90D-2FC0-4FC1-8FFB-5F20ADCAF9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8912-7BE8-448D-AF71-4EFDD48A68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Антропология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F557-A357-470E-8E80-CB2EA11DED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A0A1-9794-452A-A709-C5C72E7536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ропология К.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478F-06C2-4F53-8516-7C52C5EF2A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48BB-5602-4AE6-BBA6-090CE6BAF1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2518-DDE2-4F85-933B-68A5141E47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2945-4FBD-48A9-BD12-989E077BC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9A27-5264-4F29-86C4-3EC0DA22E7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Штрау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8-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уно Бауэ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9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8 июля 1804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андсх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3 сентября 1872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хенбе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5 мая 1818 г. в Тр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марта 1883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321F-053E-407A-BB28-7B73DCFE9C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015F-8405-4E89-A54D-2C27E892F2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1616-3DFE-457C-98D6-1A6551822F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ый базис общества и его политико-идеологическая надстро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3E7B-B8D4-4799-827E-66B5583F34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9E07-E16B-4166-A54A-052A5069F2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A3B8-6615-409D-8861-A4F227ED22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 Ге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ющая сила истории: «субстанция» или «самосознани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юдвиг Фейербах: антрополог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рл Маркс: истор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блема социальной (исторической) закономер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ественные классы как субъекты закономер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ктура социальной реальности: материальный базис общества и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 политико-идеологическая над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73F9-AC68-4494-9FDA-09B7D4670B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вид Штраус и Бруно Бауэ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ADE2-5BA7-468B-855C-B9A2B95D10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CCC3-1B3C-47D1-BD70-E4CCC65B39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1076-2EA7-4527-9BA7-ED0674E0FD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Субстанция» или «самосознание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C027-BF7E-4258-B9DA-9ED85823F9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Людвиг Фейербах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рополог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B2E8-6FC3-4823-856C-07192C98D5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Единство мышления и бытия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 котором трактовала философия тождества Шеллинга и Гегеля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ально лишь в человек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единственном субъекте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человека отличает от животных не только способность мышления: если бы он не отличался от животных в своих ощущениях, то не отличался бы от них и в мышлении.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ущность человека – это прежде всего чувственность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роявляющаяся в многообразии переживаний, стремлении к счастью, любви, т.е. жизни не только ума, но и серд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ловек осознаёт себя человеком лишь в общении, в основе своей – чувственном, с другим человеком: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амосознание «Я» опосредовано сознанием «Ты»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Самосознание, следовательно, сопровожд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сознанием человеческой сущности как родовой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емление к единению с другим («Я» с «Ты»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уждает осознание принадлежности к род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овое и есть разум (= любовь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ём эта родовая сущность осознаётся как тождественная во всех индивидах и образующая их родовое еди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жду родовой сущностью человека и его индивидуальным существованием имеется противоречие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разум, например (вопреки Канту) ограничен лишь в индивиде, но не в 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пыткой преодоления этого противоречия явля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лигия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0A4-5AD5-446F-9F75-50ECEE41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001-D5EE-4E53-9195-3CFE2F72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4CE-A4DE-4DEB-B8C6-2C04D3F0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7DB-2FED-4344-81D0-CAD9D3E4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700-EC56-42B2-B416-8336EF94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1A0C-0D9F-4B1D-8553-4CC46C97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21EE-7AA7-4F26-9101-673623E4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61C-16F9-4683-AA29-DF5DA0A8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77A-B065-409B-8372-8DEAD3DE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F31-B671-41DE-9896-FA3B3300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5C9-3A56-48D3-A189-C1E82B50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3E3-5A35-4AF7-83B7-D4F3F741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A70B-8813-4C86-81F1-A54E2B85C1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5480" y="2142720"/>
            <a:ext cx="8561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40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 rot="10800000">
            <a:off x="2050920" y="1581840"/>
            <a:ext cx="701856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е божества совпадает с поняти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тва. Все божественные опреде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определения делающие Бога богом, суть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пределения р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определения, ограниче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ым существом, индивидом и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граниченные в сущности рода и даже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и, поскольку это существов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енно проявляется только во вс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ях, взятых как нечто собирательное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ть понятие рода как индивид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сущность рода; он как всеобщая сущ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редоточие всех совершенств, всех каче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ых от действительных или мним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ниц индивида, есть в то же время существо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тдельно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дивидуаль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4320" y="4678200"/>
            <a:ext cx="19256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у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feuerbach (1)"/>
          <p:cNvPicPr/>
          <p:nvPr/>
        </p:nvPicPr>
        <p:blipFill>
          <a:blip r:embed="rId1"/>
          <a:stretch/>
        </p:blipFill>
        <p:spPr>
          <a:xfrm>
            <a:off x="250920" y="1690560"/>
            <a:ext cx="2187360" cy="251784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5760" y="1457280"/>
            <a:ext cx="8589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лигия – не просто результат корыстного обмана (хотя её и используют в корыстных интересах) и невежества (хотя непонимание её корней и её действительной функции играет существенную роль в её возникновении и в сохранении её в существующей – «отчуждённой» – форм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ность религии – в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еренесении родовой сущности человека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е реализуемой в индивидуальном человеческом существовании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а индивидуальное существ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в поклонении этому существу как своего рода «идеальному человек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результате такого переноса это антропоморфное идеальное существо оказывается наделённы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трибутами человеческого рода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оторых лишены действительные человеческие индивиды: бессмертием, могуществом, всеведением и пр., иными словами –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адиционными атрибутами Бог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нотеистических религ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такое разрешение противоречия между сущностью и существованием человека ведёт к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тчуждению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отрыву человеческой сущности от самого человека, противопоставлению первой второму и – сначала идеальному, а потом и реальному –  порабощению человека плодом его собственной фантаз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тчуждение» должно быть преодолено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еобходимо вернуть реальному, живому «ты» его законное место в мыслях, чувствах и сердце «Я», не по праву занятое Богом – этой проекцией вовне человеческих  жел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и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89480" y="2878200"/>
            <a:ext cx="44989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ономическо-философские рукописи 1844 го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ятое семей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мецкая идеолог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-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щета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нифест Коммунистической парт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критике политической эконом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7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сл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marx (3)"/>
          <p:cNvPicPr/>
          <p:nvPr/>
        </p:nvPicPr>
        <p:blipFill>
          <a:blip r:embed="rId1"/>
          <a:stretch/>
        </p:blipFill>
        <p:spPr>
          <a:xfrm>
            <a:off x="466560" y="1798560"/>
            <a:ext cx="364176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2" name="Text Box 5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нтропология Маркс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330200" y="1978200"/>
            <a:ext cx="6478560" cy="34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чужд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ntfremdung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нг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франц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alienation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о-социологическая категория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ражающая объективное превращ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ятельности человека и её результат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амостоятельную силу, господствующую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д ним самим и враждебную ему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связанное с эти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вращение человека из активного субъект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бъект обществен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2863800" y="5127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784520" y="3832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704880" y="253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58920" y="161928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в опредмечивании труд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осто обретение трудом предмет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го существования, а превращ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меченного труда в противостоящу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аждебную рабочему си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1438200" y="2914560"/>
            <a:ext cx="514692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отчуждение в процессе труд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вращение труда из специфичес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й (сущностной)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ечто навязанное извне, сре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животны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2517840" y="421020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родовой жизни челове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вращение социального (в том числ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образованной трудом природ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уждую силу, служащую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ством индивидуального выж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3598920" y="550548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человека от челове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нтагонизация человеческих отнош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званная присвоением продукта тру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м человеком (не рабочим)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чинением ему самого процесса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4"/>
          <p:cNvSpPr/>
          <p:nvPr/>
        </p:nvSpPr>
        <p:spPr>
          <a:xfrm>
            <a:off x="6655680" y="1762200"/>
            <a:ext cx="212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Четыре уровня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ч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4173480" y="5354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09420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2014560" y="3338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34920" y="233208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431640" y="1654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уд непосредственно рад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реб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питал и труд ещё объедине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1511280" y="2662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овая торгов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руд отчаст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чником дох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590920" y="3670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деление труда и деньг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руд целиком превращ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руд ради заработ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670200" y="4678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грарный труд и р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питал и труд выступают ещ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пецифических форм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ропология К. Маркс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749840" y="568476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ный капита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ирает всякую природную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енную определё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937120" y="1654200"/>
            <a:ext cx="27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Этапы развития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чуждённого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 rot="10800000">
            <a:off x="179280" y="1869480"/>
            <a:ext cx="647856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ркс положил конец воззрению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о, как на механический агрег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ов, допускающий всяк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менения по воле начальства (или,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, по воле общества и правительства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ющий и изменяющийся случай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первые поставил социологию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ую почву, установив 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енно-экономической форм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вокупности да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ственных отношений, установи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развитие таких формаций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о-исторический процесс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385680" y="4678200"/>
            <a:ext cx="261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И. Ле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о тако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зь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род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как о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юют прот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-демократ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Ленин (2)"/>
          <p:cNvPicPr/>
          <p:nvPr/>
        </p:nvPicPr>
        <p:blipFill>
          <a:blip r:embed="rId1"/>
          <a:stretch/>
        </p:blipFill>
        <p:spPr>
          <a:xfrm>
            <a:off x="6656400" y="1978200"/>
            <a:ext cx="1914480" cy="24382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6"/>
          <p:cNvSpPr/>
          <p:nvPr/>
        </p:nvSpPr>
        <p:spPr>
          <a:xfrm>
            <a:off x="2841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0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1187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934920" y="2446200"/>
            <a:ext cx="4857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де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ется внутренне противоречив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история имеет сво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м человеческ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2590920" y="460548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человеческая дея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чиняется законам, историче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не может приня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 наук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ваясь просто набором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3417840" y="568476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 свободы воли (фатализм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сть истории не спасает, так как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ением человеческой специф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яется и сам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мет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108000" y="136692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здаёт затруднений: объект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ющие волей и сознанием,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ь подчинёнными зак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1762200" y="352584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деятельность, направ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яем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ей и сознани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регу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и, по опреде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ими от воли и созн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4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5"/>
          <p:cNvSpPr/>
          <p:nvPr/>
        </p:nvSpPr>
        <p:spPr>
          <a:xfrm>
            <a:off x="5900760" y="1366920"/>
            <a:ext cx="3130560" cy="190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) объективная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ественная, необходима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стойчивая связ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жду явлениям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) научное положени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ображающее такую свя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2878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205092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22220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95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971640" y="2446200"/>
            <a:ext cx="4857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едение коллектив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рассматривать как объекти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условленное без того, чтобы отрица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этом свободу индивидуальной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2625840" y="460548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рами таких общностей являю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енные класс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груп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, занимающих одинаковое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истеме обществен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3454560" y="568476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характерист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ассов не зависят от воли и с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ленов общества, а обусловл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уктурой и характером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142920" y="136692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же историческая законом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ма, поскольку субъе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мерной деятельности не обяз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ьно должны вы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1798560" y="352584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закономерности пове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циальных общностей про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значимых характеристи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индивидуальных чл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5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ственные классы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ьшие группы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личающиеся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месту в систем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щественн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изво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3"/>
          <p:cNvSpPr/>
          <p:nvPr/>
        </p:nvSpPr>
        <p:spPr>
          <a:xfrm rot="10800000">
            <a:off x="250560" y="186948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бщественном производстве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люди вступают в определё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ые, от их воли не завися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стве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нош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ённой ступени развития 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ительных сил.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овокупность этих производственных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й составляет экономическую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труктуру общества, реальный базис,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 котором возвышается юридическая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и политическая надстройка и которому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оответствуют определённы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формы общественного созн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Oval 5"/>
          <p:cNvSpPr/>
          <p:nvPr/>
        </p:nvSpPr>
        <p:spPr>
          <a:xfrm>
            <a:off x="7305840" y="3814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585400" y="3922560"/>
            <a:ext cx="1684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вигс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7016760" y="3562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13240" y="3346560"/>
            <a:ext cx="741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9"/>
          <p:cNvSpPr/>
          <p:nvPr/>
        </p:nvSpPr>
        <p:spPr>
          <a:xfrm>
            <a:off x="7701120" y="33465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12320" y="2932200"/>
            <a:ext cx="136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йзе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7593120" y="363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744320" y="3471840"/>
            <a:ext cx="135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хе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7737480" y="3886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7456320" y="4030560"/>
            <a:ext cx="1241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ндсх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6332400" y="3057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5657040" y="2625840"/>
            <a:ext cx="1043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н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7760" y="1815840"/>
            <a:ext cx="381456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Штрау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8-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уно Бауэ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9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8 июля 1804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андсх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3 сентября 1872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хенбе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5 мая 1818 г. в Тр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марта 1883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 rot="10800000">
            <a:off x="286920" y="1977840"/>
            <a:ext cx="593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и сами делают свою истор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и её дела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ак, как и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здумаетс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 обстоятельств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не сами они выбра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которые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ются налицо, даны и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шли от прошл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833440" y="5037120"/>
            <a:ext cx="319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осемнадцатое брюме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уи Бонапар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 rot="10800000">
            <a:off x="286920" y="1977840"/>
            <a:ext cx="593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 можно отличать от живот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ознанию, по религии – вооб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чему угодно. Сами они начин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ать себя от животных, как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инают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оизв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обходи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 средства к жизни, – шаг, котор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условлен их телесной организаци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я необходимые им сред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жизни, люди косвенным образ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ят и само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ую жизн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120360" y="5218200"/>
            <a:ext cx="28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 и Ф. Энгель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мецкая иде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ьный базис общества и его политико-идеологическая надстро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 rot="10800000">
            <a:off x="250560" y="186948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В общественном производстве своей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жизни люди вступают в определённые,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еобходимые, от их воли не зависящи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я – производственны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я, которы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пределённой ступени развития их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материальных производительных сил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окупность этих производстве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й составляет эконом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уктуру общества, реальн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зи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котором возвышается юрид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литичес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дстройк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котор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т определё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ы общественного созн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 rot="10800000">
            <a:off x="179280" y="1798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известной ступени своего разви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ы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ительные сил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а приходят в противоречие 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ими производствен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ношениям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– что является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юридическим выражением последних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отношениями собственности, внутр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х они до сих пор развивались.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 развития производительных сил э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 превращаются в их оковы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г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тупает эпоха социальной революци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изменением экономической основ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или менее быстро проис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ворот во всей громадной надстройк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5760" y="1420560"/>
            <a:ext cx="880596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 Ге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ющая сила истории: «субстанция» или «самосознани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юдвиг Фейербах: антрополог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рл Маркс: истор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блема социальной (исторической) закономер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ественные классы как субъекты закономер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ктура социальной реальности: материальный базис общества и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 политико-идеологическая над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вид Штраус и Бруно Бау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6560" y="2878200"/>
            <a:ext cx="44625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. Штра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Иисуса, критически переработанна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5-18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рая и новая вер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1872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Б. Бауэ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истории Откров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евангельской истории синоптик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1841-18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trauss (1)"/>
          <p:cNvPicPr/>
          <p:nvPr/>
        </p:nvPicPr>
        <p:blipFill>
          <a:blip r:embed="rId1"/>
          <a:stretch/>
        </p:blipFill>
        <p:spPr>
          <a:xfrm>
            <a:off x="5289480" y="1978200"/>
            <a:ext cx="2309760" cy="216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6" name="Picture 9" descr="bruno4"/>
          <p:cNvPicPr/>
          <p:nvPr/>
        </p:nvPicPr>
        <p:blipFill>
          <a:blip r:embed="rId2"/>
          <a:stretch/>
        </p:blipFill>
        <p:spPr>
          <a:xfrm>
            <a:off x="6764400" y="4354560"/>
            <a:ext cx="205884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 rot="10800000">
            <a:off x="2230560" y="1690200"/>
            <a:ext cx="6837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егель вынужден был строить систему, 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ская система, по установившему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у, должна была заверш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бсолютной истиной того или иного род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т же Гегель, который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дчёркив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эта вечная истина есть не что иное,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 логический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sp.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ческий) процесс,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идит себя вынужденным полож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ц этому процессу, так как надо же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му на чём-то закончить свою систему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именно, нужно было так представить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ц истории: человечество при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ю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бсолютной иде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являет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это познание абсолют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игнуто в гегелевской философ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0800000">
            <a:off x="2230560" y="1581840"/>
            <a:ext cx="683712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зятое в целом, учение Гегеля оставляло 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ирокий простор для самых различ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ктических партийных воззрений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, придававший главное значение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истем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Гегеля, мог быть дово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сервативным в каждой из этих областей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религии и политик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Тот же, кто глав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л диалектический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то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г и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лигии и в политике принадлежать к са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айней оппозиции. Сам Гегель, несмотр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довольно частые в его сочинениях взрыв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волюционного гнева, в общем, по-видим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лонялся больше к консервативной стороне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нцу тридцатых годов раскол в его школ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новился всё боле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олее заметным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рьба велась ещё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ским оружием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не ради абстрактно-философских ц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убстанция» или «самосознани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 rot="10800000">
            <a:off x="2230560" y="1581840"/>
            <a:ext cx="683712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ый толчок дала книга Штрауса «Жиз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исуса», вышедшая в 1835 году. Проти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ложенной в этой книге теории возникнов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х мифов выступил позд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руно Бауэр, доказывавший, что целый ря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х рассказов сфабрикован сам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вторами евангелий. Спор между Штраус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ауэром вёлся под видом философ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рьбы между «самосознанием»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станцией». Вопрос о том, возникли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е рассказы о чудесах пут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сознательного, основанного на тради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ния мифов в недрах общины или же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сфабрикованы самими евангелистами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росся до вопроса о том, что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ной действующей силой во всемир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и: «субстанция» или «самосознани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102200" y="2770200"/>
            <a:ext cx="493056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критике философии Гегеля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христианст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положения философии будущег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прос о бессмертии с точки зрения антрополо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пиритуализме и материализме, в особенности в их отношении к свободе во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демон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6-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feuerbach (1)"/>
          <p:cNvPicPr/>
          <p:nvPr/>
        </p:nvPicPr>
        <p:blipFill>
          <a:blip r:embed="rId1"/>
          <a:stretch/>
        </p:blipFill>
        <p:spPr>
          <a:xfrm>
            <a:off x="466560" y="1798560"/>
            <a:ext cx="33181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5760" y="1457280"/>
            <a:ext cx="8589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Единство мышления и бытия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 котором трактовала философия тождества Шеллинга и Гегеля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ально лишь в человек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единственном субъекте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человека отличает от животных не только способность мышления: если бы он не отличался от животных в своих ощущениях, то не отличался бы от них и в мышлении.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ущность человека – это прежде всего чувственность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роявляющаяся в многообразии переживаний, стремлении к счастью, любви, т.е. жизни не только ума, но и серд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ловек осознаёт себя человеком лишь в общении, в основе своей – чувственном, с другим человеком: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амосознание «Я» опосредовано сознанием «Ты»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Самосознание, следовательно, сопровожд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сознанием человеческой сущности как родовой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емление к единению с другим («Я» с «Ты»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уждает осознание принадлежности к род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овое и есть разум (= любовь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ём эта родовая сущность осознаётся как тождественная во всех индивидах и образующая их родовое еди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жду родовой сущностью человека и его индивидуальным существованием имеется противоречие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разум, например (вопреки Канту) ограничен лишь в индивиде, но не в 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пыткой преодоления этого противоречия явля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лигия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9:28:21Z</dcterms:created>
  <dc:creator>Николай Бирюков / Nikolai Biryukov</dc:creator>
  <dc:description>Редакция мая 2008 г.</dc:description>
  <dc:language>en-US</dc:language>
  <cp:lastModifiedBy>LEGION</cp:lastModifiedBy>
  <dcterms:modified xsi:type="dcterms:W3CDTF">2014-11-11T09:59:12Z</dcterms:modified>
  <cp:revision>147</cp:revision>
  <dc:subject>Основы философии - Тема 16</dc:subject>
  <dc:title>Фейербах и Маркс: конец классической немецкой философии</dc:title>
</cp:coreProperties>
</file>