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73FE-5A5F-47AC-BD5C-BEC470D263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B1F1-561F-4A4B-9D68-9E00864042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9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1400"/>
            </a:b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DDF8-7FB4-4C22-92C9-4178FE86EE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онятие божества совпадает с понятие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человечества. Все божественные определения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се определения делающие Бога богом, суть</a:t>
            </a:r>
            <a:br>
              <a:rPr sz="1200"/>
            </a:br>
            <a:r>
              <a:rPr b="1" i="1" lang="ru-RU" sz="1200" spc="-1" strike="noStrike">
                <a:solidFill>
                  <a:srgbClr val="0000ff"/>
                </a:solidFill>
                <a:latin typeface="Arial"/>
              </a:rPr>
              <a:t>определения рода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– определения, ограниченны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тдельным существом, индивидом и н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граниченные в сущности рода и даже в его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уществовании, поскольку это существовани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оответственно проявляется только во всех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людях, взятых как нечто собирательное.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&lt;…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Бог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есть понятие рода как индивида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поняти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ли сущность рода; он как всеобщая сущность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ак средоточие всех совершенств, всех качеств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вободных от действительных или мнимых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границ индивида, есть в то же время существо</a:t>
            </a:r>
            <a:br>
              <a:rPr sz="1200"/>
            </a:br>
            <a:r>
              <a:rPr b="1" i="1" lang="ru-RU" sz="1200" spc="-1" strike="noStrike">
                <a:solidFill>
                  <a:srgbClr val="0000ff"/>
                </a:solidFill>
                <a:latin typeface="Arial"/>
              </a:rPr>
              <a:t>отдельное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индивидуально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09B4-C175-489C-9477-F27C6D8FDF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лигия – не просто результат корыстного обмана (хотя её и используют в корыстных интересах) и невежества (хотя непонимание её корней и её действительной функции играет существенную роль в её возникновении и в сохранении её в существующей – «отчуждённой» – форм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щность религии – в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еренесении родовой сущности человек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е реализуемой в индивидуальном человеческом существовании,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а индивидуальное существ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в поклонении этому существу как своего рода «идеальному человеку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результате такого переноса это антропоморфное идеальное существо оказывается наделённым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трибутами человеческого род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оторых лишены действительные человеческие индивиды: бессмертием, могуществом, всеведением и пр., иными словами –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радиционными атрибутами Бог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монотеистических рели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такое разрешение противоречия между сущностью и существованием человека ведёт к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«отчуждению»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– отрыву человеческой сущности от самого человека, противопоставлению первой второму и – сначала идеальному, а потом и реальному –  порабощению человека плодом его собственной фантаз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«отчуждение» должно быть преодолено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еобходимо вернуть реальному, живому «ты» его законное место в мыслях, чувствах и сердце «Я», не по праву занятое Богом – этой проекцией вовне человеческих  жел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0235-1002-42A2-8E70-C6A9F6DE1F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рл Маркс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ческий матери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D9A9-1E9F-4C57-9306-CD0C6DAF52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Антропология Маркс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нятие отчу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1F2B-7685-4CCA-BAAD-772FC093AB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тропология Маркс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чуждение труда и его социальные и экзистенциальные послед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3ACE-F48A-4E94-8A7F-BD414E34D4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тропология К. Маркс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уржуазное общество как общество тотального отчу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433B-4018-4FBA-852B-5355A94AEB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A53D-6A8B-43C3-A2B3-3FF4D885D4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исторической закономер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F557-BED7-43AF-B720-01123E4A48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лассы как субъекты закономер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578D-C953-433A-A663-6AA9E2C304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7A60-DEDA-425C-853D-565513A499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вид Штраус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8-18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руно Бауэр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9-188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28 июля 1804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андсху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3 сентября 1872 г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ехенбер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рл Мар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5 мая 1818 г. в Тр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4 марта 1883 г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онд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9F8A-F7B7-45DA-898C-1DDA61513F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61B4-DCE7-4039-8DEE-C8314B3363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1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материального производ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9633-4F6F-4A0C-8725-70B8448F77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териальный базис общества и его политико-идеологическая надстрой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8860-6963-4B25-97C3-CDF877AC96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ческое развитие как смена общественно-экономических форм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E5F6-B52F-4310-87DD-05D8CADF12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B0B6-A3D6-491D-9597-B78620E1BA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 Гег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йствующая сила истории: «субстанция» или «самосознание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юдвиг Фейербах: антропологический матер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ропологический принцип в филосо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арл Маркс: исторический матер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ропология Мар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отч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уждение труда и его социальные и экзистенциальные послед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уржуазное общество как общество тотального отч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облема социальной (исторической) закономер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щественные классы как субъекты закономерн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материального 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уктура социальной реальности: материальный базис общества и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го политико-идеологическая надстрой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торическое развитие как смена общественно-экономических форм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4001-6E31-4CB3-9B35-5899371B96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вид Штраус и Бруно Бауэ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8281-C175-4775-9364-6E4809EFDE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ег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39C7-A540-475C-B546-A09288028F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ладогегельян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ег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131B-2FDC-4348-8244-1168C35024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ладогегельян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Субстанция» или «самосознание»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4E67-1BF1-4933-9A9B-F97EC39C84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Людвиг Фейербах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нтропологический матери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89C7-3AFC-4C50-B45C-F0FFA64527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ропологический принцип в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Единство мышления и бытия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 котором трактовала философия тождества Шеллинга и Гегеля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еально лишь в человеке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– единственном субъекте мыш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человека отличает от животных не только способность мышления: если бы он не отличался от животных в своих ощущениях, то не отличался бы от них и в мышлении.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Сущность человека – это прежде всего чувственность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проявляющаяся в многообразии переживаний, стремлении к счастью, любви, т.е. жизни не только ума, но и сердц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ловек осознаёт себя человеком лишь в общении, в основе своей – чувственном, с другим человеком: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самосознание «Я» опосредовано сознанием «Ты»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Самосознание, следовательно, сопровожда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осознанием человеческой сущности как родовой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емление к единению с другим («Я» с «Ты»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буждает осознание принадлежности к род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аковое и есть разум (= любовь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чём эта родовая сущность осознаётся как тождественная во всех индивидах и образующая их родовое един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между родовой сущностью человека и его индивидуальным существованием имеется противоречие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разум, например (вопреки Канту) ограничен лишь в индивиде, но не в р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пыткой преодоления этого противоречия явля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елигия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400D-E606-4B89-BC52-DAE509E6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15B3-172C-4158-8E6E-F97CAAF7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F835-5587-47FE-90B4-C5191FD8E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07D9-D121-4BF4-8B63-F09A709A4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8D62-02B0-4125-9930-051C7900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5AE4-7014-474B-B64A-C3EAD55D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9977-1EE7-49C8-9FED-F27603C6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0670-5E1B-4BDE-9DF5-3F76865D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ACFE-7259-4B1E-8B8C-66FF0F4D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48DE-91F8-4879-A1E2-B053EB11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08C9-34DD-4D93-9CE2-47877EB4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F7FF-7D15-4758-8CD8-18EFC905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0322-CBA9-443B-ACC5-92B841890B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85480" y="2142720"/>
            <a:ext cx="85611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40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 rot="10800000">
            <a:off x="2050920" y="1581840"/>
            <a:ext cx="7018560" cy="503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нятие божества совпадает с поняти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тва. Все божественные определ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определения делающие Бога богом, суть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определения род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определения, ограничен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дельным существом, индивидом и 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граниченные в сущности рода и даже в 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и, поскольку это существова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тветственно проявляется только во все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ях, взятых как нечто собирательное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lt;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есть понятие рода как индивида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нят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сущность рода; он как всеобщая сущ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редоточие всех совершенств, всех качест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бодных от действительных или мним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раниц индивида, есть в то же время существо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отдельно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ндивидуально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4320" y="4678200"/>
            <a:ext cx="192564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. Фейербах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ущ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ристианст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feuerbach (1)"/>
          <p:cNvPicPr/>
          <p:nvPr/>
        </p:nvPicPr>
        <p:blipFill>
          <a:blip r:embed="rId1"/>
          <a:stretch/>
        </p:blipFill>
        <p:spPr>
          <a:xfrm>
            <a:off x="250920" y="1690560"/>
            <a:ext cx="2187360" cy="251784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5760" y="1457280"/>
            <a:ext cx="8589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лигия – не просто результат корыстного обмана (хотя её и используют в корыстных интересах) и невежества (хотя непонимание её корней и её действительной функции играет существенную роль в её возникновении и в сохранении её в существующей – «отчуждённой» – форм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ущность религии – в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перенесении родовой сущности человека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не реализуемой в индивидуальном человеческом существовании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на индивидуальное существо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и в поклонении этому существу как своего рода «идеальному человеку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результате такого переноса это антропоморфное идеальное существо оказывается наделённым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трибутами человеческого рода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которых лишены действительные человеческие индивиды: бессмертием, могуществом, всеведением и пр., иными словами –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традиционными атрибутами Бога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монотеистических религ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такое разрешение противоречия между сущностью и существованием человека ведёт к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отчуждению»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– отрыву человеческой сущности от самого человека, противопоставлению первой второму и – сначала идеальному, а потом и реальному –  порабощению человека плодом его собственной фантаз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о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отчуждение» должно быть преодолено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необходимо вернуть реальному, живому «ты» его законное место в мыслях, чувствах и сердце «Я», не по праву занятое Богом – этой проекцией вовне человеческих  жел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рл Марк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ий матери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389480" y="2878200"/>
            <a:ext cx="449892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кономическо-философские рукописи 1844 год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ятое семейств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мецкая идеолог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5-184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ищета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нифест Коммунистической парт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критике политической эконом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питал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7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 сл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marx (3)"/>
          <p:cNvPicPr/>
          <p:nvPr/>
        </p:nvPicPr>
        <p:blipFill>
          <a:blip r:embed="rId1"/>
          <a:stretch/>
        </p:blipFill>
        <p:spPr>
          <a:xfrm>
            <a:off x="466560" y="1798560"/>
            <a:ext cx="3641760" cy="4316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2" name="Text Box 5"/>
          <p:cNvSpPr/>
          <p:nvPr/>
        </p:nvSpPr>
        <p:spPr>
          <a:xfrm>
            <a:off x="4857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1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1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1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1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2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2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нтропология Маркс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 отч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330200" y="1978200"/>
            <a:ext cx="6478560" cy="34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чуждени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е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ntfremdung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нг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и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франц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alienation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ско-социологическая категория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ражающая объективное превращени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ятельности человека и её результатов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амостоятельную силу, господствующую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д ним самим и враждебную ему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связанное с этим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вращение человека из активного субъект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бъект общественн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2"/>
          <p:cNvSpPr/>
          <p:nvPr/>
        </p:nvSpPr>
        <p:spPr>
          <a:xfrm>
            <a:off x="2863800" y="5127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"/>
          <p:cNvSpPr/>
          <p:nvPr/>
        </p:nvSpPr>
        <p:spPr>
          <a:xfrm>
            <a:off x="1784520" y="3832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704880" y="2536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358920" y="1619280"/>
            <a:ext cx="514656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чуждение в опредмечивании труд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росто обретение трудом предметн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нешнего существования, а превращ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меченного труда в противостоящую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аждебную рабочему си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1438200" y="2914560"/>
            <a:ext cx="514692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отчуждение в процессе труд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вращение труда из специфичес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й (сущностной) деятель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нечто навязанное извне, сред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овлетворения животных потре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2517840" y="4210200"/>
            <a:ext cx="514656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чуждение родовой жизни человек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вращение социального (в том числ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образованной трудом природы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чуждую силу, служащую лиш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ством индивидуального выжи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3598920" y="5505480"/>
            <a:ext cx="514656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чуждение человека от человек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нтагонизация человеческих отнош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званная присвоением продукта тру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им человеком (не рабочим)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чинением ему самого процесса тр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ропология Маркс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чуждение труда и его социальные и экзистенциальные послед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3" descr="marx (6)"/>
          <p:cNvPicPr/>
          <p:nvPr/>
        </p:nvPicPr>
        <p:blipFill>
          <a:blip r:embed="rId1"/>
          <a:stretch/>
        </p:blipFill>
        <p:spPr>
          <a:xfrm>
            <a:off x="468360" y="4678200"/>
            <a:ext cx="1465200" cy="18986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4"/>
          <p:cNvSpPr/>
          <p:nvPr/>
        </p:nvSpPr>
        <p:spPr>
          <a:xfrm>
            <a:off x="6655680" y="1762200"/>
            <a:ext cx="212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Четыре уровня</a:t>
            </a:r>
            <a:br>
              <a:rPr sz="2000"/>
            </a:b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отч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4173480" y="5354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094200" y="434664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2014560" y="3338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934920" y="233208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431640" y="1654200"/>
            <a:ext cx="39592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уд непосредственно рад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требн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питал и труд ещё объедине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1511280" y="2662200"/>
            <a:ext cx="39592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новая торговл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труд отчасти станов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очником дох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2590920" y="3670200"/>
            <a:ext cx="39592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деление труда и деньг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труд целиком превращ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руд ради заработ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3670200" y="4678200"/>
            <a:ext cx="39592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грарный труд и рен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питал и труд выступают ещ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пецифических форма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ропология К. Маркс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уржуазное общество как общество тотального отч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1"/>
          <p:cNvSpPr/>
          <p:nvPr/>
        </p:nvSpPr>
        <p:spPr>
          <a:xfrm>
            <a:off x="4749840" y="5684760"/>
            <a:ext cx="39592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ный капита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ирает всякую природную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ственную определё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5937120" y="1654200"/>
            <a:ext cx="275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Этапы развития</a:t>
            </a:r>
            <a:br>
              <a:rPr sz="2000"/>
            </a:b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отчуждённого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4" descr="marx (6)"/>
          <p:cNvPicPr/>
          <p:nvPr/>
        </p:nvPicPr>
        <p:blipFill>
          <a:blip r:embed="rId1"/>
          <a:stretch/>
        </p:blipFill>
        <p:spPr>
          <a:xfrm>
            <a:off x="468360" y="4678200"/>
            <a:ext cx="1465200" cy="18986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 rot="10800000">
            <a:off x="179280" y="1869480"/>
            <a:ext cx="6478560" cy="449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ркс положил конец воззрению 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ство, как на механический агрега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дивидов, допускающий всяк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менения по воле начальства (или, вс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вно, по воле общества и правительства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никающий и изменяющийся случай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первые поставил социологию 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ную почву, установив понят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ственно-экономической формац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овокупности дан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зводственных отношений, установи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развитие таких формаций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ественно-исторический процесс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385680" y="4678200"/>
            <a:ext cx="261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И. Лен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Что такое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узь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род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как он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юют проти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циал-демократ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Ленин (2)"/>
          <p:cNvPicPr/>
          <p:nvPr/>
        </p:nvPicPr>
        <p:blipFill>
          <a:blip r:embed="rId1"/>
          <a:stretch/>
        </p:blipFill>
        <p:spPr>
          <a:xfrm>
            <a:off x="6656400" y="1978200"/>
            <a:ext cx="1914480" cy="243828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6"/>
          <p:cNvSpPr/>
          <p:nvPr/>
        </p:nvSpPr>
        <p:spPr>
          <a:xfrm>
            <a:off x="2841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2014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118728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934920" y="2446200"/>
            <a:ext cx="485784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иде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рическ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омер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жется внутренне противоречиво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история имеет сво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метом человеческую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2590920" y="4605480"/>
            <a:ext cx="4857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если человеческая деятель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дчиняется законам, историческ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ние не может приня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у наук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ваясь просто набором свед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исторической закономер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3"/>
          <p:cNvSpPr/>
          <p:nvPr/>
        </p:nvSpPr>
        <p:spPr>
          <a:xfrm>
            <a:off x="3417840" y="5684760"/>
            <a:ext cx="485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рицание свободы воли (фатализм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ность истории не спасает, так как 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транением человеческой специфи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траняется и самы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мет ис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108000" y="1366920"/>
            <a:ext cx="485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знан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омерности в приро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здаёт затруднений: объекты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ладающие волей и сознанием, лег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ть подчинёнными закон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5"/>
          <p:cNvSpPr/>
          <p:nvPr/>
        </p:nvSpPr>
        <p:spPr>
          <a:xfrm>
            <a:off x="1762200" y="3525840"/>
            <a:ext cx="485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им образом деятельность, направ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яем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лей и сознание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ожет регу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роватьс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ами, по определени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ависящими от воли и созна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4" descr="marx (6)"/>
          <p:cNvPicPr/>
          <p:nvPr/>
        </p:nvPicPr>
        <p:blipFill>
          <a:blip r:embed="rId1"/>
          <a:stretch/>
        </p:blipFill>
        <p:spPr>
          <a:xfrm>
            <a:off x="468360" y="4678200"/>
            <a:ext cx="1465200" cy="1898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25"/>
          <p:cNvSpPr/>
          <p:nvPr/>
        </p:nvSpPr>
        <p:spPr>
          <a:xfrm>
            <a:off x="5900760" y="1366920"/>
            <a:ext cx="3130560" cy="190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акон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) объективная,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ущественная, необходимая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стойчивая связь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ежду явлениями;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) научное положение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ображающее такую связ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2"/>
          <p:cNvSpPr/>
          <p:nvPr/>
        </p:nvSpPr>
        <p:spPr>
          <a:xfrm>
            <a:off x="287820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205092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122220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39528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971640" y="2446200"/>
            <a:ext cx="485784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ведение коллективны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н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рассматривать как объектив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условленное без того, чтобы отрица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этом свободу индивидуальной в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2625840" y="4605480"/>
            <a:ext cx="4857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мерами таких общностей являю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ственные класс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.е. групп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ей, занимающих одинаковое мес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истеме общественного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Классы как субъекты закономерной деятельност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>
            <a:off x="3454560" y="5684760"/>
            <a:ext cx="4857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и характеристи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лассов не зависят от воли и со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ленов общества, а обусловле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уктурой и характером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0"/>
          <p:cNvSpPr/>
          <p:nvPr/>
        </p:nvSpPr>
        <p:spPr>
          <a:xfrm>
            <a:off x="142920" y="1366920"/>
            <a:ext cx="485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сё же историческая закономе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ма, поскольку субъект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омерной деятельности не обяза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льно должны выступ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1"/>
          <p:cNvSpPr/>
          <p:nvPr/>
        </p:nvSpPr>
        <p:spPr>
          <a:xfrm>
            <a:off x="1798560" y="3525840"/>
            <a:ext cx="485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закономерности повед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циальных общностей проявля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 значимых характеристи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индивидуальных чле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3" descr="marx (6)"/>
          <p:cNvPicPr/>
          <p:nvPr/>
        </p:nvPicPr>
        <p:blipFill>
          <a:blip r:embed="rId1"/>
          <a:stretch/>
        </p:blipFill>
        <p:spPr>
          <a:xfrm>
            <a:off x="468360" y="4678200"/>
            <a:ext cx="1465200" cy="18986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5"/>
          <p:cNvSpPr/>
          <p:nvPr/>
        </p:nvSpPr>
        <p:spPr>
          <a:xfrm>
            <a:off x="5937120" y="1366920"/>
            <a:ext cx="3059280" cy="1727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ественные классы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–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льшие группы людей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личающиеся п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х месту в систем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щественног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извод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3"/>
          <p:cNvSpPr/>
          <p:nvPr/>
        </p:nvSpPr>
        <p:spPr>
          <a:xfrm rot="10800000">
            <a:off x="250560" y="186948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бщественном производстве сво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и люди вступают в определённы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ые, от их воли не зависящ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шения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изводственны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ноше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е соответству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ённой ступени развития 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альны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изводительных сил.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Совокупность этих производственных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отношений составляет экономическую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структуру общества, реальный базис,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на котором возвышается юридическая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и политическая надстройка и которому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соответствуют определённые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формы общественного созна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6050160" y="5037120"/>
            <a:ext cx="312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Маркс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 критике политичес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коном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marx (6)"/>
          <p:cNvPicPr/>
          <p:nvPr/>
        </p:nvPicPr>
        <p:blipFill>
          <a:blip r:embed="rId1"/>
          <a:stretch/>
        </p:blipFill>
        <p:spPr>
          <a:xfrm>
            <a:off x="6585120" y="1978200"/>
            <a:ext cx="1828800" cy="23716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5" name="Oval 5"/>
          <p:cNvSpPr/>
          <p:nvPr/>
        </p:nvSpPr>
        <p:spPr>
          <a:xfrm>
            <a:off x="7305840" y="3814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585400" y="3922560"/>
            <a:ext cx="1684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юдвигс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7"/>
          <p:cNvSpPr/>
          <p:nvPr/>
        </p:nvSpPr>
        <p:spPr>
          <a:xfrm>
            <a:off x="7016760" y="35622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213240" y="3346560"/>
            <a:ext cx="741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9"/>
          <p:cNvSpPr/>
          <p:nvPr/>
        </p:nvSpPr>
        <p:spPr>
          <a:xfrm>
            <a:off x="7701120" y="33465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7312320" y="2932200"/>
            <a:ext cx="1366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йзенбе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1"/>
          <p:cNvSpPr/>
          <p:nvPr/>
        </p:nvSpPr>
        <p:spPr>
          <a:xfrm>
            <a:off x="7593120" y="36338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7744320" y="3471840"/>
            <a:ext cx="1354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хенбе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3"/>
          <p:cNvSpPr/>
          <p:nvPr/>
        </p:nvSpPr>
        <p:spPr>
          <a:xfrm>
            <a:off x="7737480" y="3886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7456320" y="4030560"/>
            <a:ext cx="12412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андсх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5"/>
          <p:cNvSpPr/>
          <p:nvPr/>
        </p:nvSpPr>
        <p:spPr>
          <a:xfrm>
            <a:off x="6332400" y="30574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5657040" y="2625840"/>
            <a:ext cx="10432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нд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7760" y="1815840"/>
            <a:ext cx="381456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вид Штраус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8-18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руно Бауэр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9-188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28 июля 1804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андсху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3 сентября 1872 г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ехенбер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рл Мар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5 мая 1818 г. в Тр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4 марта 1883 г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онд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"/>
          <p:cNvSpPr/>
          <p:nvPr/>
        </p:nvSpPr>
        <p:spPr>
          <a:xfrm rot="10800000">
            <a:off x="286920" y="1977840"/>
            <a:ext cx="593892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юди сами делают свою историю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они её делаю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так, как и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здумаетс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и обстоятельства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не сами они выбра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которые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ются налицо, даны им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ешли от прошлог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833440" y="5037120"/>
            <a:ext cx="319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Маркс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осемнадцатое брюмер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уи Бонапарт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marx (6)"/>
          <p:cNvPicPr/>
          <p:nvPr/>
        </p:nvPicPr>
        <p:blipFill>
          <a:blip r:embed="rId1"/>
          <a:stretch/>
        </p:blipFill>
        <p:spPr>
          <a:xfrm>
            <a:off x="6585120" y="1978200"/>
            <a:ext cx="1828800" cy="237168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0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 материального произв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"/>
          <p:cNvSpPr/>
          <p:nvPr/>
        </p:nvSpPr>
        <p:spPr>
          <a:xfrm rot="10800000">
            <a:off x="286920" y="1977840"/>
            <a:ext cx="593892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ей можно отличать от живот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сознанию, по религии – вообщ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чему угодно. Сами они начина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личать себя от животных, как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инают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роизводи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еобходим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 средства к жизни, – шаг, котор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условлен их телесной организацие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зводя необходимые им сред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жизни, люди косвенным образ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зводят и само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альную жизн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6120360" y="5218200"/>
            <a:ext cx="28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Маркс и Ф. Энгельс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емецкая идеолог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marx (6)"/>
          <p:cNvPicPr/>
          <p:nvPr/>
        </p:nvPicPr>
        <p:blipFill>
          <a:blip r:embed="rId1"/>
          <a:stretch/>
        </p:blipFill>
        <p:spPr>
          <a:xfrm>
            <a:off x="6585120" y="1978200"/>
            <a:ext cx="1828800" cy="23716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териальный базис общества и его политико-идеологическая надстрой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3"/>
          <p:cNvSpPr/>
          <p:nvPr/>
        </p:nvSpPr>
        <p:spPr>
          <a:xfrm rot="10800000">
            <a:off x="250560" y="186948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В общественном производстве своей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жизни люди вступают в определённые,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необходимые, от их воли не зависящие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отношения – производственные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отношения, которые соответствуют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определённой ступени развития их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материальных производительных сил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вокупность этих производствен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шений составляет экономическ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руктуру общества, реальны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азис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котором возвышается юридическ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олитическ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дстройк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котор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тветствуют определённы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ы общественного созна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6050160" y="5037120"/>
            <a:ext cx="312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Маркс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 критике политичес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коном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marx (6)"/>
          <p:cNvPicPr/>
          <p:nvPr/>
        </p:nvPicPr>
        <p:blipFill>
          <a:blip r:embed="rId1"/>
          <a:stretch/>
        </p:blipFill>
        <p:spPr>
          <a:xfrm>
            <a:off x="6585120" y="1978200"/>
            <a:ext cx="1828800" cy="237168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ое развитие как смена общественно-экономических форм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"/>
          <p:cNvSpPr/>
          <p:nvPr/>
        </p:nvSpPr>
        <p:spPr>
          <a:xfrm rot="10800000">
            <a:off x="179280" y="1798200"/>
            <a:ext cx="647856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известной ступени своего разви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альны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изводительные сил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ства приходят в противоречие с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ующими производственны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ношениям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ли – что является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юридическим выражением последних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отношениями собственности, внутр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х они до сих пор развивались. 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орм развития производительных сил э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шения превращаются в их оковы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гд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ступает эпоха социальной революци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изменением экономической основ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лее или менее быстро происход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еворот во всей громадной надстройк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marx (6)"/>
          <p:cNvPicPr/>
          <p:nvPr/>
        </p:nvPicPr>
        <p:blipFill>
          <a:blip r:embed="rId1"/>
          <a:stretch/>
        </p:blipFill>
        <p:spPr>
          <a:xfrm>
            <a:off x="6585120" y="1978200"/>
            <a:ext cx="1828800" cy="23716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7"/>
          <p:cNvSpPr/>
          <p:nvPr/>
        </p:nvSpPr>
        <p:spPr>
          <a:xfrm>
            <a:off x="6050160" y="5037120"/>
            <a:ext cx="312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Маркс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 критике политичес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коном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0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75760" y="1420560"/>
            <a:ext cx="880596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 Гег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йствующая сила истории: «субстанция» или «самосознание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юдвиг Фейербах: антропологический матер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ропологический принцип в филосо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арл Маркс: исторический матер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ропология Мар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отч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уждение труда и его социальные и экзистенциальные послед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уржуазное общество как общество тотального отч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облема социальной (исторической) закономер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щественные классы как субъекты закономерн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материального 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уктура социальной реальности: материальный базис общества и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го политико-идеологическая надстрой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торическое развитие как смена общественно-экономических форм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авид Штраус и Бруно Бауэ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466560" y="2878200"/>
            <a:ext cx="44625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Д. Штра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изнь Иисуса, критически переработанна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35-183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арая и новая вер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1872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Б. Бауэ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истории Откровен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евангельской истории синоптико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1841-184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898560" y="1978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strauss (1)"/>
          <p:cNvPicPr/>
          <p:nvPr/>
        </p:nvPicPr>
        <p:blipFill>
          <a:blip r:embed="rId1"/>
          <a:stretch/>
        </p:blipFill>
        <p:spPr>
          <a:xfrm>
            <a:off x="5289480" y="1978200"/>
            <a:ext cx="2309760" cy="216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76" name="Picture 9" descr="bruno4"/>
          <p:cNvPicPr/>
          <p:nvPr/>
        </p:nvPicPr>
        <p:blipFill>
          <a:blip r:embed="rId2"/>
          <a:stretch/>
        </p:blipFill>
        <p:spPr>
          <a:xfrm>
            <a:off x="6764400" y="4354560"/>
            <a:ext cx="2058840" cy="215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г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 rot="10800000">
            <a:off x="2230560" y="1690200"/>
            <a:ext cx="683712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егель вынужден был строить систему, 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илософская система, по установившему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ядку, должна была заверши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бсолютной истиной того или иного рода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от же Гегель, который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дчёркива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эта вечная истина есть не что иное,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 логический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sp.: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орический) процесс,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...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идит себя вынужденным положи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ец этому процессу, так как надо же бы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му на чём-то закончить свою систему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именно, нужно было так представить себ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ец истории: человечество приход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нию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абсолютной идеи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ъявляет,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это познание абсолют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и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стигнуто в гегелевской философи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75600" y="4627440"/>
            <a:ext cx="266796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Энгельс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Людвиг Фейерб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конец классичес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ец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engels_ris-red (2)"/>
          <p:cNvPicPr/>
          <p:nvPr/>
        </p:nvPicPr>
        <p:blipFill>
          <a:blip r:embed="rId1"/>
          <a:stretch/>
        </p:blipFill>
        <p:spPr>
          <a:xfrm>
            <a:off x="358920" y="1690560"/>
            <a:ext cx="2162160" cy="269568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ладогегельянцы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г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 rot="10800000">
            <a:off x="2230560" y="1581840"/>
            <a:ext cx="6837120" cy="503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 anchorCtr="1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зятое в целом, учение Гегеля оставляло 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ирокий простор для самых различ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ктических партийных воззрений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, придававший главное значение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истем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Гегеля, мог быть доволь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сервативным в каждой из этих областей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религии и политике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 Тот же, кто главн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читал диалектический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етод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ог и 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лигии и в политике принадлежать к сам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айней оппозиции. Сам Гегель, несмотр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довольно частые в его сочинениях взрыв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волюционного гнева, в общем, по-видим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лонялся больше к консервативной стороне…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концу тридцатых годов раскол в его школ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ановился всё более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олее заметным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рьба велась ещё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илософским оружием, 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же не ради абстрактно-философских цел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75600" y="4627440"/>
            <a:ext cx="266796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Энгельс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Людвиг Фейерб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конец классичес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ец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engels_ris-red (2)"/>
          <p:cNvPicPr/>
          <p:nvPr/>
        </p:nvPicPr>
        <p:blipFill>
          <a:blip r:embed="rId1"/>
          <a:stretch/>
        </p:blipFill>
        <p:spPr>
          <a:xfrm>
            <a:off x="358920" y="1690560"/>
            <a:ext cx="2162160" cy="26956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ладогегельянцы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убстанция» или «самосознание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"/>
          <p:cNvSpPr/>
          <p:nvPr/>
        </p:nvSpPr>
        <p:spPr>
          <a:xfrm rot="10800000">
            <a:off x="2230560" y="1581840"/>
            <a:ext cx="6837120" cy="503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ый толчок дала книга Штрауса «Жизн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исуса», вышедшая в 1835 году. Проти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ложенной в этой книге теории возникнов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вангельских мифов выступил поздн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руно Бауэр, доказывавший, что целый ря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вангельских рассказов сфабрикован сами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вторами евангелий. Спор между Штраус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ауэром вёлся под видом философск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рьбы между «самосознанием»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убстанцией». Вопрос о том, возникли 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вангельские рассказы о чудесах путё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сознательного, основанного на традиц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дания мифов в недрах общины или же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и сфабрикованы самими евангелистами,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росся до вопроса о том, что явля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авной действующей силой во всемир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ории: «субстанция» или «самосознание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75600" y="4627440"/>
            <a:ext cx="266796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Энгельс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Людвиг Фейерб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конец классичес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ец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engels_ris-red (2)"/>
          <p:cNvPicPr/>
          <p:nvPr/>
        </p:nvPicPr>
        <p:blipFill>
          <a:blip r:embed="rId1"/>
          <a:stretch/>
        </p:blipFill>
        <p:spPr>
          <a:xfrm>
            <a:off x="358920" y="1690560"/>
            <a:ext cx="2162160" cy="269568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юдвиг Фейербах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ропологический матери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4102200" y="2770200"/>
            <a:ext cx="4930560" cy="34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критике философии Гегеля»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3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ность христианств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положения философии будущег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прос о бессмертии с точки зрения антрополог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спиритуализме и материализме, в особенности в их отношении к свободе вол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вдемониз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6-18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4857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feuerbach (1)"/>
          <p:cNvPicPr/>
          <p:nvPr/>
        </p:nvPicPr>
        <p:blipFill>
          <a:blip r:embed="rId1"/>
          <a:stretch/>
        </p:blipFill>
        <p:spPr>
          <a:xfrm>
            <a:off x="466560" y="1798560"/>
            <a:ext cx="331812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4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ропологический принцип в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5760" y="1457280"/>
            <a:ext cx="8589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Единство мышления и бытия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 котором трактовала философия тождества Шеллинга и Гегеля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еально лишь в человеке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– единственном субъекте мыш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человека отличает от животных не только способность мышления: если бы он не отличался от животных в своих ощущениях, то не отличался бы от них и в мышлении.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Сущность человека – это прежде всего чувственность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проявляющаяся в многообразии переживаний, стремлении к счастью, любви, т.е. жизни не только ума, но и сердц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ловек осознаёт себя человеком лишь в общении, в основе своей – чувственном, с другим человеком: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самосознание «Я» опосредовано сознанием «Ты»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Самосознание, следовательно, сопровожда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осознанием человеческой сущности как родовой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емление к единению с другим («Я» с «Ты»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буждает осознание принадлежности к род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аковое и есть разум (= любовь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чём эта родовая сущность осознаётся как тождественная во всех индивидах и образующая их родовое един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между родовой сущностью человека и его индивидуальным существованием имеется противоречие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разум, например (вопреки Канту) ограничен лишь в индивиде, но не в р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пыткой преодоления этого противоречия явля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елигия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9:28:21Z</dcterms:created>
  <dc:creator>Николай Бирюков / Nikolai Biryukov</dc:creator>
  <dc:description>Редакция мая 2008 г.</dc:description>
  <dc:language>en-US</dc:language>
  <cp:lastModifiedBy>LEGION</cp:lastModifiedBy>
  <dcterms:modified xsi:type="dcterms:W3CDTF">2014-11-11T09:59:12Z</dcterms:modified>
  <cp:revision>147</cp:revision>
  <dc:subject>Основы философии - Тема 16</dc:subject>
  <dc:title>Фейербах и Маркс: конец классической немецкой философии</dc:title>
</cp:coreProperties>
</file>