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3FD3-E34E-4ABC-B46E-FE4045C2DB9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66"/>
                </a:solidFill>
                <a:latin typeface="Arial"/>
              </a:rPr>
              <a:t>Государственное образовательное учреждение среднего профессионального образования Комитете по здравоохранению Администрации Волгоградской области «Медицинский колледж № 1, Волгоград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96A8-00A1-40C0-9504-08106D9C02B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-третьих</a:t>
            </a:r>
            <a:r>
              <a:rPr b="0" i="1" lang="ru-RU" sz="1200" spc="-1" strike="noStrike">
                <a:solidFill>
                  <a:srgbClr val="ff3300"/>
                </a:solidFill>
                <a:latin typeface="Arial"/>
              </a:rPr>
              <a:t>, не подходить близко к рою пчел, ос и шмелей без специальной одежды и вообще не делать резких движений, находясь рядом с этими насекомыми, не размахивать руками, головой, не бегать. Если пчела или шмель сели вам на руку, постарайтесь просто смахнуть другой рукой, не убивать, иначе вы можете разозлить насекомое, и оно вас точно укус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-четвертых</a:t>
            </a:r>
            <a:r>
              <a:rPr b="0" i="1" lang="ru-RU" sz="1200" spc="-1" strike="noStrike">
                <a:solidFill>
                  <a:srgbClr val="ff3300"/>
                </a:solidFill>
                <a:latin typeface="Arial"/>
              </a:rPr>
              <a:t>, в комнате, где вы будете спать, заранее зажигайте пластины, спирали от комаров, мошек и других насекомых и тогда ночью вы не будете укушены насекомыми. Если у вас аллергия на запахи спирали, пластин, то вы можете поставить на окна москитные сетки и спать спокойно всю ночь с открытыми ок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37F9-8ED7-4152-8C82-56A1B4E1165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Список используемой лит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-R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 «Первая медицинская помощ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 Yandex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овременная медицинская энциклопед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80AF-E832-4496-B02A-69C4148CCE3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Большое спасибо за просмотр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99ff"/>
                </a:solidFill>
                <a:latin typeface="Arial"/>
              </a:rPr>
              <a:t>Берегите себя и своих близких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B029-56BE-4291-9AAB-3A6740D6639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При укусах насекомых важно быстро и правильно оказать первую помощ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Arial"/>
              </a:rPr>
              <a:t>1.Чтобы удалить уже присосавшегося клеща достаточно капнуть на него спиртом, растительным маслом или просто чем то жирным, после чего можно взяться за насекомое пинцетом и аккуратно удал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3853-3261-4758-9715-BAEB9A1F86A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и наличии аллергических реакций на яд пчелы, осы или шмеля, человек может потерять сознание, может начаться рвота или выступить крапивница. В таких случаях также рекомендуется обратиться к врач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мары, москиты и другие мелкие насекомые встречаются, к сожалению, повсеместно, в том числе и в черте города. Чаще всего неопасны, если не являются переносчиком инфекции (как, например, малярийный комар, который отличается от обыкновенного гораздо большими размерам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410F-2C63-4DB4-A8DE-A3B6FE31FCD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ллергия на укусы таких насекомых встречается крайне редко, и в этом случае необходимо сразу обратиться к врачу. Для уменьшения боли и зуда от укусов следует принимать те же меры, что и при укусах пчел, шмелей и ос. Также не забывайте, что расчесывать укушенное место не стоит, потому что это увеличивает риск занесения инфекции. Маленьким детям в этом случае можно заклеить место укуса пластырем, под который кладется кусочек ваты, пропитанный снимающей зуд жидкостью. В большинстве случаев укусы комаров, москитов и других мелких насекомых весьма неприятны, но не опасны (это не касается одновременных множественных случаев укусов, которые являются поводом обратиться к врач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81CC-CF64-42A3-A02D-EA33374922C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Arial"/>
              </a:rPr>
              <a:t>- А-а-а, мама, мама, меня укусила пчела – слышите вы громкий рев своего ребенка. Вы подбегаете и пытаетесь его успокоить, но боль и зуд после укуса пчелы не отпускает, и ваше чадо продолжает плакать. Вы пытаетесь отвлечь ребенка от боли: «Ой, смотри, какая птичка полетела!», а в это время ищете аптечку с зеленкой, и думаете «больше в этот лес гулять мы никогда не пойдем!». Но! Пчелы летают везде и полностью уберечь своего маленького малыша от укуса пчел, шмелей и других насекомых просто невозможно. Да и вы, взрослые, сами можете быть покусаны всё теми же осами, комарами, пчелами где угодно: и на улице в городе, и в саду, и в парке и просто в лесу на свежем воздухе. Если вы будете знать, как можно быстро помочь пострадавшему при укусах насекомых, будете носить с собой минимум необходимых лекарственных средств, то ситуация с укусом не застанет вас врасплох. Сегодня с журналом Мир Советов мы и рассмотрим, как действовать в случае укусов насекомых (пчел, шмелей и т.д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BD65-00E8-4444-A4D0-F5F8AF73FA7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66"/>
                </a:solidFill>
                <a:latin typeface="Arial"/>
              </a:rPr>
              <a:t>Укусы пчел, ос, шме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Укусы пчел, ос, шмелей опасны для людей с повышенной чувствительностью к их укусам (это могут быть и взрослые с чувствительной кожей, но чаще всего чувствительны к укусам дети). Также укусы опасны, в том случае, если человека укусило не одно насекомое, а сразу несколько или целый рой, поэтому действовать надо будет немедленно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При укусе пчел, ос, шмелей сразу возникает резкая боль, а затем покраснение и отек кожи вокруг укуса. У человека, укушенного насекомым, может быть тошнота и даже рвота или просто общая слабость организма. Если у человека аллергия на насекомых, то может быть и красные высыпания на коже в виде красной сыпи, или так называемой «крапивницы». Если человек вдруг внезапно потеряет сознание после укуса, МирСоветов может вас успокоить, такое тоже возможно, так как каждый человек индивидуален, и реакция у всех разная. Потеря сознания – это реакция организма на яд, выделяемый насекомым, в кровь человека. Необходимо сразу принять соответствующие меры, чтобы привести человека в чувства. Рассмотрим основные правила оказания первой помощи при укусах пчел, ос, шм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2FEA-B806-4D7F-B06A-233BB548634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c1c1c"/>
                </a:solidFill>
                <a:latin typeface="Arial"/>
              </a:rPr>
              <a:t>Укусы комаров, москитов и других мелких насеком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c1c1c"/>
                </a:solidFill>
                <a:latin typeface="Arial"/>
              </a:rPr>
              <a:t>Множественные укусы комаров, москитов, слепней, оводов и других мелких насекомых также опасны для человека, особенно для тех, у кого есть аллергия к их укусам. При укусе таких насекомых возникает непродолжительная боль, затем зуд и небольшое покраснение участка кожи. В случае повышенной чувствительности человека к укусам комаров, москитов может появиться аллергия в виде красной сыпи. При укусе комарами, москитами и другими мелкими насекомыми правила оказания первой помощи практически те же, что и при укусе пчел, шмелей и ос. Рассмотрим 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FDCB-D098-4AF9-A5EC-1C8C7A2C8B9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ff00"/>
                </a:solidFill>
                <a:uFillTx/>
                <a:latin typeface="Arial"/>
              </a:rPr>
              <a:t>Правила оказания пер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Во-первых, необходимо удержаться, чтобы не тереть кожу в месте укуса, даже если очень хочется. Мир Советов хотел напомнить, что и ребенка тоже нужно предупредить, чтобы не расчёсывал укус до красноты, так как это приведет к еще большему зуду и длительному зажива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Во-вторых, наложите на место укуса марлевую повязку, смоченную нашатырным спиртом или водк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Внимание!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Если вас укусил малярийный комар, сразу обратитесь в инфекционную больницу за помощью. Отличить малярийного комара от обыкновенного достаточно легко: тельце малярийного комара, сидящего на какой-либо поверхности, располагается под углом к ней, в то время как у обычного комара тельце в состоянии покоя расположено параллельно относительно той же самой поверхности. Среди других отличительных признаков малярийного комара - более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длинные ноги и темные пятна на крыль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CC5D-D933-4D84-AD2B-21A8A905654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оветы: как уберечься от укусов насеком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-первых</a:t>
            </a:r>
            <a:r>
              <a:rPr b="0" lang="ru-RU" sz="11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для предупреждения укусов комаров, москитов и других насекомых необходимо смазывать открытые участки тела средством против комаров. Это и маскитол , и фумитокс, и тайга и т.д. Мажьтесь ими перед выходом на улицу, и каждый раз после выхода из воды в случае куп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-вторых</a:t>
            </a: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, можно использовать специальную защитные сетчатые одежды, которые защищают лицо и всё тело от укусов комаров, слепней и т.д. Либо же нужно одеваться полностью в закрытую одежду: рубашку с длинными рукавами и длинные брю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B9F0-3D2E-4489-9204-E22CEA52DBF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E7790-38CE-4125-B0EA-A50D597FF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75FDE-4D9D-4ED1-BC1D-9ECFF365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6F906-CB28-4060-BB3B-8DC1399AF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A304B-750F-4752-BF3B-9B36A7003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6325-D96D-4DAF-9B6B-FB887D122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5C42D-0863-4ED0-AF85-21A6D6DA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9F6B-E4AE-4C62-848A-B25BA8F8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E034F-B2BC-482A-8311-857BB4DF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CEAD-E912-434C-9B70-ADEBE66A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5A98-8D55-46A6-B4B9-4FCD308C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D7A63-3FA9-4301-B460-381EB3EC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E8684-283B-4C34-A588-CF21E3C9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BDE36-A92C-4EAA-BF21-F7696ECB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33A5-4974-4DC5-BA51-0DBB776A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8441-56D1-49F2-BC5A-65EF41A9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04B1-6A57-4563-A746-F439BC059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7695-A152-44E9-AF2B-AFF2A7CE8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36650-10C6-471C-826B-14913D076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CAF50-78C5-490C-8D81-D7126F80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FAB3B-1A5D-4283-AB30-EEEB0673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CC045-97B4-4BF6-96FA-EE8C8A16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8707E-0D4F-4BED-A457-490FACBC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06AC3-5734-4F76-A325-0F714923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E3A89-4AE4-4717-9410-5B950CFF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7A5FA-350F-4FAA-8836-FB7AE61A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3F29B-4FC7-4BCC-B55B-E96303D8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AB49B-82A5-40B2-8185-E5CE950A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19E1C-8D46-4D31-A527-D5EA63C1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4739F-96D4-4B7B-988C-069EE12FF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1F679-5527-429F-9E86-791409AE6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D9FAC-8538-49AB-9CAE-A118898C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EB134-A00E-4937-942E-57766829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CEC8E-82DA-4056-8596-F72BDFAB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7F758-D6BA-493A-BB48-85E22D7E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93C78-1EAE-4B37-A397-D4BB68B8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D86BE-0C92-4A5E-8583-9763745C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B642-58E2-4EC3-B5E7-BC5A0066F189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5C02-946B-4352-A7BE-95ADC2C88D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F182-231B-4DD5-8DE0-F4130BC4AB28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0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66"/>
                </a:solidFill>
                <a:latin typeface="Arial"/>
              </a:rPr>
              <a:t>Государственное образовательное учреждение среднего профессионального образования Комитете по здравоохранению Администрации Волгоградской области «Медицинский колледж № 1, Волгоград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0" y="18684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Первая помощь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при  укусах насекомых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4932360" y="5273640"/>
            <a:ext cx="386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Arial"/>
              </a:rPr>
              <a:t>Выполнила Розанова Алёна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3266640" y="6110280"/>
            <a:ext cx="216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лгоград 20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г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4"/>
          <p:cNvSpPr/>
          <p:nvPr/>
        </p:nvSpPr>
        <p:spPr>
          <a:xfrm>
            <a:off x="808200" y="352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324000" y="476280"/>
            <a:ext cx="446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468360" y="765000"/>
            <a:ext cx="511344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-третьих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, не подходить близко к рою пчел, ос и шмелей без специальной одежды и вообще не делать резких движений, находясь рядом с этими насекомыми, не размахивать руками, головой, не бегать. Если пчела или шмель сели вам на руку, постарайтесь просто смахнуть другой рукой, не убивать, иначе вы можете разозлить насекомое, и оно вас точно укусит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-четвертых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, в комнате, где вы будете спать, заранее зажигайте пластины, спирали от комаров, мошек и других насекомых и тогда ночью вы не будете укушены насекомыми. Если у вас аллергия на запахи спирали, пластин, то вы можете поставить на окна москитные сетки и спать спокойно всю ночь с открытыми окнам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7" descr="ffhfh"/>
          <p:cNvPicPr/>
          <p:nvPr/>
        </p:nvPicPr>
        <p:blipFill>
          <a:blip r:embed="rId1"/>
          <a:stretch/>
        </p:blipFill>
        <p:spPr>
          <a:xfrm>
            <a:off x="6012000" y="981000"/>
            <a:ext cx="2735280" cy="482436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7850"/>
                            </p:stCondLst>
                            <p:childTnLst>
                              <p:par>
                                <p:cTn id="2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4"/>
          <p:cNvSpPr/>
          <p:nvPr/>
        </p:nvSpPr>
        <p:spPr>
          <a:xfrm>
            <a:off x="250920" y="260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Список используемой литератур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755640" y="1413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D-R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иск «Первая медицинская помощь»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755640" y="198900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ww. Yandex.r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755640" y="263700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овременная медицинская энциклопедия»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WordArt 5"/>
          <p:cNvSpPr txBox="1"/>
          <p:nvPr/>
        </p:nvSpPr>
        <p:spPr>
          <a:xfrm>
            <a:off x="0" y="765000"/>
            <a:ext cx="914400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Большое спасибо за просмотр!!!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468360" y="3645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99ff"/>
                </a:solidFill>
                <a:latin typeface="Arial"/>
              </a:rPr>
              <a:t>Берегите себя и своих близких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При укусах насекомых важно быстро и правильно оказать первую помощ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447840" y="1936800"/>
            <a:ext cx="869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1.Чтобы удалить уже присосавшегося клеща достаточно капнуть на него спиртом, растительным маслом или просто чем то жирным, после чего можно взяться за насекомое пинцетом и аккуратно удалить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9" descr="Клещ"/>
          <p:cNvPicPr/>
          <p:nvPr/>
        </p:nvPicPr>
        <p:blipFill>
          <a:blip r:embed="rId1"/>
          <a:stretch/>
        </p:blipFill>
        <p:spPr>
          <a:xfrm>
            <a:off x="611280" y="3357720"/>
            <a:ext cx="3744720" cy="3311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hgfhjg"/>
          <p:cNvPicPr/>
          <p:nvPr/>
        </p:nvPicPr>
        <p:blipFill>
          <a:blip r:embed="rId2"/>
          <a:stretch/>
        </p:blipFill>
        <p:spPr>
          <a:xfrm>
            <a:off x="4572000" y="3357720"/>
            <a:ext cx="3781440" cy="324000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9" descr="аркенек"/>
          <p:cNvPicPr/>
          <p:nvPr/>
        </p:nvPicPr>
        <p:blipFill>
          <a:blip r:embed="rId2"/>
          <a:stretch/>
        </p:blipFill>
        <p:spPr>
          <a:xfrm>
            <a:off x="0" y="3213000"/>
            <a:ext cx="4427640" cy="3645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ггггг"/>
          <p:cNvPicPr/>
          <p:nvPr/>
        </p:nvPicPr>
        <p:blipFill>
          <a:blip r:embed="rId3"/>
          <a:stretch/>
        </p:blipFill>
        <p:spPr>
          <a:xfrm>
            <a:off x="0" y="0"/>
            <a:ext cx="4427640" cy="32130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4"/>
          <p:cNvSpPr/>
          <p:nvPr/>
        </p:nvSpPr>
        <p:spPr>
          <a:xfrm>
            <a:off x="4788000" y="262800"/>
            <a:ext cx="35272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и наличии аллергических реакций на яд пчелы, осы или шмеля, человек может потерять сознание, может начаться рвота или выступить крапивница. В таких случаях также рекомендуется обратиться к врачу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омары, москиты и другие мелкие насекомые встречаются, к сожалению, повсеместно, в том числе и в черте города. Чаще всего неопасны, если не являются переносчиком инфекции (как, например, малярийный комар, который отличается от обыкновенного гораздо большими размерами)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6" descr="63899m"/>
          <p:cNvPicPr/>
          <p:nvPr/>
        </p:nvPicPr>
        <p:blipFill>
          <a:blip r:embed="rId1"/>
          <a:stretch/>
        </p:blipFill>
        <p:spPr>
          <a:xfrm>
            <a:off x="0" y="3284640"/>
            <a:ext cx="4572000" cy="3573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img_17192963_31_4"/>
          <p:cNvPicPr/>
          <p:nvPr/>
        </p:nvPicPr>
        <p:blipFill>
          <a:blip r:embed="rId2"/>
          <a:stretch/>
        </p:blipFill>
        <p:spPr>
          <a:xfrm>
            <a:off x="0" y="0"/>
            <a:ext cx="4572000" cy="328464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12"/>
          <p:cNvSpPr/>
          <p:nvPr/>
        </p:nvSpPr>
        <p:spPr>
          <a:xfrm>
            <a:off x="468360" y="26028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660066"/>
                </a:solidFill>
                <a:uFillTx/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4500720" y="0"/>
            <a:ext cx="4392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Аллергия на укусы таких насекомых встречается крайне редко, и в этом случае необходимо сразу обратиться к врачу. Для уменьшения боли и зуда от укусов следует принимать те же меры, что и при укусах пчел, шмелей и ос. Также не забывайте, что расчесывать укушенное место не стоит, потому что это увеличивает риск занесения инфекции. Маленьким детям в этом случае можно заклеить место укуса пластырем, под который кладется кусочек ваты, пропитанный снимающей зуд жидкостью. В большинстве случаев укусы комаров, москитов и других мелких насекомых весьма неприятны, но не опасны (это не касается одновременных множественных случаев укусов, которые являются поводом обратиться к врачу)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hkj;"/>
          <p:cNvPicPr/>
          <p:nvPr/>
        </p:nvPicPr>
        <p:blipFill>
          <a:blip r:embed="rId1"/>
          <a:stretch/>
        </p:blipFill>
        <p:spPr>
          <a:xfrm>
            <a:off x="0" y="3645000"/>
            <a:ext cx="3174840" cy="3213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6"/>
          <p:cNvSpPr/>
          <p:nvPr/>
        </p:nvSpPr>
        <p:spPr>
          <a:xfrm>
            <a:off x="3203640" y="260280"/>
            <a:ext cx="5545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- А-а-а, мама, мама, меня укусила пчела – слышите вы громкий рев своего ребенка. Вы подбегаете и пытаетесь его успокоить, но боль и зуд после укуса пчелы не отпускает, и ваше чадо продолжает плакать. Вы пытаетесь отвлечь ребенка от боли: «Ой, смотри, какая птичка полетела!», а в это время ищете аптечку с зеленкой, и думаете «больше в этот лес гулять мы никогда не пойдем!». Но! Пчелы летают везде и полностью уберечь своего маленького малыша от укуса пчел, шмелей и других насекомых просто невозможно. Да и вы, взрослые, сами можете быть покусаны всё теми же осами, комарами, пчелами где угодно: и на улице в городе, и в саду, и в парке и просто в лесу на свежем воздухе. Если вы будете знать, как можно быстро помочь пострадавшему при укусах насекомых, будете носить с собой минимум необходимых лекарственных средств, то ситуация с укусом не застанет вас врасплох. Сегодня с журналом Мир Советов мы и рассмотрим, как действовать в случае укусов насекомых (пчел, шмелей и т.д.)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7" descr="puioyioo"/>
          <p:cNvPicPr/>
          <p:nvPr/>
        </p:nvPicPr>
        <p:blipFill>
          <a:blip r:embed="rId2"/>
          <a:stretch/>
        </p:blipFill>
        <p:spPr>
          <a:xfrm>
            <a:off x="0" y="333360"/>
            <a:ext cx="3059280" cy="302436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5"/>
          <p:cNvSpPr/>
          <p:nvPr/>
        </p:nvSpPr>
        <p:spPr>
          <a:xfrm>
            <a:off x="179280" y="0"/>
            <a:ext cx="5329440" cy="66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Укусы пчел, ос, шмелей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Укусы пчел, ос, шмелей опасны для людей с повышенной чувствительностью к их укусам (это могут быть и взрослые с чувствительной кожей, но чаще всего чувствительны к укусам дети). Также укусы опасны, в том случае, если человека укусило не одно насекомое, а сразу несколько или целый рой, поэтому действовать надо будет немедленно!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При укусе пчел, ос, шмелей сразу возникает резкая боль, а затем покраснение и отек кожи вокруг укуса. У человека, укушенного насекомым, может быть тошнота и даже рвота или просто общая слабость организма. Если у человека аллергия на насекомых, то может быть и красные высыпания на коже в виде красной сыпи, или так называемой «крапивницы». Если человек вдруг внезапно потеряет сознание после укуса, МирСоветов может вас успокоить, такое тоже возможно, так как каждый человек индивидуален, и реакция у всех разная. Потеря сознания – это реакция организма на яд, выделяемый насекомым, в кровь человека. Необходимо сразу принять соответствующие меры, чтобы привести человека в чувства. Рассмотрим основные правила оказания первой помощи при укусах пчел, ос, шмелей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6" descr="i"/>
          <p:cNvPicPr/>
          <p:nvPr/>
        </p:nvPicPr>
        <p:blipFill>
          <a:blip r:embed="rId1"/>
          <a:stretch/>
        </p:blipFill>
        <p:spPr>
          <a:xfrm>
            <a:off x="5867280" y="404640"/>
            <a:ext cx="3025800" cy="2160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пчагд"/>
          <p:cNvPicPr/>
          <p:nvPr/>
        </p:nvPicPr>
        <p:blipFill>
          <a:blip r:embed="rId2"/>
          <a:stretch/>
        </p:blipFill>
        <p:spPr>
          <a:xfrm>
            <a:off x="5867280" y="3933720"/>
            <a:ext cx="3032280" cy="244800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77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77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77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77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0" dur="77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2" dur="77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77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77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6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5"/>
          <p:cNvSpPr/>
          <p:nvPr/>
        </p:nvSpPr>
        <p:spPr>
          <a:xfrm>
            <a:off x="4643280" y="189000"/>
            <a:ext cx="4249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Укусы комаров, москитов и других мелких насекомых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Множественные укусы комаров, москитов, слепней, оводов и других мелких насекомых также опасны для человека, особенно для тех, у кого есть аллергия к их укусам. При укусе таких насекомых возникает непродолжительная боль, затем зуд и небольшое покраснение участка кожи. В случае повышенной чувствительности человека к укусам комаров, москитов может появиться аллергия в виде красной сыпи. При укусе комарами, москитами и другими мелкими насекомыми правила оказания первой помощи практически те же, что и при укусе пчел, шмелей и ос. Рассмотрим их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6" descr="63899m"/>
          <p:cNvPicPr/>
          <p:nvPr/>
        </p:nvPicPr>
        <p:blipFill>
          <a:blip r:embed="rId1"/>
          <a:stretch/>
        </p:blipFill>
        <p:spPr>
          <a:xfrm>
            <a:off x="0" y="0"/>
            <a:ext cx="4643280" cy="1989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папа"/>
          <p:cNvPicPr/>
          <p:nvPr/>
        </p:nvPicPr>
        <p:blipFill>
          <a:blip r:embed="rId2"/>
          <a:stretch/>
        </p:blipFill>
        <p:spPr>
          <a:xfrm>
            <a:off x="0" y="1989000"/>
            <a:ext cx="2195640" cy="2232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0debbcfa5d9db1cb051c45e33fd24cd3"/>
          <p:cNvPicPr/>
          <p:nvPr/>
        </p:nvPicPr>
        <p:blipFill>
          <a:blip r:embed="rId3"/>
          <a:stretch/>
        </p:blipFill>
        <p:spPr>
          <a:xfrm>
            <a:off x="2195640" y="1989000"/>
            <a:ext cx="2447640" cy="2232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hghgjgj"/>
          <p:cNvPicPr/>
          <p:nvPr/>
        </p:nvPicPr>
        <p:blipFill>
          <a:blip r:embed="rId4"/>
          <a:stretch/>
        </p:blipFill>
        <p:spPr>
          <a:xfrm>
            <a:off x="0" y="4273560"/>
            <a:ext cx="4643280" cy="258444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4"/>
          <p:cNvSpPr/>
          <p:nvPr/>
        </p:nvSpPr>
        <p:spPr>
          <a:xfrm>
            <a:off x="684360" y="1773360"/>
            <a:ext cx="7775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о-первых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, необходимо удержаться, чтобы не тереть кожу в месте укуса, даже если очень хочется. Мир Советов хотел напомнить, что и ребенка тоже нужно предупредить, чтобы не расчёсывал укус до красноты, так как это приведет к еще большему зуду и длительному заживанию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о-вторых,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наложите на место укуса марлевую повязку, смоченную нашатырным спиртом или водкой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нимание!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Если вас укусил малярийный комар, сразу обратитесь в инфекционную больницу за помощью. Отличить малярийного комара от обыкновенного достаточно легко: тельце малярийного комара, сидящего на какой-либо поверхности, располагается под углом к ней, в то время как у обычного комара тельце в состоянии покоя расположено параллельно относительно той же самой поверхности. Среди других отличительных признаков малярийного комара - более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длинные ноги и темные пятна на крыльях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250920" y="54936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Правила оказания первой помощ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676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4"/>
          <p:cNvSpPr/>
          <p:nvPr/>
        </p:nvSpPr>
        <p:spPr>
          <a:xfrm>
            <a:off x="324000" y="620640"/>
            <a:ext cx="5472000" cy="54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оветы: как уберечься от укусов насекомых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-первых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ля предупреждения укусов комаров, москитов и других насекомых необходимо смазывать открытые участки тела средством против комаров. Это и маскитол , и фумитокс, и тайга и т.д. Мажьтесь ими перед выходом на улицу, и каждый раз после выхода из воды в случае купания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-вторых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, можно использовать специальную защитные сетчатые одежды, которые защищают лицо и всё тело от укусов комаров, слепней и т.д. Либо же нужно одеваться полностью в закрытую одежду: рубашку с длинными рукавами и длинные брюки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7" descr="ffhfh"/>
          <p:cNvPicPr/>
          <p:nvPr/>
        </p:nvPicPr>
        <p:blipFill>
          <a:blip r:embed="rId1"/>
          <a:stretch/>
        </p:blipFill>
        <p:spPr>
          <a:xfrm>
            <a:off x="7236000" y="765000"/>
            <a:ext cx="1728720" cy="1579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вапавр"/>
          <p:cNvPicPr/>
          <p:nvPr/>
        </p:nvPicPr>
        <p:blipFill>
          <a:blip r:embed="rId2"/>
          <a:stretch/>
        </p:blipFill>
        <p:spPr>
          <a:xfrm>
            <a:off x="7236000" y="2565360"/>
            <a:ext cx="1706400" cy="1511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варпаопро"/>
          <p:cNvPicPr/>
          <p:nvPr/>
        </p:nvPicPr>
        <p:blipFill>
          <a:blip r:embed="rId3"/>
          <a:stretch/>
        </p:blipFill>
        <p:spPr>
          <a:xfrm>
            <a:off x="7236000" y="4365720"/>
            <a:ext cx="1657080" cy="172728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5:44:59Z</dcterms:created>
  <dc:creator>Admin</dc:creator>
  <dc:description/>
  <dc:language>en-US</dc:language>
  <cp:lastModifiedBy>LEGION</cp:lastModifiedBy>
  <dcterms:modified xsi:type="dcterms:W3CDTF">2015-05-12T08:43:32Z</dcterms:modified>
  <cp:revision>16</cp:revision>
  <dc:subject/>
  <dc:title>Государственное образовательное учреждение среднего профессионального образования Комитете по здравоохранению Администрации Волгоградской области «Медицинский колледж № 1, Волгоград»</dc:title>
</cp:coreProperties>
</file>