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A890-D70C-4AC5-9D5D-5EA0ECB305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826-4A83-4288-BC89-71D5C27BC4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7509-D749-4631-975D-6A6CFC6AA9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 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 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397-D96D-48D8-B9E3-904C46A8B3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спасибо за просмотр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EC58-DD6D-4C95-8CB8-FB6DAFF855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2D27-14F2-4F11-89CD-739E4F587C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4369-F2F1-4FAA-8CF4-7D9AD068B7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CED7-99B1-4AEB-8630-E15BCA7198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90F-6A52-4A80-8389-5E7FAB6AA8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AE0E-3A47-4565-ADD7-E33A5ADBE5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6CA-1666-4D4A-B98F-0D3D2ED2E5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первых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вторых, наложите на место укуса марлевую повязку, смоченную нашатырным спиртом или вод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42CC-4D09-42F5-A280-4772C889D2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2348-032E-4D37-85EE-8C950F89B4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10E1-729B-422E-A96B-00ED08EC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5E83-81E2-4347-A5EB-5D2707AE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2090-8B70-4D98-852B-8C2D561D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559C-6563-4E63-9D49-4540C0AB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BD84-A8CD-4C84-B1C5-3EA953D8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C7EB-D31F-448E-A02E-CEBAE512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078F-4B1C-42AA-93EF-518670F9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925-2265-4681-B36C-7632D790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28D4-8E85-4EB0-B8B1-B81629A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86C1-B056-4EE5-8287-44D1DA0B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36A-E581-43E2-9978-C644744D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DE10-BFAE-4644-BBCE-5C37210D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7315-B1D1-4661-8B03-AE96421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9280-A3E8-4406-A138-612C3CC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2B3D-5270-45EE-A01A-6B13C88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E51D-4155-4137-B8B7-1560A434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DA37-07C3-4B84-9818-4EC510EB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DCB0-0BCA-4A93-B17A-029A43CB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D6D3-A461-49D7-8E9E-8BD781BA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DE4D-C4FB-4EF2-BDD6-B0193321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3F85-A748-4BA5-9980-111B2D77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0354-9FA4-42AD-9A05-13D732E9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3D3E-4696-4FCC-8F94-DE64616F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7CC6-8D5D-4D73-972C-E14120F9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C3BE-4CCB-4A38-BE11-25F8BB2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963E-C2F4-4BA4-A6E0-224DC34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D8D3-D988-4E67-88B3-FAE080B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E685-B325-4675-81EF-6483F483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07531-782D-4938-96D5-9F8581DC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4C5D-403D-428E-8ECF-EF85B7CB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C125-8E80-4973-A15F-83885EEA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DA3D-0ED2-4827-84C7-CD6ED4C1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5F1B-DE5E-4CAD-9854-8E8C0216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4049-BCAF-4A50-8D22-CD1099B8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7642-B101-49A0-BC58-6B6051AF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282E-B02A-4F03-8F25-28BBCA7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9D65-52E6-4EEE-8F6A-E2D91A73778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6D04-7A1C-4CAE-AFFE-6FCD3BFAE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55F-ED72-4E01-8094-7E9A379A660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868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ервая помощ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ри  укусах насекомы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932360" y="5273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ыполнила Розанова Алё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66640" y="6110280"/>
            <a:ext cx="21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гоград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476280"/>
            <a:ext cx="44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765000"/>
            <a:ext cx="511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третьи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четверты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ffhfh"/>
          <p:cNvPicPr/>
          <p:nvPr/>
        </p:nvPicPr>
        <p:blipFill>
          <a:blip r:embed="rId1"/>
          <a:stretch/>
        </p:blipFill>
        <p:spPr>
          <a:xfrm>
            <a:off x="6012000" y="981000"/>
            <a:ext cx="2735280" cy="48243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564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 «Первая медицинская помощ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564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Yandex.r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5640" y="2637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ременная медицинская энциклопедия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5"/>
          <p:cNvSpPr txBox="1"/>
          <p:nvPr/>
        </p:nvSpPr>
        <p:spPr>
          <a:xfrm>
            <a:off x="0" y="765000"/>
            <a:ext cx="914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ое спасибо за просмотр!!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7840" y="1936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Клещ"/>
          <p:cNvPicPr/>
          <p:nvPr/>
        </p:nvPicPr>
        <p:blipFill>
          <a:blip r:embed="rId1"/>
          <a:stretch/>
        </p:blipFill>
        <p:spPr>
          <a:xfrm>
            <a:off x="611280" y="3357720"/>
            <a:ext cx="374472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gfhjg"/>
          <p:cNvPicPr/>
          <p:nvPr/>
        </p:nvPicPr>
        <p:blipFill>
          <a:blip r:embed="rId2"/>
          <a:stretch/>
        </p:blipFill>
        <p:spPr>
          <a:xfrm>
            <a:off x="4572000" y="3357720"/>
            <a:ext cx="37814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аркенек"/>
          <p:cNvPicPr/>
          <p:nvPr/>
        </p:nvPicPr>
        <p:blipFill>
          <a:blip r:embed="rId2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гггг"/>
          <p:cNvPicPr/>
          <p:nvPr/>
        </p:nvPicPr>
        <p:blipFill>
          <a:blip r:embed="rId3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788000" y="262800"/>
            <a:ext cx="352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63899m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img_17192963_31_4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6836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kj;"/>
          <p:cNvPicPr/>
          <p:nvPr/>
        </p:nvPicPr>
        <p:blipFill>
          <a:blip r:embed="rId1"/>
          <a:stretch/>
        </p:blipFill>
        <p:spPr>
          <a:xfrm>
            <a:off x="0" y="3645000"/>
            <a:ext cx="3174840" cy="3213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3203640" y="26028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puioyioo"/>
          <p:cNvPicPr/>
          <p:nvPr/>
        </p:nvPicPr>
        <p:blipFill>
          <a:blip r:embed="rId2"/>
          <a:stretch/>
        </p:blipFill>
        <p:spPr>
          <a:xfrm>
            <a:off x="0" y="33336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79280" y="0"/>
            <a:ext cx="532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пчагд"/>
          <p:cNvPicPr/>
          <p:nvPr/>
        </p:nvPicPr>
        <p:blipFill>
          <a:blip r:embed="rId2"/>
          <a:stretch/>
        </p:blipFill>
        <p:spPr>
          <a:xfrm>
            <a:off x="5867280" y="3933720"/>
            <a:ext cx="303228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643280" y="189000"/>
            <a:ext cx="42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63899m"/>
          <p:cNvPicPr/>
          <p:nvPr/>
        </p:nvPicPr>
        <p:blipFill>
          <a:blip r:embed="rId1"/>
          <a:stretch/>
        </p:blipFill>
        <p:spPr>
          <a:xfrm>
            <a:off x="0" y="0"/>
            <a:ext cx="4643280" cy="198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папа"/>
          <p:cNvPicPr/>
          <p:nvPr/>
        </p:nvPicPr>
        <p:blipFill>
          <a:blip r:embed="rId2"/>
          <a:stretch/>
        </p:blipFill>
        <p:spPr>
          <a:xfrm>
            <a:off x="0" y="1989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debbcfa5d9db1cb051c45e33fd24cd3"/>
          <p:cNvPicPr/>
          <p:nvPr/>
        </p:nvPicPr>
        <p:blipFill>
          <a:blip r:embed="rId3"/>
          <a:stretch/>
        </p:blipFill>
        <p:spPr>
          <a:xfrm>
            <a:off x="2195640" y="198900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ghgjgj"/>
          <p:cNvPicPr/>
          <p:nvPr/>
        </p:nvPicPr>
        <p:blipFill>
          <a:blip r:embed="rId4"/>
          <a:stretch/>
        </p:blipFill>
        <p:spPr>
          <a:xfrm>
            <a:off x="0" y="4273560"/>
            <a:ext cx="4643280" cy="2584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84360" y="177336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наложите на место укуса марлевую повязку, смоченную нашатырным спиртом или водкой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4000" y="620640"/>
            <a:ext cx="5472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первых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ffhfh"/>
          <p:cNvPicPr/>
          <p:nvPr/>
        </p:nvPicPr>
        <p:blipFill>
          <a:blip r:embed="rId1"/>
          <a:stretch/>
        </p:blipFill>
        <p:spPr>
          <a:xfrm>
            <a:off x="7236000" y="765000"/>
            <a:ext cx="1728720" cy="157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вапавр"/>
          <p:cNvPicPr/>
          <p:nvPr/>
        </p:nvPicPr>
        <p:blipFill>
          <a:blip r:embed="rId2"/>
          <a:stretch/>
        </p:blipFill>
        <p:spPr>
          <a:xfrm>
            <a:off x="7236000" y="2565360"/>
            <a:ext cx="170640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варпаопро"/>
          <p:cNvPicPr/>
          <p:nvPr/>
        </p:nvPicPr>
        <p:blipFill>
          <a:blip r:embed="rId3"/>
          <a:stretch/>
        </p:blipFill>
        <p:spPr>
          <a:xfrm>
            <a:off x="7236000" y="4365720"/>
            <a:ext cx="1657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44:59Z</dcterms:created>
  <dc:creator>Admin</dc:creator>
  <dc:description/>
  <dc:language>en-US</dc:language>
  <cp:lastModifiedBy>LEGION</cp:lastModifiedBy>
  <dcterms:modified xsi:type="dcterms:W3CDTF">2015-05-12T08:43:32Z</dcterms:modified>
  <cp:revision>16</cp:revision>
  <dc:subject/>
  <dc:title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dc:title>
</cp:coreProperties>
</file>