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AC5BB-B0BD-473A-ADA4-4729E8DABA7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66"/>
                </a:solidFill>
                <a:latin typeface="Arial"/>
              </a:rPr>
              <a:t>Государственное образовательное учреждение среднего профессионального образования Комитете по здравоохранению Администрации Волгоградской области «Медицинский колледж № 1, Волгоград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966EC-1DA4-405D-98E1-9FA9CD6DE24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-третьих</a:t>
            </a:r>
            <a:r>
              <a:rPr b="0" i="1" lang="ru-RU" sz="1200" spc="-1" strike="noStrike">
                <a:solidFill>
                  <a:srgbClr val="ff3300"/>
                </a:solidFill>
                <a:latin typeface="Arial"/>
              </a:rPr>
              <a:t>, не подходить близко к рою пчел, ос и шмелей без специальной одежды и вообще не делать резких движений, находясь рядом с этими насекомыми, не размахивать руками, головой, не бегать. Если пчела или шмель сели вам на руку, постарайтесь просто смахнуть другой рукой, не убивать, иначе вы можете разозлить насекомое, и оно вас точно укуси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-четвертых</a:t>
            </a:r>
            <a:r>
              <a:rPr b="0" i="1" lang="ru-RU" sz="1200" spc="-1" strike="noStrike">
                <a:solidFill>
                  <a:srgbClr val="ff3300"/>
                </a:solidFill>
                <a:latin typeface="Arial"/>
              </a:rPr>
              <a:t>, в комнате, где вы будете спать, заранее зажигайте пластины, спирали от комаров, мошек и других насекомых и тогда ночью вы не будете укушены насекомыми. Если у вас аллергия на запахи спирали, пластин, то вы можете поставить на окна москитные сетки и спать спокойно всю ночь с открытыми окн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6D11C-8BDC-45AA-B643-3733C877130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Список используемой литера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-R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 «Первая медицинская помощ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 Yandex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овременная медицинская энциклопед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A5753-96D2-4C82-B72B-04E7EAAB79C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Большое спасибо за просмотр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99ff"/>
                </a:solidFill>
                <a:latin typeface="Arial"/>
              </a:rPr>
              <a:t>Берегите себя и своих близких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57DAC-E13D-472C-A302-7F3B3BB1311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При укусах насекомых важно быстро и правильно оказать первую помощ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Arial"/>
              </a:rPr>
              <a:t>1.Чтобы удалить уже присосавшегося клеща достаточно капнуть на него спиртом, растительным маслом или просто чем то жирным, после чего можно взяться за насекомое пинцетом и аккуратно удали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CE81-472B-4DE4-B923-A2BDA17C05B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и наличии аллергических реакций на яд пчелы, осы или шмеля, человек может потерять сознание, может начаться рвота или выступить крапивница. В таких случаях также рекомендуется обратиться к врач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омары, москиты и другие мелкие насекомые встречаются, к сожалению, повсеместно, в том числе и в черте города. Чаще всего неопасны, если не являются переносчиком инфекции (как, например, малярийный комар, который отличается от обыкновенного гораздо большими размерам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6E3CE-D29F-413B-AB0F-4DEF9CE5AB8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ллергия на укусы таких насекомых встречается крайне редко, и в этом случае необходимо сразу обратиться к врачу. Для уменьшения боли и зуда от укусов следует принимать те же меры, что и при укусах пчел, шмелей и ос. Также не забывайте, что расчесывать укушенное место не стоит, потому что это увеличивает риск занесения инфекции. Маленьким детям в этом случае можно заклеить место укуса пластырем, под который кладется кусочек ваты, пропитанный снимающей зуд жидкостью. В большинстве случаев укусы комаров, москитов и других мелких насекомых весьма неприятны, но не опасны (это не касается одновременных множественных случаев укусов, которые являются поводом обратиться к врачу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65D6B-1F63-45DB-A61D-941CCE6C3E8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Arial"/>
              </a:rPr>
              <a:t>- А-а-а, мама, мама, меня укусила пчела – слышите вы громкий рев своего ребенка. Вы подбегаете и пытаетесь его успокоить, но боль и зуд после укуса пчелы не отпускает, и ваше чадо продолжает плакать. Вы пытаетесь отвлечь ребенка от боли: «Ой, смотри, какая птичка полетела!», а в это время ищете аптечку с зеленкой, и думаете «больше в этот лес гулять мы никогда не пойдем!». Но! Пчелы летают везде и полностью уберечь своего маленького малыша от укуса пчел, шмелей и других насекомых просто невозможно. Да и вы, взрослые, сами можете быть покусаны всё теми же осами, комарами, пчелами где угодно: и на улице в городе, и в саду, и в парке и просто в лесу на свежем воздухе. Если вы будете знать, как можно быстро помочь пострадавшему при укусах насекомых, будете носить с собой минимум необходимых лекарственных средств, то ситуация с укусом не застанет вас врасплох. Сегодня с журналом Мир Советов мы и рассмотрим, как действовать в случае укусов насекомых (пчел, шмелей и т.д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5DA2C-A218-44DE-8150-08235D846E9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0066"/>
                </a:solidFill>
                <a:latin typeface="Arial"/>
              </a:rPr>
              <a:t>Укусы пчел, ос, шме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Укусы пчел, ос, шмелей опасны для людей с повышенной чувствительностью к их укусам (это могут быть и взрослые с чувствительной кожей, но чаще всего чувствительны к укусам дети). Также укусы опасны, в том случае, если человека укусило не одно насекомое, а сразу несколько или целый рой, поэтому действовать надо будет немедленно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При укусе пчел, ос, шмелей сразу возникает резкая боль, а затем покраснение и отек кожи вокруг укуса. У человека, укушенного насекомым, может быть тошнота и даже рвота или просто общая слабость организма. Если у человека аллергия на насекомых, то может быть и красные высыпания на коже в виде красной сыпи, или так называемой «крапивницы». Если человек вдруг внезапно потеряет сознание после укуса, МирСоветов может вас успокоить, такое тоже возможно, так как каждый человек индивидуален, и реакция у всех разная. Потеря сознания – это реакция организма на яд, выделяемый насекомым, в кровь человека. Необходимо сразу принять соответствующие меры, чтобы привести человека в чувства. Рассмотрим основные правила оказания первой помощи при укусах пчел, ос, шм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EB7F0-0DBE-4A4D-B54C-F0B360ECD9C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c1c1c"/>
                </a:solidFill>
                <a:latin typeface="Arial"/>
              </a:rPr>
              <a:t>Укусы комаров, москитов и других мелких насеком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c1c1c"/>
                </a:solidFill>
                <a:latin typeface="Arial"/>
              </a:rPr>
              <a:t>Множественные укусы комаров, москитов, слепней, оводов и других мелких насекомых также опасны для человека, особенно для тех, у кого есть аллергия к их укусам. При укусе таких насекомых возникает непродолжительная боль, затем зуд и небольшое покраснение участка кожи. В случае повышенной чувствительности человека к укусам комаров, москитов может появиться аллергия в виде красной сыпи. При укусе комарами, москитами и другими мелкими насекомыми правила оказания первой помощи практически те же, что и при укусе пчел, шмелей и ос. Рассмотрим 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CC0CF-AEE5-4117-92EF-BDF66E0024B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ff00"/>
                </a:solidFill>
                <a:uFillTx/>
                <a:latin typeface="Arial"/>
              </a:rPr>
              <a:t>Правила оказания первой помо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Во-первых, необходимо удержаться, чтобы не тереть кожу в месте укуса, даже если очень хочется. Мир Советов хотел напомнить, что и ребенка тоже нужно предупредить, чтобы не расчёсывал укус до красноты, так как это приведет к еще большему зуду и длительному заживан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Во-вторых, наложите на место укуса марлевую повязку, смоченную нашатырным спиртом или водк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Внимание!</a:t>
            </a: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Если вас укусил малярийный комар, сразу обратитесь в инфекционную больницу за помощью. Отличить малярийного комара от обыкновенного достаточно легко: тельце малярийного комара, сидящего на какой-либо поверхности, располагается под углом к ней, в то время как у обычного комара тельце в состоянии покоя расположено параллельно относительно той же самой поверхности. Среди других отличительных признаков малярийного комара - более</a:t>
            </a: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длинные ноги и темные пятна на крыль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F1DD3-9B0E-4E66-8410-4787F9B7824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Советы: как уберечься от укусов насеком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-первых</a:t>
            </a:r>
            <a:r>
              <a:rPr b="0" lang="ru-RU" sz="11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для предупреждения укусов комаров, москитов и других насекомых необходимо смазывать открытые участки тела средством против комаров. Это и маскитол , и фумитокс, и тайга и т.д. Мажьтесь ими перед выходом на улицу, и каждый раз после выхода из воды в случае куп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-вторых</a:t>
            </a: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, можно использовать специальную защитные сетчатые одежды, которые защищают лицо и всё тело от укусов комаров, слепней и т.д. Либо же нужно одеваться полностью в закрытую одежду: рубашку с длинными рукавами и длинные брю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77C1D-2646-4471-AE33-49BF740A075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6361B-12A2-41D2-9E35-92B56B6A3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568BD-DAC1-48BF-96CC-F420F218A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1EF25-FC78-4C56-ACDC-3F4CF6ED5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0B1CF-A259-4660-9D29-E09B690F7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6B14A-154D-460F-9E3A-7F8A3BDEF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FFFBD-495D-4B38-8822-14D7CDFFC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3995F-BA3D-44F1-8C16-06766632E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6372E-37E0-4DFD-A3AE-D468D89C8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35D40-114C-4063-AD1A-277F0AC29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BD188-120B-4BCF-8C88-08E1157C7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396DE-1812-4907-AD9F-F9D6F1C2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58597-AC43-4842-BC9A-12B43A7D1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82B90-A695-4AE7-A5CD-635FE522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A3814-85BA-4296-9F2E-27BD6493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6CE2F-01A4-480A-A220-0226869A0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F54DD-EEA5-4ADC-BAB1-46FFFED8C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94E02-EA42-4FD5-99DF-1A5839023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E76CE-DFC3-436D-A24F-207999592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C7964-9D85-431F-9BC5-3D04F340F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63E22-F86A-4897-B6BD-3A93A2372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68721-5B65-4EC3-8536-59AC4692D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EA719-CD90-4475-8BE5-4568458C7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E0A50-1DC8-4571-8F85-1A3280A36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C749E-17CB-46FD-B663-E6E9D68A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D326D-5885-4C49-937D-2989F9C6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FEFC3-7987-44A0-87F5-F5AB3E5C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8D1CE-0441-4035-A591-2E5B6728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A675D-4A19-4EEE-A7BD-CFFB50291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449C0-9B0D-4C3D-9293-A2CEAED2C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FBE20-939E-44C8-92FF-46891972E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105C9-786F-49F6-A7C2-6FD72E584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2A3EA-16E5-47EB-B87C-7BF86042C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DEC3D-085B-467F-9921-EB479B565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29AA9-F2EA-4F98-82D7-AA5B26ED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46EF7-7246-49B6-84C1-C6A6A49D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93B1E-D614-4A71-9A3C-9257E6D6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8F772-B8BD-4257-997D-636ADCA734B3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AECF4-EFCD-4A41-A34C-D7DD2F3FE89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5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0A619-C545-4972-B113-ED8E8F13129B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0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66"/>
                </a:solidFill>
                <a:latin typeface="Arial"/>
              </a:rPr>
              <a:t>Государственное образовательное учреждение среднего профессионального образования Комитете по здравоохранению Администрации Волгоградской области «Медицинский колледж № 1, Волгоград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0" y="18684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Arial"/>
              </a:rPr>
              <a:t>Первая помощь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c00000"/>
                </a:solidFill>
                <a:latin typeface="Arial"/>
              </a:rPr>
              <a:t>при  укусах насекомых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4932360" y="5273640"/>
            <a:ext cx="386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ff"/>
                </a:solidFill>
                <a:latin typeface="Arial"/>
              </a:rPr>
              <a:t>Выполнила Розанова Алёна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3266640" y="6110280"/>
            <a:ext cx="216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лгоград 20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г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4"/>
          <p:cNvSpPr/>
          <p:nvPr/>
        </p:nvSpPr>
        <p:spPr>
          <a:xfrm>
            <a:off x="808200" y="352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324000" y="476280"/>
            <a:ext cx="446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468360" y="765000"/>
            <a:ext cx="511344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-третьих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, не подходить близко к рою пчел, ос и шмелей без специальной одежды и вообще не делать резких движений, находясь рядом с этими насекомыми, не размахивать руками, головой, не бегать. Если пчела или шмель сели вам на руку, постарайтесь просто смахнуть другой рукой, не убивать, иначе вы можете разозлить насекомое, и оно вас точно укусит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-четвертых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, в комнате, где вы будете спать, заранее зажигайте пластины, спирали от комаров, мошек и других насекомых и тогда ночью вы не будете укушены насекомыми. Если у вас аллергия на запахи спирали, пластин, то вы можете поставить на окна москитные сетки и спать спокойно всю ночь с открытыми окнам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7" descr="ffhfh"/>
          <p:cNvPicPr/>
          <p:nvPr/>
        </p:nvPicPr>
        <p:blipFill>
          <a:blip r:embed="rId1"/>
          <a:stretch/>
        </p:blipFill>
        <p:spPr>
          <a:xfrm>
            <a:off x="6012000" y="981000"/>
            <a:ext cx="2735280" cy="4824360"/>
          </a:xfrm>
          <a:prstGeom prst="rect">
            <a:avLst/>
          </a:prstGeom>
          <a:ln w="0">
            <a:noFill/>
          </a:ln>
        </p:spPr>
      </p:pic>
      <p:sp>
        <p:nvSpPr>
          <p:cNvPr id="2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7850"/>
                            </p:stCondLst>
                            <p:childTnLst>
                              <p:par>
                                <p:cTn id="23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1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4"/>
          <p:cNvSpPr/>
          <p:nvPr/>
        </p:nvSpPr>
        <p:spPr>
          <a:xfrm>
            <a:off x="250920" y="26028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Список используемой литератур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755640" y="141300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D-R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иск «Первая медицинская помощь»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755640" y="198900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ww. Yandex.r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755640" y="2637000"/>
            <a:ext cx="77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Современная медицинская энциклопедия»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WordArt 5"/>
          <p:cNvSpPr txBox="1"/>
          <p:nvPr/>
        </p:nvSpPr>
        <p:spPr>
          <a:xfrm>
            <a:off x="0" y="765000"/>
            <a:ext cx="914400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Большое спасибо за просмотр!!!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468360" y="36450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99ff"/>
                </a:solidFill>
                <a:latin typeface="Arial"/>
              </a:rPr>
              <a:t>Берегите себя и своих близких!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При укусах насекомых важно быстро и правильно оказать первую помощ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447840" y="1936800"/>
            <a:ext cx="869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1.Чтобы удалить уже присосавшегося клеща достаточно капнуть на него спиртом, растительным маслом или просто чем то жирным, после чего можно взяться за насекомое пинцетом и аккуратно удалить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9" descr="Клещ"/>
          <p:cNvPicPr/>
          <p:nvPr/>
        </p:nvPicPr>
        <p:blipFill>
          <a:blip r:embed="rId1"/>
          <a:stretch/>
        </p:blipFill>
        <p:spPr>
          <a:xfrm>
            <a:off x="611280" y="3357720"/>
            <a:ext cx="3744720" cy="3311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hgfhjg"/>
          <p:cNvPicPr/>
          <p:nvPr/>
        </p:nvPicPr>
        <p:blipFill>
          <a:blip r:embed="rId2"/>
          <a:stretch/>
        </p:blipFill>
        <p:spPr>
          <a:xfrm>
            <a:off x="4572000" y="3357720"/>
            <a:ext cx="3781440" cy="324000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9" descr="аркенек"/>
          <p:cNvPicPr/>
          <p:nvPr/>
        </p:nvPicPr>
        <p:blipFill>
          <a:blip r:embed="rId2"/>
          <a:stretch/>
        </p:blipFill>
        <p:spPr>
          <a:xfrm>
            <a:off x="0" y="3213000"/>
            <a:ext cx="4427640" cy="3645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1" descr="ггггг"/>
          <p:cNvPicPr/>
          <p:nvPr/>
        </p:nvPicPr>
        <p:blipFill>
          <a:blip r:embed="rId3"/>
          <a:stretch/>
        </p:blipFill>
        <p:spPr>
          <a:xfrm>
            <a:off x="0" y="0"/>
            <a:ext cx="4427640" cy="32130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14"/>
          <p:cNvSpPr/>
          <p:nvPr/>
        </p:nvSpPr>
        <p:spPr>
          <a:xfrm>
            <a:off x="4788000" y="262800"/>
            <a:ext cx="352728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ри наличии аллергических реакций на яд пчелы, осы или шмеля, человек может потерять сознание, может начаться рвота или выступить крапивница. В таких случаях также рекомендуется обратиться к врачу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Комары, москиты и другие мелкие насекомые встречаются, к сожалению, повсеместно, в том числе и в черте города. Чаще всего неопасны, если не являются переносчиком инфекции (как, например, малярийный комар, который отличается от обыкновенного гораздо большими размерами)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6" descr="63899m"/>
          <p:cNvPicPr/>
          <p:nvPr/>
        </p:nvPicPr>
        <p:blipFill>
          <a:blip r:embed="rId1"/>
          <a:stretch/>
        </p:blipFill>
        <p:spPr>
          <a:xfrm>
            <a:off x="0" y="3284640"/>
            <a:ext cx="4572000" cy="3573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" descr="img_17192963_31_4"/>
          <p:cNvPicPr/>
          <p:nvPr/>
        </p:nvPicPr>
        <p:blipFill>
          <a:blip r:embed="rId2"/>
          <a:stretch/>
        </p:blipFill>
        <p:spPr>
          <a:xfrm>
            <a:off x="0" y="0"/>
            <a:ext cx="4572000" cy="328464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12"/>
          <p:cNvSpPr/>
          <p:nvPr/>
        </p:nvSpPr>
        <p:spPr>
          <a:xfrm>
            <a:off x="468360" y="26028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660066"/>
                </a:solidFill>
                <a:uFillTx/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4500720" y="0"/>
            <a:ext cx="4392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Аллергия на укусы таких насекомых встречается крайне редко, и в этом случае необходимо сразу обратиться к врачу. Для уменьшения боли и зуда от укусов следует принимать те же меры, что и при укусах пчел, шмелей и ос. Также не забывайте, что расчесывать укушенное место не стоит, потому что это увеличивает риск занесения инфекции. Маленьким детям в этом случае можно заклеить место укуса пластырем, под который кладется кусочек ваты, пропитанный снимающей зуд жидкостью. В большинстве случаев укусы комаров, москитов и других мелких насекомых весьма неприятны, но не опасны (это не касается одновременных множественных случаев укусов, которые являются поводом обратиться к врачу)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5" descr="hkj;"/>
          <p:cNvPicPr/>
          <p:nvPr/>
        </p:nvPicPr>
        <p:blipFill>
          <a:blip r:embed="rId1"/>
          <a:stretch/>
        </p:blipFill>
        <p:spPr>
          <a:xfrm>
            <a:off x="0" y="3645000"/>
            <a:ext cx="3174840" cy="3213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6"/>
          <p:cNvSpPr/>
          <p:nvPr/>
        </p:nvSpPr>
        <p:spPr>
          <a:xfrm>
            <a:off x="3203640" y="260280"/>
            <a:ext cx="5545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- А-а-а, мама, мама, меня укусила пчела – слышите вы громкий рев своего ребенка. Вы подбегаете и пытаетесь его успокоить, но боль и зуд после укуса пчелы не отпускает, и ваше чадо продолжает плакать. Вы пытаетесь отвлечь ребенка от боли: «Ой, смотри, какая птичка полетела!», а в это время ищете аптечку с зеленкой, и думаете «больше в этот лес гулять мы никогда не пойдем!». Но! Пчелы летают везде и полностью уберечь своего маленького малыша от укуса пчел, шмелей и других насекомых просто невозможно. Да и вы, взрослые, сами можете быть покусаны всё теми же осами, комарами, пчелами где угодно: и на улице в городе, и в саду, и в парке и просто в лесу на свежем воздухе. Если вы будете знать, как можно быстро помочь пострадавшему при укусах насекомых, будете носить с собой минимум необходимых лекарственных средств, то ситуация с укусом не застанет вас врасплох. Сегодня с журналом Мир Советов мы и рассмотрим, как действовать в случае укусов насекомых (пчел, шмелей и т.д.)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7" descr="puioyioo"/>
          <p:cNvPicPr/>
          <p:nvPr/>
        </p:nvPicPr>
        <p:blipFill>
          <a:blip r:embed="rId2"/>
          <a:stretch/>
        </p:blipFill>
        <p:spPr>
          <a:xfrm>
            <a:off x="0" y="333360"/>
            <a:ext cx="3059280" cy="302436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5"/>
          <p:cNvSpPr/>
          <p:nvPr/>
        </p:nvSpPr>
        <p:spPr>
          <a:xfrm>
            <a:off x="179280" y="0"/>
            <a:ext cx="5329440" cy="66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Укусы пчел, ос, шмелей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Укусы пчел, ос, шмелей опасны для людей с повышенной чувствительностью к их укусам (это могут быть и взрослые с чувствительной кожей, но чаще всего чувствительны к укусам дети). Также укусы опасны, в том случае, если человека укусило не одно насекомое, а сразу несколько или целый рой, поэтому действовать надо будет немедленно!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При укусе пчел, ос, шмелей сразу возникает резкая боль, а затем покраснение и отек кожи вокруг укуса. У человека, укушенного насекомым, может быть тошнота и даже рвота или просто общая слабость организма. Если у человека аллергия на насекомых, то может быть и красные высыпания на коже в виде красной сыпи, или так называемой «крапивницы». Если человек вдруг внезапно потеряет сознание после укуса, МирСоветов может вас успокоить, такое тоже возможно, так как каждый человек индивидуален, и реакция у всех разная. Потеря сознания – это реакция организма на яд, выделяемый насекомым, в кровь человека. Необходимо сразу принять соответствующие меры, чтобы привести человека в чувства. Рассмотрим основные правила оказания первой помощи при укусах пчел, ос, шмелей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6" descr="i"/>
          <p:cNvPicPr/>
          <p:nvPr/>
        </p:nvPicPr>
        <p:blipFill>
          <a:blip r:embed="rId1"/>
          <a:stretch/>
        </p:blipFill>
        <p:spPr>
          <a:xfrm>
            <a:off x="5867280" y="404640"/>
            <a:ext cx="3025800" cy="2160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пчагд"/>
          <p:cNvPicPr/>
          <p:nvPr/>
        </p:nvPicPr>
        <p:blipFill>
          <a:blip r:embed="rId2"/>
          <a:stretch/>
        </p:blipFill>
        <p:spPr>
          <a:xfrm>
            <a:off x="5867280" y="3933720"/>
            <a:ext cx="3032280" cy="244800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77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" dur="77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0" dur="77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2" dur="77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77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8" dur="77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0" dur="77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2" dur="77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77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8" dur="77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0" dur="77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2" dur="77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6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5"/>
          <p:cNvSpPr/>
          <p:nvPr/>
        </p:nvSpPr>
        <p:spPr>
          <a:xfrm>
            <a:off x="4643280" y="189000"/>
            <a:ext cx="42498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Arial"/>
              </a:rPr>
              <a:t>Укусы комаров, москитов и других мелких насекомых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Arial"/>
              </a:rPr>
              <a:t>Множественные укусы комаров, москитов, слепней, оводов и других мелких насекомых также опасны для человека, особенно для тех, у кого есть аллергия к их укусам. При укусе таких насекомых возникает непродолжительная боль, затем зуд и небольшое покраснение участка кожи. В случае повышенной чувствительности человека к укусам комаров, москитов может появиться аллергия в виде красной сыпи. При укусе комарами, москитами и другими мелкими насекомыми правила оказания первой помощи практически те же, что и при укусе пчел, шмелей и ос. Рассмотрим их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6" descr="63899m"/>
          <p:cNvPicPr/>
          <p:nvPr/>
        </p:nvPicPr>
        <p:blipFill>
          <a:blip r:embed="rId1"/>
          <a:stretch/>
        </p:blipFill>
        <p:spPr>
          <a:xfrm>
            <a:off x="0" y="0"/>
            <a:ext cx="4643280" cy="1989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папа"/>
          <p:cNvPicPr/>
          <p:nvPr/>
        </p:nvPicPr>
        <p:blipFill>
          <a:blip r:embed="rId2"/>
          <a:stretch/>
        </p:blipFill>
        <p:spPr>
          <a:xfrm>
            <a:off x="0" y="1989000"/>
            <a:ext cx="2195640" cy="2232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0debbcfa5d9db1cb051c45e33fd24cd3"/>
          <p:cNvPicPr/>
          <p:nvPr/>
        </p:nvPicPr>
        <p:blipFill>
          <a:blip r:embed="rId3"/>
          <a:stretch/>
        </p:blipFill>
        <p:spPr>
          <a:xfrm>
            <a:off x="2195640" y="1989000"/>
            <a:ext cx="2447640" cy="2232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" descr="hghgjgj"/>
          <p:cNvPicPr/>
          <p:nvPr/>
        </p:nvPicPr>
        <p:blipFill>
          <a:blip r:embed="rId4"/>
          <a:stretch/>
        </p:blipFill>
        <p:spPr>
          <a:xfrm>
            <a:off x="0" y="4273560"/>
            <a:ext cx="4643280" cy="258444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4"/>
          <p:cNvSpPr/>
          <p:nvPr/>
        </p:nvSpPr>
        <p:spPr>
          <a:xfrm>
            <a:off x="684360" y="1773360"/>
            <a:ext cx="7775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о-первых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, необходимо удержаться, чтобы не тереть кожу в месте укуса, даже если очень хочется. Мир Советов хотел напомнить, что и ребенка тоже нужно предупредить, чтобы не расчёсывал укус до красноты, так как это приведет к еще большему зуду и длительному заживанию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о-вторых,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наложите на место укуса марлевую повязку, смоченную нашатырным спиртом или водкой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нимание!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Если вас укусил малярийный комар, сразу обратитесь в инфекционную больницу за помощью. Отличить малярийного комара от обыкновенного достаточно легко: тельце малярийного комара, сидящего на какой-либо поверхности, располагается под углом к ней, в то время как у обычного комара тельце в состоянии покоя расположено параллельно относительно той же самой поверхности. Среди других отличительных признаков малярийного комара - более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длинные ноги и темные пятна на крыльях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250920" y="54936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ff00"/>
                </a:solidFill>
                <a:uFillTx/>
                <a:latin typeface="Arial"/>
              </a:rPr>
              <a:t>Правила оказания первой помощи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4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676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4"/>
          <p:cNvSpPr/>
          <p:nvPr/>
        </p:nvSpPr>
        <p:spPr>
          <a:xfrm>
            <a:off x="324000" y="620640"/>
            <a:ext cx="5472000" cy="54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Советы: как уберечься от укусов насекомых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-первых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ля предупреждения укусов комаров, москитов и других насекомых необходимо смазывать открытые участки тела средством против комаров. Это и маскитол , и фумитокс, и тайга и т.д. Мажьтесь ими перед выходом на улицу, и каждый раз после выхода из воды в случае купания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-вторых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, можно использовать специальную защитные сетчатые одежды, которые защищают лицо и всё тело от укусов комаров, слепней и т.д. Либо же нужно одеваться полностью в закрытую одежду: рубашку с длинными рукавами и длинные брюки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7" descr="ffhfh"/>
          <p:cNvPicPr/>
          <p:nvPr/>
        </p:nvPicPr>
        <p:blipFill>
          <a:blip r:embed="rId1"/>
          <a:stretch/>
        </p:blipFill>
        <p:spPr>
          <a:xfrm>
            <a:off x="7236000" y="765000"/>
            <a:ext cx="1728720" cy="15796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8" descr="вапавр"/>
          <p:cNvPicPr/>
          <p:nvPr/>
        </p:nvPicPr>
        <p:blipFill>
          <a:blip r:embed="rId2"/>
          <a:stretch/>
        </p:blipFill>
        <p:spPr>
          <a:xfrm>
            <a:off x="7236000" y="2565360"/>
            <a:ext cx="1706400" cy="1511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варпаопро"/>
          <p:cNvPicPr/>
          <p:nvPr/>
        </p:nvPicPr>
        <p:blipFill>
          <a:blip r:embed="rId3"/>
          <a:stretch/>
        </p:blipFill>
        <p:spPr>
          <a:xfrm>
            <a:off x="7236000" y="4365720"/>
            <a:ext cx="1657080" cy="172728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15:44:59Z</dcterms:created>
  <dc:creator>Admin</dc:creator>
  <dc:description/>
  <dc:language>en-US</dc:language>
  <cp:lastModifiedBy>LEGION</cp:lastModifiedBy>
  <dcterms:modified xsi:type="dcterms:W3CDTF">2015-05-12T08:43:32Z</dcterms:modified>
  <cp:revision>16</cp:revision>
  <dc:subject/>
  <dc:title>Государственное образовательное учреждение среднего профессионального образования Комитете по здравоохранению Администрации Волгоградской области «Медицинский колледж № 1, Волгоград»</dc:title>
</cp:coreProperties>
</file>