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7546-8B9B-472F-9E90-C2804DFCDB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казание первой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0673-40E8-4448-AEBF-8A6E28A88C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оказывается 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7. Отморожение и другие эффекты воздействия низких температу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2F47-19BD-4C97-B078-67C83742B7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оказывается 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8. От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59D7-E2E7-4038-8237-1A56250CCA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В соответствии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 частью 1 статьи 31 Федерального закона от 21 ноября 2011 г. № 323-ФЗ «Об основах охраны здоровья граждан в Российской Федерации»</a:t>
            </a: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  первая помощь до оказания медицинской помощи оказывается гражданам при несчастных случаях, травмах, отравлениях и других состояниях и заболеваниях, угрожающих их жизни и здоровью, лицами, обязанными оказывать первую помощь в соответствии с федеральным законом или со специальным правилом и имеющими соответствующую подготовку, в том числе сотрудниками органов внутренних дел Российской Федерации, сотрудниками, военнослужащими и работниками Государственной противопожарной службы, спасателями аварийно-спасательных формирований и аварийно-спасательных служб. В соответствии с частью 4 статьи 31 Федерального закона от 21 ноября 2011 г. № 323-ФЗ водители транспортных средств и другие лица вправе оказывать первую помощь при наличии соответствующей подготовки и (или) навы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38B4-0F91-40EC-9D0F-0F0810ED73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чень мероприятий по оказанию перв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F8D9-A2E1-4F93-8E90-F3373547A4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22226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Мероприятия по оценке обстановки и обеспечению безопасных условий для оказания первой помощ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) определение угрожающих факторов для собственной жизни и здоровь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2) определение угрожающих факторов для жизни и здоровья пострадавше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3) устранение угрожающих факторов для жизни и здоровь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4) прекращение действия повреждающих факторов на пострадавше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5) оценка количества пострадавш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6) извлечение пострадавшего из транспортного средства или других труднодоступных мес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7) перемещение пострадавш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4467-C197-46B7-96F4-38F0CB44D8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2. Вызов скорой медицинской помощи, других специальных служб, сотрудники которых обязаны оказывать первую помощь в соответствии с федеральным законом или со специальным прави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EE2F-F935-47A1-9646-7DAF6DE308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3. Определение наличия сознания у пострадавше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84B2-C0EA-48D0-96AE-14B056955A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Calibri"/>
              </a:rPr>
              <a:t>4. Мероприятия по восстановлению проходимости дыхательных путей и определению признаков жизни у пострадавшег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) запрокидывание головы с подъёмом подбород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2) выдвижение нижней челю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3) определение наличия дыхания с помощью слуха, зрения и осяз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4) определение наличия кровообращения, проверка пульса на магистральных артер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210A-C72A-4F95-B49E-F2F14B4920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5. Мероприятия по проведению сердечно-легочной реанимации до появления признаков жизн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) давление руками на грудину пострадавше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2) искусственное дыхание «Рот ко рту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3) искусственное дыхание «Рот к носу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4) искусственное дыхание с использованием устройства для искусственного дых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21B2-DA0F-4D97-B6B6-27F40DD7B8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222268"/>
                </a:solidFill>
                <a:latin typeface="Calibri"/>
              </a:rPr>
              <a:t>6. Мероприятия по поддержанию проходимости дыхательных путей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) придание устойчивого бокового поло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2) запрокидывание головы с подъёмом подбород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3) выдвижение нижней челю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0D6D-AC2B-4C9C-A7B5-335D05683A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ac09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 оказывается первая помощ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ac09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мероприятий по оказанию первой помощ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918E-9102-4FAC-A834-696F68AFFC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61645"/>
                </a:solidFill>
                <a:latin typeface="Calibri"/>
              </a:rPr>
              <a:t>7. Мероприятия по обзорному осмотру пострадавшего и временной остановке наружного кровотеч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) обзорный осмотр пострадавшего на наличие кровотеч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2) пальцевое прижатие артер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3) наложение жгу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4) максимальное сгибание конечности в сустав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5) прямое давление на ран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6) наложение давящей повяз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B775-823D-4167-8704-7D8D0D351C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73"/>
                </a:solidFill>
                <a:latin typeface="Calibri"/>
              </a:rPr>
              <a:t>8. Мероприятия по подробному осмотру пострадавшего в целях выявления признаков травм, отравлений и других состояний, угрожающих его жизни и здоровью, и по оказанию первой помощи в случае выявления указанных состояний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) проведение осмотра голов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2) проведение осмотра ше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3) проведение осмотра груд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4) проведение осмотра спи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5) проведение осмотра живота и таз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6) проведение осмотра конечнос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7) наложение повязок при травмах различных областей тела, в том числе окклюзионной (герметизирующей) при ранении грудной клет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8) проведение иммобилизации (с помощью подручных средств, аутоиммобилизация, с использованием изделий медицинского назначе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0262-EBC2-4351-AF7C-D7DB794B26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9) фиксация шейного отдела позвоночника (вручную, подручными средствами, с использованием изделий медицинского назначе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0) прекращение воздействия опасных химических веществ на пострадавшего (промывание желудка путём приёма воды и вызывания рвоты, удаление с повреждённой поверхности и промывание повреждённой поверхности проточной водо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1) местное охлаждение при травмах, термических ожогах и иных воздействиях высоких температур или теплового излу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2) термоизоляция при отморожениях и других эффектах воздействия низких температу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19E4-0E4B-478C-BE0A-8A19B8E972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9. Придание пострадавшему оптимального положения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A4F5-216D-411A-92DE-58D8E6D50A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10. Контроль состояния пострадавшего (сознание, дыхание, кровообращение) и оказание психологической поддерж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4A2E-AEE3-4143-B0D8-5D284C7E03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11. Передача пострадавшего бригаде скорой медицинской помощи, другим специальным службам, сотрудники которых обязаны оказывать первую помощь в соответствии с федеральным законом или со специальным прави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5077-6536-43EC-9905-666277DD01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удьте  счастлив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BA32-D473-4288-996D-2A31D38D52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Приказ Минздравсоцразвития Росс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477н от 04.05.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б утверждении перечня состояний, при которых оказывается первая помощь, и перечня мероприятий по оказанию первой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егистрирован в Минюсте РФ 16 мая 201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страционный номер 2418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D9CD-6EC5-4862-BD2C-51CB8FF31D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оказывается 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1. Отсутствие с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ABD1-C85E-4E9C-9BED-2E233DC799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оказывается 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2. Остановка дыхания и кровооб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3928-F16E-485A-B4BF-0781C0C0A3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оказывается 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3. Наружные кровоте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2D62-1D74-4402-9102-D1341C7EC8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оказывается 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4. Инородные тела верхних дыхательных пу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1F9FB-8DD0-465F-A6BF-481D353FCE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оказывается 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5. Травмы различных областей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65B7-D5A7-4DAB-88FD-7FF8D6E925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оказывается 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6. Ожоги, эффекты воздействия высоких температур, теплового изл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4917-DB6A-4006-8B3E-DFA96E2936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5A86-ED3B-4342-807B-52FC53A21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88E7-B8C8-470D-91FE-7E24E2BA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1329-00B9-4286-BF1C-91E12FE76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321D-644A-4C67-A85C-0EAEAEAC5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9E09-44B2-4DC3-867F-E4735D8B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C185-645D-4288-BD13-DCD2D405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C4BA-193D-41A2-9FEE-A1C5C917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301C-1455-4C92-A338-AD8E6560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0376-CA50-43CE-86EA-4622BB0D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4281-EBBC-4317-8EDB-E5925204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32E3-C533-4986-97CA-4CAC7448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E78C-4547-4E1B-9293-437DBF38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7FAC-BCC6-4043-B85B-649C2ECCB31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2" descr=""/>
          <p:cNvPicPr/>
          <p:nvPr/>
        </p:nvPicPr>
        <p:blipFill>
          <a:blip r:embed="rId2"/>
          <a:stretch/>
        </p:blipFill>
        <p:spPr>
          <a:xfrm>
            <a:off x="682560" y="3181320"/>
            <a:ext cx="8418600" cy="234144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2124000" y="155736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2268"/>
                </a:solidFill>
                <a:latin typeface="Arial"/>
              </a:rPr>
              <a:t>Урок ОБЖ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1476360" y="501336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временные треб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1403280" y="18900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9194d"/>
                </a:solidFill>
                <a:latin typeface="Arial"/>
              </a:rPr>
              <a:t>ГБОУ  СОШ №280 им. М.Ю.Лермонт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9194d"/>
                </a:solidFill>
                <a:latin typeface="Arial"/>
              </a:rPr>
              <a:t>Адмиралтейский рай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1835280" y="6021360"/>
            <a:ext cx="73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Подготовил: преподаватель-организатор ОБЖ Солошенко С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0" y="40464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"/>
          <p:cNvSpPr/>
          <p:nvPr/>
        </p:nvSpPr>
        <p:spPr>
          <a:xfrm>
            <a:off x="0" y="3105000"/>
            <a:ext cx="57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7. Отморожение и другие эффекты воздействия низких температ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3" descr="holodno.jpg"/>
          <p:cNvPicPr/>
          <p:nvPr/>
        </p:nvPicPr>
        <p:blipFill>
          <a:blip r:embed="rId1"/>
          <a:stretch/>
        </p:blipFill>
        <p:spPr>
          <a:xfrm>
            <a:off x="5508720" y="2133720"/>
            <a:ext cx="3024000" cy="388620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0" y="33336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2"/>
          <p:cNvSpPr/>
          <p:nvPr/>
        </p:nvSpPr>
        <p:spPr>
          <a:xfrm>
            <a:off x="179280" y="324468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2268"/>
                </a:solidFill>
                <a:latin typeface="Arial"/>
              </a:rPr>
              <a:t>8. Отравл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3" descr="267945-1378-26.jpg"/>
          <p:cNvPicPr/>
          <p:nvPr/>
        </p:nvPicPr>
        <p:blipFill>
          <a:blip r:embed="rId1"/>
          <a:stretch/>
        </p:blipFill>
        <p:spPr>
          <a:xfrm>
            <a:off x="4427640" y="2349360"/>
            <a:ext cx="4392360" cy="316728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179280" y="549360"/>
            <a:ext cx="77774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В соответствии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с частью 1 статьи 31 Федерального закона от 21 ноября 2011 г. № 323-ФЗ «Об основах охраны здоровья граждан в Российской Федерации»</a:t>
            </a: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  первая помощь до оказания медицинской помощи оказывается гражданам при несчастных случаях, травмах, отравлениях и других состояниях и заболеваниях, угрожающих их жизни и здоровью, лицами, обязанными оказывать первую помощь в соответствии с федеральным законом или со специальным правилом и имеющими соответствующую подготовку, в том числе сотрудниками органов внутренних дел Российской Федерации, сотрудниками, военнослужащими и работниками Государственной противопожарной службы, спасателями аварийно-спасательных формирований и аварийно-спасательных служб. В соответствии с частью 4 статьи 31 Федерального закона от 21 ноября 2011 г. № 323-ФЗ водители транспортных средств и другие лица вправе оказывать первую помощь при наличии соответствующей подготовки и (или) навы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Прямоугольник 2" descr=""/>
          <p:cNvPicPr/>
          <p:nvPr/>
        </p:nvPicPr>
        <p:blipFill>
          <a:blip r:embed="rId1"/>
          <a:stretch/>
        </p:blipFill>
        <p:spPr>
          <a:xfrm>
            <a:off x="0" y="1785960"/>
            <a:ext cx="9339120" cy="324972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0" y="-110880"/>
            <a:ext cx="9144000" cy="58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22226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Calibri"/>
              </a:rPr>
              <a:t>Мероприятия по оценке обстановки и обеспечению безопасных условий для оказания первой помощ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22226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1) определение угрожающих факторов для собственной жизни и здоровь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2) определение угрожающих факторов для жизни и здоровья пострадавшег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3) устранение угрожающих факторов для жизни и здоровь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4) прекращение действия повреждающих факторов на пострадавшег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5) оценка количества пострадавши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6) извлечение пострадавшего из транспортного средства или других труднодоступных мес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7) перемещение пострадавш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250920" y="333360"/>
            <a:ext cx="6985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"/>
              </a:rPr>
              <a:t>2. Вызов скорой медицинской помощи, других специальных служб, сотрудники которых обязаны оказывать первую помощь в соответствии с федеральным законом или со специальным прави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2" descr="pic_15719.jpg"/>
          <p:cNvPicPr/>
          <p:nvPr/>
        </p:nvPicPr>
        <p:blipFill>
          <a:blip r:embed="rId1"/>
          <a:stretch/>
        </p:blipFill>
        <p:spPr>
          <a:xfrm>
            <a:off x="1835280" y="2781360"/>
            <a:ext cx="4944960" cy="35272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250920" y="189000"/>
            <a:ext cx="75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Arial"/>
              </a:rPr>
              <a:t>3. Определение наличия сознания у пострадавше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2" descr="cpr-new-1.jpg"/>
          <p:cNvPicPr/>
          <p:nvPr/>
        </p:nvPicPr>
        <p:blipFill>
          <a:blip r:embed="rId1"/>
          <a:stretch/>
        </p:blipFill>
        <p:spPr>
          <a:xfrm>
            <a:off x="2484360" y="1916280"/>
            <a:ext cx="3816360" cy="41767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"/>
          <p:cNvSpPr/>
          <p:nvPr/>
        </p:nvSpPr>
        <p:spPr>
          <a:xfrm>
            <a:off x="0" y="168120"/>
            <a:ext cx="9144000" cy="62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Calibri"/>
              </a:rPr>
              <a:t>4. Мероприятия по восстановлению проходимости дыхательных путей и определению признаков жизни у пострадавшег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1) запрокидывание головы с подъёмом подбород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2) выдвижение нижней челю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3) определение наличия дыхания с помощью слуха, зрения и осяз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4) определение наличия кровообращения, проверка пульса на магистральных артер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0" y="348120"/>
            <a:ext cx="914400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Calibri"/>
              </a:rPr>
              <a:t>5. Мероприятия по проведению сердечно-легочной реанимации до появления признаков жиз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1) давление руками на грудину пострадавш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2) искусственное дыхание «Рот ко рту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3) искусственное дыхание «Рот к носу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4) искусственное дыхание с использованием устройства для искусственного дыхания</a:t>
            </a:r>
            <a:r>
              <a:rPr b="0" lang="ru-RU" sz="1800" spc="-1" strike="noStrike">
                <a:solidFill>
                  <a:srgbClr val="26267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611280" y="-41040"/>
            <a:ext cx="6840360" cy="61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2268"/>
                </a:solidFill>
                <a:latin typeface="Calibri"/>
              </a:rPr>
              <a:t>6. Мероприятия по поддержанию проходимости дыхательных путе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Calibri"/>
              </a:rPr>
              <a:t>1) придание устойчивого бокового положения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Calibri"/>
              </a:rPr>
              <a:t>2) запрокидывание головы с подъёмом подбородк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Calibri"/>
              </a:rPr>
              <a:t>3) выдвижение нижней челю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b6bc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 оказывается первая помощ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b6bc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мероприятий по оказанию первой помощ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0" y="358200"/>
            <a:ext cx="9144000" cy="57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45"/>
                </a:solidFill>
                <a:latin typeface="Calibri"/>
              </a:rPr>
              <a:t>7. Мероприятия по обзорному осмотру пострадавшего и временной остановке наружного кровотеч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1) обзорный осмотр пострадавшего на наличие кровотече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2) пальцевое прижатие артер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3) наложение жгу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4) максимальное сгибание конечности в сустав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5) прямое давление на ран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6) наложение давящей повяз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0" y="-61920"/>
            <a:ext cx="9144000" cy="69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Calibri"/>
              </a:rPr>
              <a:t>8. Мероприятия по подробному осмотру пострадавшего в целях выявления признаков травм, отравлений и других состояний, угрожающих его жизни и здоровью, и по оказанию первой помощи в случае выявления указанных состоя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1) проведение осмотра голов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2) проведение осмотра ше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3) проведение осмотра груд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4) проведение осмотра спи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5) проведение осмотра живота и таз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6) проведение осмотра конечно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7) наложение повязок при травмах различных областей тела, в том числе окклюзионной (герметизирующей) при ранении грудной клет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8) проведение иммобилизации (с помощью подручных средств, аутоиммобилизация, с использованием изделий медицинского назначе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0" y="200916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9) фиксация шейного отдела позвоночника (вручную, подручными средствами, с использованием изделий медицинского назначе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10) прекращение воздействия опасных химических веществ на пострадавшего (промывание желудка путём приёма воды и вызывания рвоты, удаление с повреждённой поверхности и промывание повреждённой поверхности проточной водой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11) местное охлаждение при травмах, термических ожогах и иных воздействиях высоких температур или теплового изл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12) термоизоляция при отморожениях и других эффектах воздействия низких температ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1"/>
          <p:cNvSpPr/>
          <p:nvPr/>
        </p:nvSpPr>
        <p:spPr>
          <a:xfrm>
            <a:off x="324000" y="404640"/>
            <a:ext cx="653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9. Придание пострадавшему оптимального положения т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2" descr="376850-5979-54.jpg"/>
          <p:cNvPicPr/>
          <p:nvPr/>
        </p:nvPicPr>
        <p:blipFill>
          <a:blip r:embed="rId1"/>
          <a:stretch/>
        </p:blipFill>
        <p:spPr>
          <a:xfrm>
            <a:off x="2484360" y="2060640"/>
            <a:ext cx="3600360" cy="381636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395280" y="260280"/>
            <a:ext cx="712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10. Контроль состояния пострадавшего (сознание, дыхание, кровообращение) и оказание психологической поддерж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2" descr="10.jpg"/>
          <p:cNvPicPr/>
          <p:nvPr/>
        </p:nvPicPr>
        <p:blipFill>
          <a:blip r:embed="rId1"/>
          <a:stretch/>
        </p:blipFill>
        <p:spPr>
          <a:xfrm>
            <a:off x="2124000" y="1844640"/>
            <a:ext cx="3960720" cy="453708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179280" y="333360"/>
            <a:ext cx="7488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11. Передача пострадавшего бригаде скорой медицинской помощи, другим специальным службам, сотрудники которых обязаны оказывать первую помощь в соответствии с федеральным законом или со специальным прави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2" descr="80482.jpg"/>
          <p:cNvPicPr/>
          <p:nvPr/>
        </p:nvPicPr>
        <p:blipFill>
          <a:blip r:embed="rId1"/>
          <a:stretch/>
        </p:blipFill>
        <p:spPr>
          <a:xfrm>
            <a:off x="755640" y="3068640"/>
            <a:ext cx="5848200" cy="3456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TextBox 1" descr=""/>
          <p:cNvPicPr/>
          <p:nvPr/>
        </p:nvPicPr>
        <p:blipFill>
          <a:blip r:embed="rId2"/>
          <a:stretch/>
        </p:blipFill>
        <p:spPr>
          <a:xfrm>
            <a:off x="542880" y="530280"/>
            <a:ext cx="8277120" cy="309708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0" y="3448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2268"/>
                </a:solidFill>
                <a:latin typeface="Calibri"/>
              </a:rPr>
              <a:t>Приказ Минздравсоцразвития Росс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2268"/>
                </a:solidFill>
                <a:latin typeface="Calibri"/>
              </a:rPr>
              <a:t>№ </a:t>
            </a:r>
            <a:r>
              <a:rPr b="0" lang="ru-RU" sz="3600" spc="-1" strike="noStrike">
                <a:solidFill>
                  <a:srgbClr val="222268"/>
                </a:solidFill>
                <a:latin typeface="Calibri"/>
              </a:rPr>
              <a:t>477н от 04.05.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Об утверждении перечня состояний, при которых оказывается первая помощь, и перечня мероприятий по оказанию первой помощ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регистрирован в Минюсте РФ 16 мая 2012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егистрационный номер 2418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539640" y="26028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2" descr="obmorok.jpg"/>
          <p:cNvPicPr/>
          <p:nvPr/>
        </p:nvPicPr>
        <p:blipFill>
          <a:blip r:embed="rId1"/>
          <a:stretch/>
        </p:blipFill>
        <p:spPr>
          <a:xfrm>
            <a:off x="4788000" y="22050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179280" y="2924280"/>
            <a:ext cx="42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2268"/>
                </a:solidFill>
                <a:latin typeface="Arial"/>
              </a:rPr>
              <a:t>1. Отсутствие созна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press_03.jpg"/>
          <p:cNvPicPr/>
          <p:nvPr/>
        </p:nvPicPr>
        <p:blipFill>
          <a:blip r:embed="rId1"/>
          <a:stretch/>
        </p:blipFill>
        <p:spPr>
          <a:xfrm>
            <a:off x="4211640" y="2349360"/>
            <a:ext cx="4762440" cy="319104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755640" y="260280"/>
            <a:ext cx="610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"/>
          <p:cNvSpPr/>
          <p:nvPr/>
        </p:nvSpPr>
        <p:spPr>
          <a:xfrm>
            <a:off x="0" y="3105000"/>
            <a:ext cx="421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"/>
              </a:rPr>
              <a:t>2. Остановка дыхания и кровообра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250920" y="26028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0" y="32446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"/>
              </a:rPr>
              <a:t>3. Наружные кровоте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3" descr="firsthelp.gif"/>
          <p:cNvPicPr/>
          <p:nvPr/>
        </p:nvPicPr>
        <p:blipFill>
          <a:blip r:embed="rId1"/>
          <a:stretch/>
        </p:blipFill>
        <p:spPr>
          <a:xfrm>
            <a:off x="4211640" y="2492280"/>
            <a:ext cx="4464000" cy="33130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"/>
          <p:cNvSpPr/>
          <p:nvPr/>
        </p:nvSpPr>
        <p:spPr>
          <a:xfrm>
            <a:off x="179280" y="189000"/>
            <a:ext cx="667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"/>
          <p:cNvSpPr/>
          <p:nvPr/>
        </p:nvSpPr>
        <p:spPr>
          <a:xfrm>
            <a:off x="250920" y="310500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4. Инородные тела верхних дыхательных пу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3" descr="000199_712692.jpg"/>
          <p:cNvPicPr/>
          <p:nvPr/>
        </p:nvPicPr>
        <p:blipFill>
          <a:blip r:embed="rId1"/>
          <a:stretch/>
        </p:blipFill>
        <p:spPr>
          <a:xfrm>
            <a:off x="4702320" y="2781360"/>
            <a:ext cx="4113000" cy="273528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179280" y="404640"/>
            <a:ext cx="667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0" y="3244680"/>
            <a:ext cx="52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"/>
              </a:rPr>
              <a:t>5. Травмы различных областей те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3" descr="2552820.jpg"/>
          <p:cNvPicPr/>
          <p:nvPr/>
        </p:nvPicPr>
        <p:blipFill>
          <a:blip r:embed="rId1"/>
          <a:stretch/>
        </p:blipFill>
        <p:spPr>
          <a:xfrm>
            <a:off x="4356000" y="2421000"/>
            <a:ext cx="4464000" cy="367668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179280" y="260280"/>
            <a:ext cx="667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"/>
          <p:cNvSpPr/>
          <p:nvPr/>
        </p:nvSpPr>
        <p:spPr>
          <a:xfrm>
            <a:off x="0" y="3105000"/>
            <a:ext cx="601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"/>
              </a:rPr>
              <a:t>6. Ожоги, эффекты воздействия высоких температур, теплового изл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3" descr="2639874.jpg"/>
          <p:cNvPicPr/>
          <p:nvPr/>
        </p:nvPicPr>
        <p:blipFill>
          <a:blip r:embed="rId1"/>
          <a:stretch/>
        </p:blipFill>
        <p:spPr>
          <a:xfrm>
            <a:off x="5580000" y="2565360"/>
            <a:ext cx="3384720" cy="309564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LEGION</cp:lastModifiedBy>
  <dcterms:modified xsi:type="dcterms:W3CDTF">2015-05-12T08:47:57Z</dcterms:modified>
  <cp:revision>722</cp:revision>
  <dc:subject/>
  <dc:title>Оказание первой помощи</dc:title>
</cp:coreProperties>
</file>