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9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695FD-30D7-450B-A5B9-507339DBAAC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казание первой помощ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67C15-77CF-43E0-896C-65E01C97EE8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ac090"/>
                </a:solidFill>
                <a:latin typeface="Calibri"/>
              </a:rPr>
              <a:t>Перечень состояний, при котор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ac09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ac090"/>
                </a:solidFill>
                <a:latin typeface="Calibri"/>
              </a:rPr>
              <a:t>оказывается первая помощ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7. Отморожение и другие эффекты воздействия низких температу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3C11E-4F23-437E-9C2B-0E8B18976B5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ac090"/>
                </a:solidFill>
                <a:latin typeface="Calibri"/>
              </a:rPr>
              <a:t>Перечень состояний, при котор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ac09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ac090"/>
                </a:solidFill>
                <a:latin typeface="Calibri"/>
              </a:rPr>
              <a:t>оказывается первая помощ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8. Отрав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32ABC-6A9F-4775-A0A9-B44EDE31A67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3735"/>
                </a:solidFill>
                <a:latin typeface="Calibri"/>
              </a:rPr>
              <a:t>В соответствии </a:t>
            </a: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с частью 1 статьи 31 Федерального закона от 21 ноября 2011 г. № 323-ФЗ «Об основах охраны здоровья граждан в Российской Федерации»</a:t>
            </a:r>
            <a:r>
              <a:rPr b="0" lang="ru-RU" sz="1200" spc="-1" strike="noStrike">
                <a:solidFill>
                  <a:srgbClr val="953735"/>
                </a:solidFill>
                <a:latin typeface="Calibri"/>
              </a:rPr>
              <a:t>  первая помощь до оказания медицинской помощи оказывается гражданам при несчастных случаях, травмах, отравлениях и других состояниях и заболеваниях, угрожающих их жизни и здоровью, лицами, обязанными оказывать первую помощь в соответствии с федеральным законом или со специальным правилом и имеющими соответствующую подготовку, в том числе сотрудниками органов внутренних дел Российской Федерации, сотрудниками, военнослужащими и работниками Государственной противопожарной службы, спасателями аварийно-спасательных формирований и аварийно-спасательных служб. В соответствии с частью 4 статьи 31 Федерального закона от 21 ноября 2011 г. № 323-ФЗ водители транспортных средств и другие лица вправе оказывать первую помощь при наличии соответствующей подготовки и (или) навы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C182D-33E3-4FA5-86B2-51A39ECA3D5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еречень мероприятий по оказанию первой помощ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BDEF5-72AA-4E82-AF57-BF0534374CB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222268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22268"/>
                </a:solidFill>
                <a:latin typeface="Calibri"/>
              </a:rPr>
              <a:t>Мероприятия по оценке обстановки и обеспечению безопасных условий для оказания первой помощ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262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1) определение угрожающих факторов для собственной жизни и здоровь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262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2) определение угрожающих факторов для жизни и здоровья пострадавшег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262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3) устранение угрожающих факторов для жизни и здоровь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262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4) прекращение действия повреждающих факторов на пострадавшег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262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5) оценка количества пострадавши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262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6) извлечение пострадавшего из транспортного средства или других труднодоступных мес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262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7) перемещение пострадавше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783F5-9064-45DC-A270-8DD4CE5BB49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2. Вызов скорой медицинской помощи, других специальных служб, сотрудники которых обязаны оказывать первую помощь в соответствии с федеральным законом или со специальным правил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954C7-8E6D-4A05-BDEF-46B2CD30BD1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3. Определение наличия сознания у пострадавшег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06D27-C737-475E-A56E-62F596E3C4A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268"/>
                </a:solidFill>
                <a:latin typeface="Calibri"/>
              </a:rPr>
              <a:t>4. Мероприятия по восстановлению проходимости дыхательных путей и определению признаков жизни у пострадавшего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1) запрокидывание головы с подъёмом подбород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2) выдвижение нижней челю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3) определение наличия дыхания с помощью слуха, зрения и осяз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4) определение наличия кровообращения, проверка пульса на магистральных артер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BE7AA-4B81-4C79-B1D6-493FFDA0DF7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22268"/>
                </a:solidFill>
                <a:latin typeface="Calibri"/>
              </a:rPr>
              <a:t>5. Мероприятия по проведению сердечно-легочной реанимации до появления признаков жизн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1) давление руками на грудину пострадавшег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2) искусственное дыхание «Рот ко рту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3) искусственное дыхание «Рот к носу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4) искусственное дыхание с использованием устройства для искусственного дыха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48D94-44DD-4254-A640-DB87B63535F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222268"/>
                </a:solidFill>
                <a:latin typeface="Calibri"/>
              </a:rPr>
              <a:t>6. Мероприятия по поддержанию проходимости дыхательных путей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1) придание устойчивого бокового полож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2) запрокидывание головы с подъёмом подбород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3) выдвижение нижней челю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1AB2E-AF64-42F4-A135-60D42E1C787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3735"/>
                </a:solidFill>
                <a:latin typeface="Calibri"/>
              </a:rPr>
              <a:t>План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ac09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ac090"/>
                </a:solidFill>
                <a:latin typeface="Calibri"/>
              </a:rPr>
              <a:t>Перечень состояний, при которых оказывается первая помощ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ac09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ac090"/>
                </a:solidFill>
                <a:latin typeface="Calibri"/>
              </a:rPr>
              <a:t>Перечень мероприятий по оказанию первой помощ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556E4-1C02-44C0-981A-F3C588F2F97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61645"/>
                </a:solidFill>
                <a:latin typeface="Calibri"/>
              </a:rPr>
              <a:t>7. Мероприятия по обзорному осмотру пострадавшего и временной остановке наружного кровотеч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1) обзорный осмотр пострадавшего на наличие кровотечен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2) пальцевое прижатие артер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3) наложение жгут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4) максимальное сгибание конечности в сустав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5) прямое давление на ран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6) наложение давящей повяз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87921-7542-4BB7-9D4D-D690D45A2CF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62673"/>
                </a:solidFill>
                <a:latin typeface="Calibri"/>
              </a:rPr>
              <a:t>8. Мероприятия по подробному осмотру пострадавшего в целях выявления признаков травм, отравлений и других состояний, угрожающих его жизни и здоровью, и по оказанию первой помощи в случае выявления указанных состояний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1) проведение осмотра голов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2) проведение осмотра ше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3) проведение осмотра груд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4) проведение осмотра спин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5) проведение осмотра живота и таз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6) проведение осмотра конечност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7) наложение повязок при травмах различных областей тела, в том числе окклюзионной (герметизирующей) при ранении грудной клет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8) проведение иммобилизации (с помощью подручных средств, аутоиммобилизация, с использованием изделий медицинского назначения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55372-F336-4E68-BE45-E3DB173D9C8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9) фиксация шейного отдела позвоночника (вручную, подручными средствами, с использованием изделий медицинского назначения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10) прекращение воздействия опасных химических веществ на пострадавшего (промывание желудка путём приёма воды и вызывания рвоты, удаление с повреждённой поверхности и промывание повреждённой поверхности проточной водой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11) местное охлаждение при травмах, термических ожогах и иных воздействиях высоких температур или теплового излуч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12) термоизоляция при отморожениях и других эффектах воздействия низких температу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ADB5A-B5CE-4AD7-B8C7-566B0501BA6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3735"/>
                </a:solidFill>
                <a:latin typeface="Calibri"/>
              </a:rPr>
              <a:t>9. Придание пострадавшему оптимального положения те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67ACE-8CF9-4531-9291-17E9839ECF7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3735"/>
                </a:solidFill>
                <a:latin typeface="Calibri"/>
              </a:rPr>
              <a:t>10. Контроль состояния пострадавшего (сознание, дыхание, кровообращение) и оказание психологической поддерж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ACAB0-6607-4E0E-A3CB-1CA8DD78DF9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3735"/>
                </a:solidFill>
                <a:latin typeface="Calibri"/>
              </a:rPr>
              <a:t>11. Передача пострадавшего бригаде скорой медицинской помощи, другим специальным службам, сотрудники которых обязаны оказывать первую помощь в соответствии с федеральным законом или со специальным правил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E3476-59FD-4425-BDCD-1E4DFC7C310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удьте  счастливы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F2AB7-3209-4702-AF4A-94E4BFDA5D6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22268"/>
                </a:solidFill>
                <a:latin typeface="Calibri"/>
              </a:rPr>
              <a:t>Приказ Минздравсоцразвития Росс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22268"/>
                </a:solidFill>
                <a:latin typeface="Calibri"/>
              </a:rPr>
              <a:t>№ </a:t>
            </a:r>
            <a:r>
              <a:rPr b="0" lang="ru-RU" sz="1200" spc="-1" strike="noStrike">
                <a:solidFill>
                  <a:srgbClr val="222268"/>
                </a:solidFill>
                <a:latin typeface="Calibri"/>
              </a:rPr>
              <a:t>477н от 04.05.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Об утверждении перечня состояний, при которых оказывается первая помощь, и перечня мероприятий по оказанию первой помощ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регистрирован в Минюсте РФ 16 мая 2012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истрационный номер 2418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C0DC4-A342-49F8-92C3-70E7074C9DA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ac090"/>
                </a:solidFill>
                <a:latin typeface="Calibri"/>
              </a:rPr>
              <a:t>Перечень состояний, при котор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ac09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ac090"/>
                </a:solidFill>
                <a:latin typeface="Calibri"/>
              </a:rPr>
              <a:t>оказывается первая помощ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1. Отсутствие созн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E662C-6356-4D9D-8428-58E89FE374B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ac090"/>
                </a:solidFill>
                <a:latin typeface="Calibri"/>
              </a:rPr>
              <a:t>Перечень состояний, при котор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ac09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ac090"/>
                </a:solidFill>
                <a:latin typeface="Calibri"/>
              </a:rPr>
              <a:t>оказывается первая помощ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2. Остановка дыхания и кровообращ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ED1C5-8B6E-4C2A-B26A-C536FCE808D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ac090"/>
                </a:solidFill>
                <a:latin typeface="Calibri"/>
              </a:rPr>
              <a:t>Перечень состояний, при котор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ac09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ac090"/>
                </a:solidFill>
                <a:latin typeface="Calibri"/>
              </a:rPr>
              <a:t>оказывается первая помощ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3. Наружные кровотеч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78380-D841-45D2-8A72-8FE7F0A58CE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ac090"/>
                </a:solidFill>
                <a:latin typeface="Calibri"/>
              </a:rPr>
              <a:t>Перечень состояний, при котор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ac09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ac090"/>
                </a:solidFill>
                <a:latin typeface="Calibri"/>
              </a:rPr>
              <a:t>оказывается первая помощ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3735"/>
                </a:solidFill>
                <a:latin typeface="Calibri"/>
              </a:rPr>
              <a:t>4. Инородные тела верхних дыхательных пу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9B9B5-0AC1-4EF7-BD9F-38D527D6555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ac090"/>
                </a:solidFill>
                <a:latin typeface="Calibri"/>
              </a:rPr>
              <a:t>Перечень состояний, при котор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ac09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ac090"/>
                </a:solidFill>
                <a:latin typeface="Calibri"/>
              </a:rPr>
              <a:t>оказывается первая помощ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5. Травмы различных областей те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C2244-C3A1-40B5-B0B4-E54F6BB8156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ac090"/>
                </a:solidFill>
                <a:latin typeface="Calibri"/>
              </a:rPr>
              <a:t>Перечень состояний, при котор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ac09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ac090"/>
                </a:solidFill>
                <a:latin typeface="Calibri"/>
              </a:rPr>
              <a:t>оказывается первая помощ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6. Ожоги, эффекты воздействия высоких температур, теплового излуч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A59A8-AA76-4199-8436-8FF4F4AD1AB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8131-A008-4C0E-BB4E-3BB6F2336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A1FE-A3B8-418B-BDEF-ACD0A141A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C03D-ECD3-48B3-B02B-465F12146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2DA8-C66D-4FF8-BAFD-A9A2E602B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A7CE-0DA0-47F5-8026-FD6F6DF8C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BCE4-9AE0-4C95-816E-DC7057F5B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9F2D-E318-4BD9-B3D0-D450599D7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E1B7-F558-4FF8-A7FA-B2BEE58FD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05FB-8ACC-4CA1-830A-A7EBB2A6F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7090-60BD-4FE3-A571-B10C8DEE3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CE9E-4C43-42F5-9260-DE8304493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A8FF-AAA8-4472-B0BE-F071AEEA6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5D04D-3F8A-45BA-B825-53A7634E2EC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Прямоугольник 2" descr=""/>
          <p:cNvPicPr/>
          <p:nvPr/>
        </p:nvPicPr>
        <p:blipFill>
          <a:blip r:embed="rId2"/>
          <a:stretch/>
        </p:blipFill>
        <p:spPr>
          <a:xfrm>
            <a:off x="682560" y="3181320"/>
            <a:ext cx="8418600" cy="2341440"/>
          </a:xfrm>
          <a:prstGeom prst="rect">
            <a:avLst/>
          </a:prstGeom>
          <a:ln w="0">
            <a:noFill/>
          </a:ln>
        </p:spPr>
      </p:pic>
      <p:sp>
        <p:nvSpPr>
          <p:cNvPr id="49" name="TextBox 3"/>
          <p:cNvSpPr/>
          <p:nvPr/>
        </p:nvSpPr>
        <p:spPr>
          <a:xfrm>
            <a:off x="2124000" y="1557360"/>
            <a:ext cx="417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2268"/>
                </a:solidFill>
                <a:latin typeface="Arial"/>
              </a:rPr>
              <a:t>Урок ОБЖ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4"/>
          <p:cNvSpPr/>
          <p:nvPr/>
        </p:nvSpPr>
        <p:spPr>
          <a:xfrm>
            <a:off x="1476360" y="5013360"/>
            <a:ext cx="62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временные требова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1403280" y="189000"/>
            <a:ext cx="45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9194d"/>
                </a:solidFill>
                <a:latin typeface="Arial"/>
              </a:rPr>
              <a:t>ГБОУ  СОШ №280 им. М.Ю.Лермонт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9194d"/>
                </a:solidFill>
                <a:latin typeface="Arial"/>
              </a:rPr>
              <a:t>Адмиралтейский райо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6"/>
          <p:cNvSpPr/>
          <p:nvPr/>
        </p:nvSpPr>
        <p:spPr>
          <a:xfrm>
            <a:off x="1835280" y="6021360"/>
            <a:ext cx="73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000"/>
                </a:solidFill>
                <a:latin typeface="Arial"/>
              </a:rPr>
              <a:t>Подготовил: преподаватель-организатор ОБЖ Солошенко С.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Прямоугольник 1"/>
          <p:cNvSpPr/>
          <p:nvPr/>
        </p:nvSpPr>
        <p:spPr>
          <a:xfrm>
            <a:off x="0" y="404640"/>
            <a:ext cx="685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b6bcf"/>
                </a:solidFill>
                <a:latin typeface="Arial"/>
              </a:rPr>
              <a:t>Перечень состояний, при котор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b6bc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6b6bcf"/>
                </a:solidFill>
                <a:latin typeface="Arial"/>
              </a:rPr>
              <a:t>оказывается первая помощ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2"/>
          <p:cNvSpPr/>
          <p:nvPr/>
        </p:nvSpPr>
        <p:spPr>
          <a:xfrm>
            <a:off x="0" y="3105000"/>
            <a:ext cx="579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2268"/>
                </a:solidFill>
                <a:latin typeface="Arial"/>
              </a:rPr>
              <a:t>7. Отморожение и другие эффекты воздействия низких температу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Рисунок 3" descr="holodno.jpg"/>
          <p:cNvPicPr/>
          <p:nvPr/>
        </p:nvPicPr>
        <p:blipFill>
          <a:blip r:embed="rId1"/>
          <a:stretch/>
        </p:blipFill>
        <p:spPr>
          <a:xfrm>
            <a:off x="5508720" y="2133720"/>
            <a:ext cx="3024000" cy="3886200"/>
          </a:xfrm>
          <a:prstGeom prst="rect">
            <a:avLst/>
          </a:prstGeom>
          <a:ln w="0">
            <a:noFill/>
          </a:ln>
        </p:spPr>
      </p:pic>
      <p:sp>
        <p:nvSpPr>
          <p:cNvPr id="86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Прямоугольник 1"/>
          <p:cNvSpPr/>
          <p:nvPr/>
        </p:nvSpPr>
        <p:spPr>
          <a:xfrm>
            <a:off x="0" y="333360"/>
            <a:ext cx="685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b6bcf"/>
                </a:solidFill>
                <a:latin typeface="Arial"/>
              </a:rPr>
              <a:t>Перечень состояний, при котор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b6bc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6b6bcf"/>
                </a:solidFill>
                <a:latin typeface="Arial"/>
              </a:rPr>
              <a:t>оказывается первая помощ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2"/>
          <p:cNvSpPr/>
          <p:nvPr/>
        </p:nvSpPr>
        <p:spPr>
          <a:xfrm>
            <a:off x="179280" y="3244680"/>
            <a:ext cx="43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22268"/>
                </a:solidFill>
                <a:latin typeface="Arial"/>
              </a:rPr>
              <a:t>8. Отравле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Рисунок 3" descr="267945-1378-26.jpg"/>
          <p:cNvPicPr/>
          <p:nvPr/>
        </p:nvPicPr>
        <p:blipFill>
          <a:blip r:embed="rId1"/>
          <a:stretch/>
        </p:blipFill>
        <p:spPr>
          <a:xfrm>
            <a:off x="4427640" y="2349360"/>
            <a:ext cx="4392360" cy="3167280"/>
          </a:xfrm>
          <a:prstGeom prst="rect">
            <a:avLst/>
          </a:prstGeom>
          <a:ln w="0">
            <a:noFill/>
          </a:ln>
        </p:spPr>
      </p:pic>
      <p:sp>
        <p:nvSpPr>
          <p:cNvPr id="90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рямоугольник 1"/>
          <p:cNvSpPr/>
          <p:nvPr/>
        </p:nvSpPr>
        <p:spPr>
          <a:xfrm>
            <a:off x="179280" y="549360"/>
            <a:ext cx="777744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73"/>
                </a:solidFill>
                <a:latin typeface="Arial"/>
              </a:rPr>
              <a:t>В соответствии 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с частью 1 статьи 31 Федерального закона от 21 ноября 2011 г. № 323-ФЗ «Об основах охраны здоровья граждан в Российской Федерации»</a:t>
            </a:r>
            <a:r>
              <a:rPr b="0" lang="ru-RU" sz="2000" spc="-1" strike="noStrike">
                <a:solidFill>
                  <a:srgbClr val="262673"/>
                </a:solidFill>
                <a:latin typeface="Arial"/>
              </a:rPr>
              <a:t>  первая помощь до оказания медицинской помощи оказывается гражданам при несчастных случаях, травмах, отравлениях и других состояниях и заболеваниях, угрожающих их жизни и здоровью, лицами, обязанными оказывать первую помощь в соответствии с федеральным законом или со специальным правилом и имеющими соответствующую подготовку, в том числе сотрудниками органов внутренних дел Российской Федерации, сотрудниками, военнослужащими и работниками Государственной противопожарной службы, спасателями аварийно-спасательных формирований и аварийно-спасательных служб. В соответствии с частью 4 статьи 31 Федерального закона от 21 ноября 2011 г. № 323-ФЗ водители транспортных средств и другие лица вправе оказывать первую помощь при наличии соответствующей подготовки и (или) навы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Прямоугольник 2" descr=""/>
          <p:cNvPicPr/>
          <p:nvPr/>
        </p:nvPicPr>
        <p:blipFill>
          <a:blip r:embed="rId1"/>
          <a:stretch/>
        </p:blipFill>
        <p:spPr>
          <a:xfrm>
            <a:off x="0" y="1785960"/>
            <a:ext cx="9339120" cy="3249720"/>
          </a:xfrm>
          <a:prstGeom prst="rect">
            <a:avLst/>
          </a:prstGeom>
          <a:ln w="0">
            <a:noFill/>
          </a:ln>
        </p:spPr>
      </p:pic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1"/>
          <p:cNvSpPr/>
          <p:nvPr/>
        </p:nvSpPr>
        <p:spPr>
          <a:xfrm>
            <a:off x="0" y="-110880"/>
            <a:ext cx="9144000" cy="58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14440" indent="-514440">
              <a:lnSpc>
                <a:spcPct val="100000"/>
              </a:lnSpc>
              <a:buClr>
                <a:srgbClr val="222268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22268"/>
                </a:solidFill>
                <a:latin typeface="Calibri"/>
              </a:rPr>
              <a:t>Мероприятия по оценке обстановки и обеспечению безопасных условий для оказания первой помощ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22226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262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Calibri"/>
              </a:rPr>
              <a:t>1) определение угрожающих факторов для собственной жизни и здоровь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262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Calibri"/>
              </a:rPr>
              <a:t>2) определение угрожающих факторов для жизни и здоровья пострадавшег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262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Calibri"/>
              </a:rPr>
              <a:t>3) устранение угрожающих факторов для жизни и здоровь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262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Calibri"/>
              </a:rPr>
              <a:t>4) прекращение действия повреждающих факторов на пострадавшег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262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Calibri"/>
              </a:rPr>
              <a:t>5) оценка количества пострадавши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262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Calibri"/>
              </a:rPr>
              <a:t>6) извлечение пострадавшего из транспортного средства или других труднодоступных мес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262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Calibri"/>
              </a:rPr>
              <a:t>7) перемещение пострадавше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Прямоугольник 1"/>
          <p:cNvSpPr/>
          <p:nvPr/>
        </p:nvSpPr>
        <p:spPr>
          <a:xfrm>
            <a:off x="250920" y="333360"/>
            <a:ext cx="6985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2268"/>
                </a:solidFill>
                <a:latin typeface="Arial"/>
              </a:rPr>
              <a:t>2. Вызов скорой медицинской помощи, других специальных служб, сотрудники которых обязаны оказывать первую помощь в соответствии с федеральным законом или со специальным правил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Рисунок 2" descr="pic_15719.jpg"/>
          <p:cNvPicPr/>
          <p:nvPr/>
        </p:nvPicPr>
        <p:blipFill>
          <a:blip r:embed="rId1"/>
          <a:stretch/>
        </p:blipFill>
        <p:spPr>
          <a:xfrm>
            <a:off x="1835280" y="2781360"/>
            <a:ext cx="4944960" cy="352728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"/>
          <p:cNvSpPr/>
          <p:nvPr/>
        </p:nvSpPr>
        <p:spPr>
          <a:xfrm>
            <a:off x="250920" y="189000"/>
            <a:ext cx="756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22268"/>
                </a:solidFill>
                <a:latin typeface="Arial"/>
              </a:rPr>
              <a:t>3. Определение наличия сознания у пострадавшег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Рисунок 2" descr="cpr-new-1.jpg"/>
          <p:cNvPicPr/>
          <p:nvPr/>
        </p:nvPicPr>
        <p:blipFill>
          <a:blip r:embed="rId1"/>
          <a:stretch/>
        </p:blipFill>
        <p:spPr>
          <a:xfrm>
            <a:off x="2484360" y="1916280"/>
            <a:ext cx="3816360" cy="417672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1"/>
          <p:cNvSpPr/>
          <p:nvPr/>
        </p:nvSpPr>
        <p:spPr>
          <a:xfrm>
            <a:off x="0" y="168120"/>
            <a:ext cx="9144000" cy="62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2268"/>
                </a:solidFill>
                <a:latin typeface="Calibri"/>
              </a:rPr>
              <a:t>4. Мероприятия по восстановлению проходимости дыхательных путей и определению признаков жизни у пострадавшег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Calibri"/>
              </a:rPr>
              <a:t>1) запрокидывание головы с подъёмом подбородк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Calibri"/>
              </a:rPr>
              <a:t>2) выдвижение нижней челюст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Calibri"/>
              </a:rPr>
              <a:t>3) определение наличия дыхания с помощью слуха, зрения и осяза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Calibri"/>
              </a:rPr>
              <a:t>4) определение наличия кровообращения, проверка пульса на магистральных артерия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1"/>
          <p:cNvSpPr/>
          <p:nvPr/>
        </p:nvSpPr>
        <p:spPr>
          <a:xfrm>
            <a:off x="0" y="348120"/>
            <a:ext cx="9144000" cy="52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22268"/>
                </a:solidFill>
                <a:latin typeface="Calibri"/>
              </a:rPr>
              <a:t>5. Мероприятия по проведению сердечно-легочной реанимации до появления признаков жизн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Calibri"/>
              </a:rPr>
              <a:t>1) давление руками на грудину пострадавшег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Calibri"/>
              </a:rPr>
              <a:t>2) искусственное дыхание «Рот ко рту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Calibri"/>
              </a:rPr>
              <a:t>3) искусственное дыхание «Рот к носу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Arial"/>
              </a:rPr>
              <a:t>4) искусственное дыхание с использованием устройства для искусственного дыхания</a:t>
            </a:r>
            <a:r>
              <a:rPr b="0" lang="ru-RU" sz="1800" spc="-1" strike="noStrike">
                <a:solidFill>
                  <a:srgbClr val="26267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1"/>
          <p:cNvSpPr/>
          <p:nvPr/>
        </p:nvSpPr>
        <p:spPr>
          <a:xfrm>
            <a:off x="611280" y="-41040"/>
            <a:ext cx="6840360" cy="61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22268"/>
                </a:solidFill>
                <a:latin typeface="Calibri"/>
              </a:rPr>
              <a:t>6. Мероприятия по поддержанию проходимости дыхательных путе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62673"/>
                </a:solidFill>
                <a:latin typeface="Calibri"/>
              </a:rPr>
              <a:t>1) придание устойчивого бокового положения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62673"/>
                </a:solidFill>
                <a:latin typeface="Calibri"/>
              </a:rPr>
              <a:t>2) запрокидывание головы с подъёмом подбородка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62673"/>
                </a:solidFill>
                <a:latin typeface="Calibri"/>
              </a:rPr>
              <a:t>3) выдвижение нижней челюст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62673"/>
                </a:solidFill>
                <a:latin typeface="Arial"/>
              </a:rPr>
              <a:t>План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b6bc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b6bcf"/>
                </a:solidFill>
                <a:latin typeface="Arial"/>
              </a:rPr>
              <a:t>Перечень состояний, при которых оказывается первая помощ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b6bc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b6bcf"/>
                </a:solidFill>
                <a:latin typeface="Arial"/>
              </a:rPr>
              <a:t>Перечень мероприятий по оказанию первой помощ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1"/>
          <p:cNvSpPr/>
          <p:nvPr/>
        </p:nvSpPr>
        <p:spPr>
          <a:xfrm>
            <a:off x="0" y="358200"/>
            <a:ext cx="9144000" cy="57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61645"/>
                </a:solidFill>
                <a:latin typeface="Calibri"/>
              </a:rPr>
              <a:t>7. Мероприятия по обзорному осмотру пострадавшего и временной остановке наружного кровотеч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Calibri"/>
              </a:rPr>
              <a:t>1) обзорный осмотр пострадавшего на наличие кровотечени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Calibri"/>
              </a:rPr>
              <a:t>2) пальцевое прижатие артер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Calibri"/>
              </a:rPr>
              <a:t>3) наложение жгу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Calibri"/>
              </a:rPr>
              <a:t>4) максимальное сгибание конечности в сустав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Calibri"/>
              </a:rPr>
              <a:t>5) прямое давление на ран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Calibri"/>
              </a:rPr>
              <a:t>6) наложение давящей повяз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"/>
          <p:cNvSpPr/>
          <p:nvPr/>
        </p:nvSpPr>
        <p:spPr>
          <a:xfrm>
            <a:off x="0" y="-61920"/>
            <a:ext cx="9144000" cy="69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62673"/>
                </a:solidFill>
                <a:latin typeface="Calibri"/>
              </a:rPr>
              <a:t>8. Мероприятия по подробному осмотру пострадавшего в целях выявления признаков травм, отравлений и других состояний, угрожающих его жизни и здоровью, и по оказанию первой помощи в случае выявления указанных состояни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Calibri"/>
              </a:rPr>
              <a:t>1) проведение осмотра голов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Calibri"/>
              </a:rPr>
              <a:t>2) проведение осмотра ше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Calibri"/>
              </a:rPr>
              <a:t>3) проведение осмотра груд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Calibri"/>
              </a:rPr>
              <a:t>4) проведение осмотра спин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Calibri"/>
              </a:rPr>
              <a:t>5) проведение осмотра живота и таз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Calibri"/>
              </a:rPr>
              <a:t>6) проведение осмотра конечност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Calibri"/>
              </a:rPr>
              <a:t>7) наложение повязок при травмах различных областей тела, в том числе окклюзионной (герметизирующей) при ранении грудной клет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Calibri"/>
              </a:rPr>
              <a:t>8) проведение иммобилизации (с помощью подручных средств, аутоиммобилизация, с использованием изделий медицинского назначения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1"/>
          <p:cNvSpPr/>
          <p:nvPr/>
        </p:nvSpPr>
        <p:spPr>
          <a:xfrm>
            <a:off x="0" y="2009160"/>
            <a:ext cx="9144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Calibri"/>
              </a:rPr>
              <a:t>9) фиксация шейного отдела позвоночника (вручную, подручными средствами, с использованием изделий медицинского назначения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Calibri"/>
              </a:rPr>
              <a:t>10) прекращение воздействия опасных химических веществ на пострадавшего (промывание желудка путём приёма воды и вызывания рвоты, удаление с повреждённой поверхности и промывание повреждённой поверхности проточной водой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Calibri"/>
              </a:rPr>
              <a:t>11) местное охлаждение при травмах, термических ожогах и иных воздействиях высоких температур или теплового излуч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Calibri"/>
              </a:rPr>
              <a:t>12) термоизоляция при отморожениях и других эффектах воздействия низких температу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Прямоугольник 1"/>
          <p:cNvSpPr/>
          <p:nvPr/>
        </p:nvSpPr>
        <p:spPr>
          <a:xfrm>
            <a:off x="324000" y="404640"/>
            <a:ext cx="653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Arial"/>
              </a:rPr>
              <a:t>9. Придание пострадавшему оптимального положения те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Рисунок 2" descr="376850-5979-54.jpg"/>
          <p:cNvPicPr/>
          <p:nvPr/>
        </p:nvPicPr>
        <p:blipFill>
          <a:blip r:embed="rId1"/>
          <a:stretch/>
        </p:blipFill>
        <p:spPr>
          <a:xfrm>
            <a:off x="2484360" y="2060640"/>
            <a:ext cx="3600360" cy="3816360"/>
          </a:xfrm>
          <a:prstGeom prst="rect">
            <a:avLst/>
          </a:prstGeom>
          <a:ln w="0">
            <a:noFill/>
          </a:ln>
        </p:spPr>
      </p:pic>
      <p:sp>
        <p:nvSpPr>
          <p:cNvPr id="117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Прямоугольник 1"/>
          <p:cNvSpPr/>
          <p:nvPr/>
        </p:nvSpPr>
        <p:spPr>
          <a:xfrm>
            <a:off x="395280" y="260280"/>
            <a:ext cx="7129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62673"/>
                </a:solidFill>
                <a:latin typeface="Arial"/>
              </a:rPr>
              <a:t>10. Контроль состояния пострадавшего (сознание, дыхание, кровообращение) и оказание психологической поддерж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Рисунок 2" descr="10.jpg"/>
          <p:cNvPicPr/>
          <p:nvPr/>
        </p:nvPicPr>
        <p:blipFill>
          <a:blip r:embed="rId1"/>
          <a:stretch/>
        </p:blipFill>
        <p:spPr>
          <a:xfrm>
            <a:off x="2124000" y="1844640"/>
            <a:ext cx="3960720" cy="4537080"/>
          </a:xfrm>
          <a:prstGeom prst="rect">
            <a:avLst/>
          </a:prstGeom>
          <a:ln w="0">
            <a:noFill/>
          </a:ln>
        </p:spPr>
      </p:pic>
      <p:sp>
        <p:nvSpPr>
          <p:cNvPr id="120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Прямоугольник 1"/>
          <p:cNvSpPr/>
          <p:nvPr/>
        </p:nvSpPr>
        <p:spPr>
          <a:xfrm>
            <a:off x="179280" y="333360"/>
            <a:ext cx="7488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62673"/>
                </a:solidFill>
                <a:latin typeface="Arial"/>
              </a:rPr>
              <a:t>11. Передача пострадавшего бригаде скорой медицинской помощи, другим специальным службам, сотрудники которых обязаны оказывать первую помощь в соответствии с федеральным законом или со специальным правил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Рисунок 2" descr="80482.jpg"/>
          <p:cNvPicPr/>
          <p:nvPr/>
        </p:nvPicPr>
        <p:blipFill>
          <a:blip r:embed="rId1"/>
          <a:stretch/>
        </p:blipFill>
        <p:spPr>
          <a:xfrm>
            <a:off x="755640" y="3068640"/>
            <a:ext cx="5848200" cy="345600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TextBox 1" descr=""/>
          <p:cNvPicPr/>
          <p:nvPr/>
        </p:nvPicPr>
        <p:blipFill>
          <a:blip r:embed="rId2"/>
          <a:stretch/>
        </p:blipFill>
        <p:spPr>
          <a:xfrm>
            <a:off x="542880" y="530280"/>
            <a:ext cx="8277120" cy="309708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1"/>
          <p:cNvSpPr/>
          <p:nvPr/>
        </p:nvSpPr>
        <p:spPr>
          <a:xfrm>
            <a:off x="0" y="34488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22268"/>
                </a:solidFill>
                <a:latin typeface="Calibri"/>
              </a:rPr>
              <a:t>Приказ Минздравсоцразвития Росси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22268"/>
                </a:solidFill>
                <a:latin typeface="Calibri"/>
              </a:rPr>
              <a:t>№ </a:t>
            </a:r>
            <a:r>
              <a:rPr b="0" lang="ru-RU" sz="3600" spc="-1" strike="noStrike">
                <a:solidFill>
                  <a:srgbClr val="222268"/>
                </a:solidFill>
                <a:latin typeface="Calibri"/>
              </a:rPr>
              <a:t>477н от 04.05.20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Об утверждении перечня состояний, при которых оказывается первая помощь, и перечня мероприятий по оказанию первой помощ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регистрирован в Минюсте РФ 16 мая 2012 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Регистрационный номер 2418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 1"/>
          <p:cNvSpPr/>
          <p:nvPr/>
        </p:nvSpPr>
        <p:spPr>
          <a:xfrm>
            <a:off x="539640" y="260280"/>
            <a:ext cx="698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b6bcf"/>
                </a:solidFill>
                <a:latin typeface="Arial"/>
              </a:rPr>
              <a:t>Перечень состояний, при котор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b6bc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6b6bcf"/>
                </a:solidFill>
                <a:latin typeface="Arial"/>
              </a:rPr>
              <a:t>оказывается первая помощ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Рисунок 2" descr="obmorok.jpg"/>
          <p:cNvPicPr/>
          <p:nvPr/>
        </p:nvPicPr>
        <p:blipFill>
          <a:blip r:embed="rId1"/>
          <a:stretch/>
        </p:blipFill>
        <p:spPr>
          <a:xfrm>
            <a:off x="4788000" y="22050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61" name="TextBox 3"/>
          <p:cNvSpPr/>
          <p:nvPr/>
        </p:nvSpPr>
        <p:spPr>
          <a:xfrm>
            <a:off x="179280" y="2924280"/>
            <a:ext cx="424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22268"/>
                </a:solidFill>
                <a:latin typeface="Arial"/>
              </a:rPr>
              <a:t>1. Отсутствие сознани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Рисунок 1" descr="press_03.jpg"/>
          <p:cNvPicPr/>
          <p:nvPr/>
        </p:nvPicPr>
        <p:blipFill>
          <a:blip r:embed="rId1"/>
          <a:stretch/>
        </p:blipFill>
        <p:spPr>
          <a:xfrm>
            <a:off x="4211640" y="2349360"/>
            <a:ext cx="4762440" cy="319104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2"/>
          <p:cNvSpPr/>
          <p:nvPr/>
        </p:nvSpPr>
        <p:spPr>
          <a:xfrm>
            <a:off x="755640" y="260280"/>
            <a:ext cx="610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b6bcf"/>
                </a:solidFill>
                <a:latin typeface="Arial"/>
              </a:rPr>
              <a:t>Перечень состояний, при котор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b6bc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6b6bcf"/>
                </a:solidFill>
                <a:latin typeface="Arial"/>
              </a:rPr>
              <a:t>оказывается первая помощ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3"/>
          <p:cNvSpPr/>
          <p:nvPr/>
        </p:nvSpPr>
        <p:spPr>
          <a:xfrm>
            <a:off x="0" y="3105000"/>
            <a:ext cx="421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2268"/>
                </a:solidFill>
                <a:latin typeface="Arial"/>
              </a:rPr>
              <a:t>2. Остановка дыхания и кровообращ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Прямоугольник 1"/>
          <p:cNvSpPr/>
          <p:nvPr/>
        </p:nvSpPr>
        <p:spPr>
          <a:xfrm>
            <a:off x="250920" y="260280"/>
            <a:ext cx="72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b6bcf"/>
                </a:solidFill>
                <a:latin typeface="Arial"/>
              </a:rPr>
              <a:t>Перечень состояний, при котор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b6bc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6b6bcf"/>
                </a:solidFill>
                <a:latin typeface="Arial"/>
              </a:rPr>
              <a:t>оказывается первая помощ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2"/>
          <p:cNvSpPr/>
          <p:nvPr/>
        </p:nvSpPr>
        <p:spPr>
          <a:xfrm>
            <a:off x="0" y="324468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2268"/>
                </a:solidFill>
                <a:latin typeface="Arial"/>
              </a:rPr>
              <a:t>3. Наружные кровотеч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Рисунок 3" descr="firsthelp.gif"/>
          <p:cNvPicPr/>
          <p:nvPr/>
        </p:nvPicPr>
        <p:blipFill>
          <a:blip r:embed="rId1"/>
          <a:stretch/>
        </p:blipFill>
        <p:spPr>
          <a:xfrm>
            <a:off x="4211640" y="2492280"/>
            <a:ext cx="4464000" cy="3313080"/>
          </a:xfrm>
          <a:prstGeom prst="rect">
            <a:avLst/>
          </a:prstGeom>
          <a:ln w="0">
            <a:noFill/>
          </a:ln>
        </p:spPr>
      </p:pic>
      <p:sp>
        <p:nvSpPr>
          <p:cNvPr id="70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Прямоугольник 1"/>
          <p:cNvSpPr/>
          <p:nvPr/>
        </p:nvSpPr>
        <p:spPr>
          <a:xfrm>
            <a:off x="179280" y="189000"/>
            <a:ext cx="667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b6bcf"/>
                </a:solidFill>
                <a:latin typeface="Arial"/>
              </a:rPr>
              <a:t>Перечень состояний, при котор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b6bc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6b6bcf"/>
                </a:solidFill>
                <a:latin typeface="Arial"/>
              </a:rPr>
              <a:t>оказывается первая помощ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2"/>
          <p:cNvSpPr/>
          <p:nvPr/>
        </p:nvSpPr>
        <p:spPr>
          <a:xfrm>
            <a:off x="250920" y="3105000"/>
            <a:ext cx="489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Arial"/>
              </a:rPr>
              <a:t>4. Инородные тела верхних дыхательных пу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Рисунок 3" descr="000199_712692.jpg"/>
          <p:cNvPicPr/>
          <p:nvPr/>
        </p:nvPicPr>
        <p:blipFill>
          <a:blip r:embed="rId1"/>
          <a:stretch/>
        </p:blipFill>
        <p:spPr>
          <a:xfrm>
            <a:off x="4702320" y="2781360"/>
            <a:ext cx="4113000" cy="2735280"/>
          </a:xfrm>
          <a:prstGeom prst="rect">
            <a:avLst/>
          </a:prstGeom>
          <a:ln w="0">
            <a:noFill/>
          </a:ln>
        </p:spPr>
      </p:pic>
      <p:sp>
        <p:nvSpPr>
          <p:cNvPr id="74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Прямоугольник 1"/>
          <p:cNvSpPr/>
          <p:nvPr/>
        </p:nvSpPr>
        <p:spPr>
          <a:xfrm>
            <a:off x="179280" y="404640"/>
            <a:ext cx="667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b6bcf"/>
                </a:solidFill>
                <a:latin typeface="Arial"/>
              </a:rPr>
              <a:t>Перечень состояний, при котор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b6bc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6b6bcf"/>
                </a:solidFill>
                <a:latin typeface="Arial"/>
              </a:rPr>
              <a:t>оказывается первая помощ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2"/>
          <p:cNvSpPr/>
          <p:nvPr/>
        </p:nvSpPr>
        <p:spPr>
          <a:xfrm>
            <a:off x="0" y="3244680"/>
            <a:ext cx="529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2268"/>
                </a:solidFill>
                <a:latin typeface="Arial"/>
              </a:rPr>
              <a:t>5. Травмы различных областей те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Рисунок 3" descr="2552820.jpg"/>
          <p:cNvPicPr/>
          <p:nvPr/>
        </p:nvPicPr>
        <p:blipFill>
          <a:blip r:embed="rId1"/>
          <a:stretch/>
        </p:blipFill>
        <p:spPr>
          <a:xfrm>
            <a:off x="4356000" y="2421000"/>
            <a:ext cx="4464000" cy="3676680"/>
          </a:xfrm>
          <a:prstGeom prst="rect">
            <a:avLst/>
          </a:prstGeom>
          <a:ln w="0">
            <a:noFill/>
          </a:ln>
        </p:spPr>
      </p:pic>
      <p:sp>
        <p:nvSpPr>
          <p:cNvPr id="78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Прямоугольник 1"/>
          <p:cNvSpPr/>
          <p:nvPr/>
        </p:nvSpPr>
        <p:spPr>
          <a:xfrm>
            <a:off x="179280" y="260280"/>
            <a:ext cx="667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b6bcf"/>
                </a:solidFill>
                <a:latin typeface="Arial"/>
              </a:rPr>
              <a:t>Перечень состояний, при котор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b6bc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6b6bcf"/>
                </a:solidFill>
                <a:latin typeface="Arial"/>
              </a:rPr>
              <a:t>оказывается первая помощ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2"/>
          <p:cNvSpPr/>
          <p:nvPr/>
        </p:nvSpPr>
        <p:spPr>
          <a:xfrm>
            <a:off x="0" y="3105000"/>
            <a:ext cx="601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2268"/>
                </a:solidFill>
                <a:latin typeface="Arial"/>
              </a:rPr>
              <a:t>6. Ожоги, эффекты воздействия высоких температур, теплового излуч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Рисунок 3" descr="2639874.jpg"/>
          <p:cNvPicPr/>
          <p:nvPr/>
        </p:nvPicPr>
        <p:blipFill>
          <a:blip r:embed="rId1"/>
          <a:stretch/>
        </p:blipFill>
        <p:spPr>
          <a:xfrm>
            <a:off x="5580000" y="2565360"/>
            <a:ext cx="3384720" cy="3095640"/>
          </a:xfrm>
          <a:prstGeom prst="rect">
            <a:avLst/>
          </a:prstGeom>
          <a:ln w="0">
            <a:noFill/>
          </a:ln>
        </p:spPr>
      </p:pic>
      <p:sp>
        <p:nvSpPr>
          <p:cNvPr id="82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LEGION</cp:lastModifiedBy>
  <dcterms:modified xsi:type="dcterms:W3CDTF">2015-05-12T08:47:57Z</dcterms:modified>
  <cp:revision>722</cp:revision>
  <dc:subject/>
  <dc:title>Оказание первой помощи</dc:title>
</cp:coreProperties>
</file>