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73F9-6AD3-4E1D-B52B-529E0203D461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ГАУЗ Республиканский врачебно-физкультурный диспанс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ервая помощь при утоп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одготовлено в соответствии с письмом МЗ РБ от 14.03.2012 №36/в «Об обеспечении наглядной агитацией общественных спасательных пос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FFB9-DDE3-4930-9714-399318D038C3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1200"/>
            </a:br>
            <a:r>
              <a:rPr b="1" lang="ru-RU" sz="16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E1CC-8045-4272-9118-CD9BB633DDC5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.  Сделай два полных вду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2.  Следи за поднятием грудной кл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5.   Следи, чтобы не западал язы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6. Реанимацию продолжай не менее 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CA1A-44FA-4D4A-9F23-C6BA6FBBE584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оги свело судоро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BE4B-3377-4227-9091-321A7E7F9597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сение тонущего с помощью ло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2C0E-4EB7-48F7-81C7-0C4A115996B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внимательны на вод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746B-B821-4C0F-897D-75FE4D73C848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E072-EFB0-4D84-9BAA-C431196FE6CA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ое правило спас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0D98-0441-43E6-AEFD-525BD04A6BC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6943-2B0A-49A9-AEF5-F2867F14E474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а спа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A6A5-9E63-4BFB-B583-82FFE158B0A3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ксировать тонущего человека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B558-A3C5-4340-8039-90BC2F2470F7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азание первой медицинской помощ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утопл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уложить на жесткую поверх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горячий чай или коф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укутать одеялом и дать отдохну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CED1-1F96-406C-A749-48A437AE579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насухо обтере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вдохнуть нашатырный спи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C394-B89B-4A99-866A-996792CCC643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51FE-B29F-499E-83B5-4EAB085C85A7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18A-C13E-487C-8902-12A50B4B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B02-5BBB-4A4D-9B29-A57B195F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EA1-F45F-4FBE-8B5B-C0366249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163-F36F-4E71-BD84-99D6053F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FB4A-4A7D-4D13-902D-BD0775C7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0541-C8E3-4D39-9817-949B9AA2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6A97-7A58-48FA-9B45-E7485E3F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EB08-3223-436C-92BA-E84BBF3E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E34A-C971-4E7F-98A6-EAB8B254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CBF6-C5B5-4DB1-A180-AAC1B82B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9FF1-B813-4805-8054-85736A7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87D-5F2F-4F95-98DC-FB61CC45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DF05-6648-4848-A1C3-ED70C7DB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241-D31A-4BED-8F1A-65D4E35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A657-1226-44C4-AA61-E122F4E1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BBDA-A333-421D-A1C1-56DCD9EC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DE3F-F6DA-4B40-AD3D-EBE53DDC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988-D387-4B2B-96FB-6C176D40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544-E6D5-482E-A1DB-A77DE18C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F29-A013-4CEC-9E46-BB3EE0CF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F4B-F0F0-4584-8AB1-5B77CBE2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641-3681-45C0-8933-F65CB757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AB2-2AA9-43B7-8C70-D8B9C8E6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ED3-03BA-4F02-973E-16BD30BA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2CCF-9B42-4C46-A334-BB8C888C4DA2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8D9B-B0BB-48B8-A061-16F10C7BEEC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63D6-F676-4C4E-8838-3AB38BCFD061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040E-8F32-4777-80A7-641D7B1F23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857160" y="5429160"/>
            <a:ext cx="74296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585720" y="523800"/>
            <a:ext cx="8008920" cy="1755720"/>
          </a:xfrm>
          <a:prstGeom prst="rect">
            <a:avLst/>
          </a:prstGeom>
          <a:ln w="0">
            <a:noFill/>
          </a:ln>
        </p:spPr>
      </p:pic>
      <p:grpSp>
        <p:nvGrpSpPr>
          <p:cNvPr id="105" name="Подзаголовок 2"/>
          <p:cNvGrpSpPr/>
          <p:nvPr/>
        </p:nvGrpSpPr>
        <p:grpSpPr>
          <a:xfrm>
            <a:off x="841320" y="2341440"/>
            <a:ext cx="7534440" cy="3814920"/>
            <a:chOff x="841320" y="2341440"/>
            <a:chExt cx="7534440" cy="3814920"/>
          </a:xfrm>
        </p:grpSpPr>
        <p:pic>
          <p:nvPicPr>
            <p:cNvPr id="106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841320" y="2341440"/>
              <a:ext cx="753444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2357280"/>
              <a:ext cx="7500960" cy="37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00000"/>
                  </a:solidFill>
                  <a:latin typeface="Arial"/>
                </a:rPr>
                <a:t>Первая помощь при утоплении</a:t>
              </a:r>
              <a:endParaRPr b="0" lang="en-US" sz="72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Подготовлено в соответствии с письмом МЗ РБ от 14.03.2012 №36/в «Об обеспечении наглядной агитацией общественных спасательных постов»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8" name="Місце для нижнього колонтитула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2600"/>
            </a:br>
            <a:r>
              <a:rPr b="1" lang="ru-RU" sz="20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26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5000760" cy="5000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4" descr="007.gif"/>
          <p:cNvPicPr/>
          <p:nvPr/>
        </p:nvPicPr>
        <p:blipFill>
          <a:blip r:embed="rId1"/>
          <a:stretch/>
        </p:blipFill>
        <p:spPr>
          <a:xfrm>
            <a:off x="5500800" y="1500120"/>
            <a:ext cx="3186000" cy="2405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b45e8d3abc5013cf1c5640282e35032c.jpg"/>
          <p:cNvPicPr/>
          <p:nvPr/>
        </p:nvPicPr>
        <p:blipFill>
          <a:blip r:embed="rId2">
            <a:lum contrast="20000"/>
          </a:blip>
          <a:srcRect l="8185" t="0" r="0" b="0"/>
          <a:stretch/>
        </p:blipFill>
        <p:spPr>
          <a:xfrm>
            <a:off x="5500800" y="4000680"/>
            <a:ext cx="3206520" cy="2323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928440"/>
            <a:ext cx="4500720" cy="5429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1.  Сделай два полных вдув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2.  Следи за поднятием грудной клетк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5.   Следи, чтобы не западал язык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6. Реанимацию продолжай не менее 20 мину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Содержимое 4" descr="0007-013-CHto-delat.jpg"/>
          <p:cNvPicPr/>
          <p:nvPr/>
        </p:nvPicPr>
        <p:blipFill>
          <a:blip r:embed="rId1"/>
          <a:srcRect l="8681" t="4630" r="4514" b="5093"/>
          <a:stretch/>
        </p:blipFill>
        <p:spPr>
          <a:xfrm>
            <a:off x="5072040" y="8571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ventilyacia.jpg.png"/>
          <p:cNvPicPr/>
          <p:nvPr/>
        </p:nvPicPr>
        <p:blipFill>
          <a:blip r:embed="rId2">
            <a:lum contrast="10000"/>
          </a:blip>
          <a:srcRect l="0" t="17613" r="0" b="0"/>
          <a:stretch/>
        </p:blipFill>
        <p:spPr>
          <a:xfrm>
            <a:off x="5000760" y="3857760"/>
            <a:ext cx="3786120" cy="234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10108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Если ноги свело судорогой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07160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Содержимое 10" descr="w2.jpg"/>
          <p:cNvPicPr/>
          <p:nvPr/>
        </p:nvPicPr>
        <p:blipFill>
          <a:blip r:embed="rId1"/>
          <a:srcRect l="0" t="0" r="22914" b="0"/>
          <a:stretch/>
        </p:blipFill>
        <p:spPr>
          <a:xfrm>
            <a:off x="4857840" y="1928880"/>
            <a:ext cx="3795480" cy="3500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581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Спасение тонущего с помощью лодк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004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Содержимое 4" descr="1257674580_tyanut-utopiyu-1.jpg"/>
          <p:cNvPicPr/>
          <p:nvPr/>
        </p:nvPicPr>
        <p:blipFill>
          <a:blip r:embed="rId1"/>
          <a:srcRect l="7605" t="0" r="16348" b="0"/>
          <a:stretch/>
        </p:blipFill>
        <p:spPr>
          <a:xfrm>
            <a:off x="4978440" y="2143080"/>
            <a:ext cx="3730680" cy="3286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8029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Будьте внимательны на воде!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17204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Содержимое 6" descr="SL270162.JPG"/>
          <p:cNvPicPr/>
          <p:nvPr/>
        </p:nvPicPr>
        <p:blipFill>
          <a:blip r:embed="rId1"/>
          <a:srcRect l="33480" t="0" r="12017" b="8117"/>
          <a:stretch/>
        </p:blipFill>
        <p:spPr>
          <a:xfrm>
            <a:off x="4857840" y="1500120"/>
            <a:ext cx="3786120" cy="4791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7120" y="999720"/>
            <a:ext cx="4143600" cy="51260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Содержимое 4" descr="8261010-single-hand-of-drowning-man-in-sea-asking-for-help.jpg"/>
          <p:cNvPicPr/>
          <p:nvPr/>
        </p:nvPicPr>
        <p:blipFill>
          <a:blip r:embed="rId1"/>
          <a:stretch/>
        </p:blipFill>
        <p:spPr>
          <a:xfrm>
            <a:off x="4857840" y="1000080"/>
            <a:ext cx="3433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Главное правило спасател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402912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4" descr="9ad6f1.jpg"/>
          <p:cNvPicPr/>
          <p:nvPr/>
        </p:nvPicPr>
        <p:blipFill>
          <a:blip r:embed="rId1"/>
          <a:srcRect l="6047" t="0" r="0" b="0"/>
          <a:stretch/>
        </p:blipFill>
        <p:spPr>
          <a:xfrm>
            <a:off x="5214960" y="3714840"/>
            <a:ext cx="3186000" cy="22921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929120" y="142884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Arial"/>
              </a:rPr>
              <a:t>но должен хорошо владеть специальными приемами подхода к тонущему человеку, транспортировки утопающего, а главное – умения освобождаться от «мертвых» захватов тонущег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95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Содержимое 4" descr="15otkrytie_kupalnogo_sezona.jpg"/>
          <p:cNvPicPr/>
          <p:nvPr/>
        </p:nvPicPr>
        <p:blipFill>
          <a:blip r:embed="rId1">
            <a:lum bright="10000"/>
          </a:blip>
          <a:srcRect l="2734" t="0" r="16211" b="0"/>
          <a:stretch/>
        </p:blipFill>
        <p:spPr>
          <a:xfrm>
            <a:off x="4786200" y="1714680"/>
            <a:ext cx="3929040" cy="36352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67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авила спасени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37144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Содержимое 7" descr="noid-8.jpg"/>
          <p:cNvPicPr/>
          <p:nvPr/>
        </p:nvPicPr>
        <p:blipFill>
          <a:blip r:embed="rId1"/>
          <a:srcRect l="0" t="0" r="13415" b="0"/>
          <a:stretch/>
        </p:blipFill>
        <p:spPr>
          <a:xfrm>
            <a:off x="4429080" y="1643040"/>
            <a:ext cx="4425840" cy="3554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Как буксировать тонущего человека? 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85560"/>
            <a:ext cx="424332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Содержимое 4" descr="spas5_b.jpg"/>
          <p:cNvPicPr/>
          <p:nvPr/>
        </p:nvPicPr>
        <p:blipFill>
          <a:blip r:embed="rId1"/>
          <a:stretch/>
        </p:blipFill>
        <p:spPr>
          <a:xfrm>
            <a:off x="5072040" y="3857760"/>
            <a:ext cx="3614760" cy="241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D Мои документы 1\Мои рисунки-2\Мои рисунки\Здоровье\медицина\Первая помощь\52omz.jpg"/>
          <p:cNvPicPr/>
          <p:nvPr/>
        </p:nvPicPr>
        <p:blipFill>
          <a:blip r:embed="rId2"/>
          <a:srcRect l="0" t="3078" r="0" b="0"/>
          <a:stretch/>
        </p:blipFill>
        <p:spPr>
          <a:xfrm>
            <a:off x="5286240" y="1500120"/>
            <a:ext cx="3214800" cy="224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Оказание первой медицинской помощи 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при утоплении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250920" algn="just">
              <a:lnSpc>
                <a:spcPct val="90000"/>
              </a:lnSpc>
              <a:buClr>
                <a:srgbClr val="0bd0d9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а) уложить на жесткую поверхность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) дать горячий чай или кофе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г) укутать одеялом и дать отдохнуть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Содержимое 4" descr="bd900ba8927935ff718fd625bf056ae7.jpg"/>
          <p:cNvPicPr/>
          <p:nvPr/>
        </p:nvPicPr>
        <p:blipFill>
          <a:blip r:embed="rId1"/>
          <a:srcRect l="0" t="0" r="27242" b="0"/>
          <a:stretch/>
        </p:blipFill>
        <p:spPr>
          <a:xfrm>
            <a:off x="4857840" y="1857240"/>
            <a:ext cx="389736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857160"/>
            <a:ext cx="4172040" cy="5391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б) насухо обтереть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) дать вдохнуть нашатырный спирт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2" descr="F:\D Мои документы 1\Мои рисунки-2\Мои рисунки\Здоровье\медицина\Первая помощь\0007-011-CHto-delat.jpg"/>
          <p:cNvPicPr/>
          <p:nvPr/>
        </p:nvPicPr>
        <p:blipFill>
          <a:blip r:embed="rId1"/>
          <a:srcRect l="26565" t="24523" r="24396" b="11647"/>
          <a:stretch/>
        </p:blipFill>
        <p:spPr>
          <a:xfrm>
            <a:off x="5072040" y="1571760"/>
            <a:ext cx="3635280" cy="371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13880" y="999720"/>
            <a:ext cx="3457800" cy="5248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Содержимое 5" descr="p60_reanimaciya.jpg"/>
          <p:cNvPicPr/>
          <p:nvPr/>
        </p:nvPicPr>
        <p:blipFill>
          <a:blip r:embed="rId1"/>
          <a:srcRect l="12782" t="0" r="0" b="0"/>
          <a:stretch/>
        </p:blipFill>
        <p:spPr>
          <a:xfrm>
            <a:off x="4572000" y="1785960"/>
            <a:ext cx="4067280" cy="3502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LEGION</cp:lastModifiedBy>
  <dcterms:modified xsi:type="dcterms:W3CDTF">2015-05-12T08:49:03Z</dcterms:modified>
  <cp:revision>83</cp:revision>
  <dc:subject/>
  <dc:title>Первая помощь при утоплении Подготовлено в соответствии с письмом МЗ РБ от 14</dc:title>
</cp:coreProperties>
</file>