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611A-1E3D-4CCD-9CA8-84E3BDF0D4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../slides/slide9.xml"/><Relationship Id="rId5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Государственное образовательное учреждение среднего профессионального образования Комитета по здравоохранению Администрации Волгоградской области «Медицинский колледж №1, Волгоград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66"/>
                </a:solidFill>
                <a:latin typeface="Calibri"/>
              </a:rPr>
              <a:t>Первая помощь при пищевом отравлен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1C9C-EEBA-49CA-B3FC-3CF89AEFDA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Микробные отравления (пищевые токсикоинфек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Микробные отравления (пищевые токсикоинфекции): группа наиболее распространенных острых пищевых отравлений, связанных с употреблением в пищу продуктов, зараженных патогенными микробами и их токсин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2F36-0D66-4295-B531-341E757535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Отравления, связанные с употреблением в пищу ядовитых растений и живо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Ядовитые растения и животные – одна из главных причин пищевого отравления (связанно с употреблением в пищу ядовитых грибов, ягод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EB33-A7B9-438D-A5BF-8DC850DA4A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Отравления химическими веществами различных катего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Отравления, вызванные химическими веществами (связанно с употреблением в пищу различных химических средств в больших количествах,  и т.д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9B4F-DCC0-4523-9C91-FAB2A08EC7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Как оказать первую помощ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8E01-9DF4-434C-A5CF-0C0937F3E0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хема ле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1. Промыть желудок теплой кипяченой и немного подсоленной водой. Поставить очистительную клизму с добавлением яблочного уксуса (2 ст. ложки уксуса на 2 литра теплой воды). После этого лечь в постель и положить теплую грелку на живо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66"/>
                </a:solidFill>
                <a:latin typeface="Calibri"/>
              </a:rPr>
              <a:t>2. Приготовить раствор яблочного уксуса в воде (2 ст. ложки на стакан). Пить по 1 ч. ложке раствора каждые 5 минут в течение суток. Ничего не е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3. На второй день вновь поставить клизму с разбавленным уксусом и пить раствор яблочного уксуса в течение дня по 1 ч. ложке. Ничего не е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cc"/>
                </a:solidFill>
                <a:latin typeface="Calibri"/>
              </a:rPr>
              <a:t>4. На третий день начинать есть протертые каши и чай с сухарями. Пить разбавленный яблочный уксус 3 раза в день по 1 стакану (1 ст. ложка уксуса на стака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873E-16FA-44BE-A8FD-EDA8A482D9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ff"/>
                </a:solidFill>
                <a:latin typeface="Calibri"/>
              </a:rPr>
              <a:t>Информационные источн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ff"/>
                </a:solidFill>
                <a:latin typeface="Calibri"/>
              </a:rPr>
              <a:t>CD-R </a:t>
            </a:r>
            <a:r>
              <a:rPr b="0" lang="ru-RU" sz="1200" spc="-1" strike="noStrike">
                <a:solidFill>
                  <a:srgbClr val="9900ff"/>
                </a:solidFill>
                <a:latin typeface="Calibri"/>
              </a:rPr>
              <a:t>«Первая медицинская помощ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ff"/>
                </a:solidFill>
                <a:latin typeface="Calibri"/>
              </a:rPr>
              <a:t>www.yandex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ff"/>
                </a:solidFill>
                <a:latin typeface="Calibri"/>
              </a:rPr>
              <a:t>«Современная медицинская энциклопед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6194-8715-404A-BA2E-77AB7D54B5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Благодарим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F171-77C1-48FE-9F06-91A56403F8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ищеварительная система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– это система органов, при помощи которых тело получает питательные вещества.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Задачей пищеварительных органов является прием пищи, ее механическое раздробление в процессе жевания и химическое расщепление под действием слюны, желудочного сока, желчи и секрета поджелудочной желе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E11A-82D7-48F4-A45C-87B1259E22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d60093"/>
                </a:solidFill>
                <a:latin typeface="Calibri"/>
              </a:rPr>
              <a:t>Основным видом повреждений органов пищеварительного тракта являются инородные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9944-0D17-4949-A651-EA487C3E2E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ff"/>
                </a:solidFill>
                <a:latin typeface="Calibri"/>
              </a:rPr>
              <a:t>Причиной пищевых отравлений является в большинстве случаев бактериальное загрязнение продуктов при их приготовлении, хранении, транспортировке. Они вызываются такими микроорганизмами, как сальмонеллы, стафилококки, кишечная палочка и палоч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9900ff"/>
                </a:solidFill>
                <a:latin typeface="Calibri"/>
              </a:rPr>
              <a:t>ботулизм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89D8-FE19-4BC7-91AE-E7E37FC42C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ищевые отравления в основном сопровождаются тошнотой, рвотой, поносом, болями в области желудка и кишечника.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Болезнь длится 2-5 дней, затем, почти во всех случаях, наступает самоизлечение.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страдавшему от пищевого отравления рекомендуется покой, большое количество жидкости, постельный режим и голодание. Потребление пищи обычно вызывает ухудшение общего состоя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EA69-116E-44DF-8048-BF70FE1526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9933"/>
                </a:solidFill>
                <a:latin typeface="Calibri"/>
              </a:rPr>
              <a:t>В органах пищеварения возникают внезапные патологические состояния, при которых необходима первая помощ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F061-CF1C-45EA-8B8B-6072E52A7A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Calibri"/>
              </a:rPr>
              <a:t>Каждый человек должен уметь оказать первую помощь по мере своих способностей и возможностей.</a:t>
            </a:r>
            <a:br>
              <a:rPr sz="1200"/>
            </a:br>
            <a:r>
              <a:rPr b="0" lang="ru-RU" sz="1200" spc="-1" strike="noStrike">
                <a:solidFill>
                  <a:srgbClr val="9933ff"/>
                </a:solidFill>
                <a:latin typeface="Calibri"/>
              </a:rPr>
              <a:t>Жизнь и здоровье пострадавшего человека зависят от оказания первой помощи лицами без специального медицинского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80E9-437B-45FB-A207-BB4E7EFFC7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ервая помощь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– это совокупность простых , целесообразных мер по охране здоровья и жизни пострадавшего.</a:t>
            </a:r>
            <a:br>
              <a:rPr sz="1200"/>
            </a:b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Правильно оказанная первая помощь сокращает время специального лечения.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Вовремя оказанная первая помощь дает шанс пострадавшему выж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FF90-D285-45D0-AF02-74D3BACEB6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аиболее распространенные типы пищевых отравлений это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.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Микробные отравления (пищевые токсикоинфекции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Отравления, связанные с употреблением в пищу ядовитых растений и живот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1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. Отравления химическими веществами различных категорий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D95B-1BD6-4A52-806C-074C038102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E803-6822-4A66-BF8C-FB97135E6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3911-35F6-473C-B57B-482BCE32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0FA8-43DC-4DF5-8CDB-41785973C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4D2A-368A-4411-B104-BC6137843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6618-F5CD-48A0-8DDE-50DE3F70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A374-229E-4C80-B164-E9534BEA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9C22-644A-4ED8-A181-6CB6D9C8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81AC-67F9-4143-94B1-D0EFD7CB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C6EC-F08E-414C-A8A1-78AFB19A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A3D6-6766-4BA4-A9A0-9C1330D8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24E1-A2E7-42C6-8CED-CBCB8F9D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30D7-1CDE-4FED-925D-B3111BEC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B2ED-92DB-4246-BAA6-4D57FB28CB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d1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Государственное образовательное учреждение среднего профессионального образования Комитета по здравоохранению Администрации Волгоградской области «Медицинский колледж №1, Волгоград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384200"/>
            <a:ext cx="7272360" cy="15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66"/>
                </a:solidFill>
                <a:latin typeface="Arial"/>
              </a:rPr>
              <a:t>Первая помощь при пищевом отравле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580000" y="4925880"/>
            <a:ext cx="356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Выполнила студентка гр.М-4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Крикуненкова Е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987640" y="61102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.Волгоград, 20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2_4A"/>
          <p:cNvPicPr/>
          <p:nvPr/>
        </p:nvPicPr>
        <p:blipFill>
          <a:blip r:embed="rId1"/>
          <a:stretch/>
        </p:blipFill>
        <p:spPr>
          <a:xfrm>
            <a:off x="611280" y="2768760"/>
            <a:ext cx="4043160" cy="332100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357120" y="1643040"/>
            <a:ext cx="857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Микробные отравления (пищевые токсикоинфекции): группа наиболее распространенных острых пищевых отравлений, связанных с употреблением в пищу продуктов, зараженных патогенными микробами и их токсин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1357200" y="142920"/>
            <a:ext cx="707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Микробные отравления (пищевые токсикоинфекц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5" descr="7.jpeg"/>
          <p:cNvPicPr/>
          <p:nvPr/>
        </p:nvPicPr>
        <p:blipFill>
          <a:blip r:embed="rId1"/>
          <a:stretch/>
        </p:blipFill>
        <p:spPr>
          <a:xfrm>
            <a:off x="500040" y="3071880"/>
            <a:ext cx="3522600" cy="30002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6" descr="11.jpeg"/>
          <p:cNvPicPr/>
          <p:nvPr/>
        </p:nvPicPr>
        <p:blipFill>
          <a:blip r:embed="rId2"/>
          <a:stretch/>
        </p:blipFill>
        <p:spPr>
          <a:xfrm>
            <a:off x="4500720" y="3071880"/>
            <a:ext cx="3960720" cy="29289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500040" y="1785960"/>
            <a:ext cx="750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Ядовитые растения и животные – одна из главных причин пищевого отравления (связанно с употреблением в пищу ядовитых грибов, ягод и т.д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785880" y="142920"/>
            <a:ext cx="771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Отравления, связанные с употреблением в пищу ядовитых растений и 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4" descr="2.jpeg"/>
          <p:cNvPicPr/>
          <p:nvPr/>
        </p:nvPicPr>
        <p:blipFill>
          <a:blip r:embed="rId1"/>
          <a:stretch/>
        </p:blipFill>
        <p:spPr>
          <a:xfrm>
            <a:off x="428760" y="3214800"/>
            <a:ext cx="4010040" cy="30002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5" descr="12.jpeg"/>
          <p:cNvPicPr/>
          <p:nvPr/>
        </p:nvPicPr>
        <p:blipFill>
          <a:blip r:embed="rId2"/>
          <a:stretch/>
        </p:blipFill>
        <p:spPr>
          <a:xfrm>
            <a:off x="4572000" y="3214800"/>
            <a:ext cx="3979800" cy="30002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928800" y="214200"/>
            <a:ext cx="692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Отравления химическими веществами различных катего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785880" y="1785960"/>
            <a:ext cx="750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Отравления, вызванные химическими веществами (связанно с употреблением в пищу различных химических средств в больших количествах,  и т.д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3" descr="i.jpeg"/>
          <p:cNvPicPr/>
          <p:nvPr/>
        </p:nvPicPr>
        <p:blipFill>
          <a:blip r:embed="rId1"/>
          <a:stretch/>
        </p:blipFill>
        <p:spPr>
          <a:xfrm>
            <a:off x="2643120" y="3000240"/>
            <a:ext cx="3786120" cy="34578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7931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Как оказать первую помощ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611280" y="692280"/>
            <a:ext cx="7705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до прихода врача промыть желудок как можно быстрее большим количеством во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дать слабительное (2 столовые ложки касторового масл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делать глубокую клизму с 2 ложками касторового масла или крепким настоем ромаш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через каждые полчаса давать горячее питье, крепкий чай, кофе, горячее вин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полезны теплые ванны и общее согре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растереть тело суконкой, смоченной в уксусе или водк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вызвать «скорую помощ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articles"/>
          <p:cNvPicPr/>
          <p:nvPr/>
        </p:nvPicPr>
        <p:blipFill>
          <a:blip r:embed="rId1"/>
          <a:stretch/>
        </p:blipFill>
        <p:spPr>
          <a:xfrm>
            <a:off x="2124000" y="4005360"/>
            <a:ext cx="4753080" cy="252252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0" y="2349360"/>
            <a:ext cx="84247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66"/>
                </a:solidFill>
                <a:latin typeface="Arial"/>
              </a:rPr>
              <a:t>2. Приготовить раствор яблочного уксуса в воде (2 ст. ложки на стакан). Пить по 1 ч. ложке раствора каждые 5 минут в течение суток. Ничего не е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0" y="3429000"/>
            <a:ext cx="698508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3. На второй день вновь поставить клизму с разбавленным уксусом и пить раствор яблочного уксуса в течение дня по 1 ч. ложке. Ничего не е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0" y="4653000"/>
            <a:ext cx="806436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4. На третий день начинать есть протертые каши и чай с сухарями. Пить разбавленный яблочный уксус 3 раза в день по 1 стакану (1 ст. ложка уксуса на стакан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755640" y="26028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хема ле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0" y="907920"/>
            <a:ext cx="80280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1. Промыть желудок теплой кипяченой и немного подсоленной водой. Поставить очистительную клизму с добавлением яблочного уксуса (2 ст. ложки уксуса на 2 литра теплой воды). После этого лечь в постель и положить теплую грелку на жив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Информационные источн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285920" y="1285920"/>
            <a:ext cx="705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CD-R </a:t>
            </a:r>
            <a:r>
              <a:rPr b="0" lang="ru-RU" sz="2400" spc="-1" strike="noStrike">
                <a:solidFill>
                  <a:srgbClr val="9900ff"/>
                </a:solidFill>
                <a:latin typeface="Arial"/>
              </a:rPr>
              <a:t>«Первая медицинская помощ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www.yandex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ff"/>
                </a:solidFill>
                <a:latin typeface="Arial"/>
              </a:rPr>
              <a:t>«Современная медицинская энциклопед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87325_books_pic"/>
          <p:cNvPicPr/>
          <p:nvPr/>
        </p:nvPicPr>
        <p:blipFill>
          <a:blip r:embed="rId1"/>
          <a:stretch/>
        </p:blipFill>
        <p:spPr>
          <a:xfrm>
            <a:off x="1714680" y="2928960"/>
            <a:ext cx="5857560" cy="380664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0" y="19288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Благодарим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686800" cy="29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ищеварительная система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– это система органов, при помощи которых тело получает питательные вещества.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Задачей пищеварительных органов является прием пищи, ее механическое раздробление в процессе жевания и химическое расщепление под действием слюны, желудочного сока, желчи и секрета поджелудочной желе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TEMA17"/>
          <p:cNvPicPr/>
          <p:nvPr/>
        </p:nvPicPr>
        <p:blipFill>
          <a:blip r:embed="rId1"/>
          <a:stretch/>
        </p:blipFill>
        <p:spPr>
          <a:xfrm>
            <a:off x="684360" y="2708280"/>
            <a:ext cx="2803320" cy="4149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07020601"/>
          <p:cNvPicPr/>
          <p:nvPr/>
        </p:nvPicPr>
        <p:blipFill>
          <a:blip r:embed="rId2"/>
          <a:stretch/>
        </p:blipFill>
        <p:spPr>
          <a:xfrm>
            <a:off x="3708360" y="2733840"/>
            <a:ext cx="3208320" cy="412416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60093"/>
                </a:solidFill>
                <a:latin typeface="Arial"/>
              </a:rPr>
              <a:t>Основным видом повреждений органов пищеварительного тракта являются инородные т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24000" y="2349360"/>
            <a:ext cx="352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Arial"/>
              </a:rPr>
              <a:t>Попадание в пищеварительный тракт едких ядов – кислот и щелочей – вызывает разъедание слизистой оболочки ротовой полости, пищевода и желуд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7_4A"/>
          <p:cNvPicPr/>
          <p:nvPr/>
        </p:nvPicPr>
        <p:blipFill>
          <a:blip r:embed="rId1"/>
          <a:stretch/>
        </p:blipFill>
        <p:spPr>
          <a:xfrm>
            <a:off x="3851280" y="1700280"/>
            <a:ext cx="4989600" cy="374184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382716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ff"/>
                </a:solidFill>
                <a:latin typeface="Arial"/>
              </a:rPr>
              <a:t>Причиной пищевых отравлений является в большинстве случаев бактериальное загрязнение продуктов при их приготовлении, хранении, транспортировке. Они вызываются такими микроорганизмами, как сальмонеллы, стафилококки, кишечная палочка и палоч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00ff"/>
                </a:solidFill>
                <a:latin typeface="Arial"/>
              </a:rPr>
              <a:t>ботулизм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0_709b_7e44cef9_S"/>
          <p:cNvPicPr/>
          <p:nvPr/>
        </p:nvPicPr>
        <p:blipFill>
          <a:blip r:embed="rId1"/>
          <a:stretch/>
        </p:blipFill>
        <p:spPr>
          <a:xfrm>
            <a:off x="4643280" y="428760"/>
            <a:ext cx="4214880" cy="2809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0_7d78_eb8ea104_S"/>
          <p:cNvPicPr/>
          <p:nvPr/>
        </p:nvPicPr>
        <p:blipFill>
          <a:blip r:embed="rId2"/>
          <a:stretch/>
        </p:blipFill>
        <p:spPr>
          <a:xfrm>
            <a:off x="4643280" y="3571920"/>
            <a:ext cx="4233960" cy="279540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9680" y="285840"/>
            <a:ext cx="814716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ищевые отравления в основном сопровождаются тошнотой, рвотой, поносом, болями в области желудка и кишечника.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Болезнь длится 2-5 дней, затем, почти во всех случаях, наступает самоизлечение.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острадавшему от пищевого отравления рекомендуется покой, большое количество жидкости, постельный режим и голодание. Потребление пищи обычно вызывает ухудшение общего состоя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354184-001"/>
          <p:cNvPicPr/>
          <p:nvPr/>
        </p:nvPicPr>
        <p:blipFill>
          <a:blip r:embed="rId1"/>
          <a:stretch/>
        </p:blipFill>
        <p:spPr>
          <a:xfrm>
            <a:off x="214200" y="3500280"/>
            <a:ext cx="3902040" cy="2571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3"/>
          <p:cNvPicPr/>
          <p:nvPr/>
        </p:nvPicPr>
        <p:blipFill>
          <a:blip r:embed="rId2"/>
          <a:stretch/>
        </p:blipFill>
        <p:spPr>
          <a:xfrm>
            <a:off x="4643280" y="3500280"/>
            <a:ext cx="4340520" cy="25164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36136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33"/>
                </a:solidFill>
                <a:latin typeface="Arial"/>
              </a:rPr>
              <a:t>В органах пищеварения возникают внезапные патологические состояния, при которых необходима первая помощ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255250-016"/>
          <p:cNvPicPr/>
          <p:nvPr/>
        </p:nvPicPr>
        <p:blipFill>
          <a:blip r:embed="rId1"/>
          <a:stretch/>
        </p:blipFill>
        <p:spPr>
          <a:xfrm>
            <a:off x="142920" y="2286000"/>
            <a:ext cx="4491000" cy="3800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255229-001"/>
          <p:cNvPicPr/>
          <p:nvPr/>
        </p:nvPicPr>
        <p:blipFill>
          <a:blip r:embed="rId2"/>
          <a:stretch/>
        </p:blipFill>
        <p:spPr>
          <a:xfrm>
            <a:off x="4929120" y="2286000"/>
            <a:ext cx="3619440" cy="381636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4978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ff"/>
                </a:solidFill>
                <a:latin typeface="Arial"/>
              </a:rPr>
              <a:t>Каждый человек должен уметь оказать первую помощь по мере своих способностей и возможностей.</a:t>
            </a:r>
            <a:br>
              <a:rPr sz="2400"/>
            </a:br>
            <a:r>
              <a:rPr b="0" lang="ru-RU" sz="2400" spc="-1" strike="noStrike">
                <a:solidFill>
                  <a:srgbClr val="9933ff"/>
                </a:solidFill>
                <a:latin typeface="Arial"/>
              </a:rPr>
              <a:t>Жизнь и здоровье пострадавшего человека зависят от оказания первой помощи лицами без специального медицинско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2_1A"/>
          <p:cNvPicPr/>
          <p:nvPr/>
        </p:nvPicPr>
        <p:blipFill>
          <a:blip r:embed="rId1"/>
          <a:stretch/>
        </p:blipFill>
        <p:spPr>
          <a:xfrm>
            <a:off x="1835280" y="2565360"/>
            <a:ext cx="5473440" cy="394812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99640" y="3357720"/>
            <a:ext cx="7643880" cy="32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рвая помощь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– это совокупность простых , целесообразных мер по охране здоровья и жизни пострадавшего.</a:t>
            </a:r>
            <a:br>
              <a:rPr sz="2400"/>
            </a:b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Правильно оказанная первая помощь сокращает время специального лечения.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Вовремя оказанная первая помощь дает шанс пострадавшему выж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3" descr="9.jpeg"/>
          <p:cNvPicPr/>
          <p:nvPr/>
        </p:nvPicPr>
        <p:blipFill>
          <a:blip r:embed="rId1"/>
          <a:stretch/>
        </p:blipFill>
        <p:spPr>
          <a:xfrm>
            <a:off x="1000080" y="571680"/>
            <a:ext cx="3286080" cy="30002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4.jpeg"/>
          <p:cNvPicPr/>
          <p:nvPr/>
        </p:nvPicPr>
        <p:blipFill>
          <a:blip r:embed="rId2"/>
          <a:stretch/>
        </p:blipFill>
        <p:spPr>
          <a:xfrm>
            <a:off x="4643280" y="571680"/>
            <a:ext cx="3929400" cy="300024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4"/>
          <p:cNvSpPr/>
          <p:nvPr/>
        </p:nvSpPr>
        <p:spPr>
          <a:xfrm>
            <a:off x="785880" y="357120"/>
            <a:ext cx="7215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аиболее распространенные типы пищевых отравлений эт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>
            <a:hlinkClick r:id="" action="ppaction://hlinkshowjump?jump=nextslide"/>
          </p:cNvPr>
          <p:cNvSpPr/>
          <p:nvPr/>
        </p:nvSpPr>
        <p:spPr>
          <a:xfrm>
            <a:off x="1571760" y="1857240"/>
            <a:ext cx="521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Микробные отравления (пищевые токсикоинфекции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1714680" y="3000240"/>
            <a:ext cx="5357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равления, связанные с употреблением в пищу ядовитых растений и живот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1714680" y="4714920"/>
            <a:ext cx="5715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. Отравления химическими веществами различных категор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05:40:48Z</dcterms:created>
  <dc:creator>STUDENT</dc:creator>
  <dc:description/>
  <dc:language>en-US</dc:language>
  <cp:lastModifiedBy>LEGION</cp:lastModifiedBy>
  <dcterms:modified xsi:type="dcterms:W3CDTF">2015-05-12T08:55:05Z</dcterms:modified>
  <cp:revision>24</cp:revision>
  <dc:subject/>
  <dc:title>Первая помощь при пищевом отравлении</dc:title>
</cp:coreProperties>
</file>