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BDDC-4C5D-4220-AD65-E6161BA536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../slides/slide9.xml"/><Relationship Id="rId5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Государственное образовательное учреждение среднего профессионального образования Комитета по здравоохранению Администрации Волгоградской области «Медицинский колледж №1, Волгоград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Calibri"/>
              </a:rPr>
              <a:t>Первая помощь при пищевом отравле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FD04-9DD2-4150-B5E2-EC299C17F2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Микробные отравления (пищевые токсикоинфек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Микробные отравления (пищевые токсикоинфекции): группа наиболее распространенных острых пищевых отравлений, связанных с употреблением в пищу продуктов, зараженных патогенными микробами и их токсин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99AF-B4FC-4CA9-B23C-44232B8BC2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Отравления, связанные с употреблением в пищу ядовитых растений и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Ядовитые растения и животные – одна из главных причин пищевого отравления (связанно с употреблением в пищу ядовитых грибов, ягод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AA4C-A941-4EB7-93D4-397AF9255E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Отравления химическими веществами различных катего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Отравления, вызванные химическими веществами (связанно с употреблением в пищу различных химических средств в больших количествах,  и т.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BFBA-C69F-4E4A-AC93-17EA2E2B00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Как оказать первую помощ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2EB4-9968-4912-87B3-BF98107B27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хема л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1. Промыть желудок теплой кипяченой и немного подсоленной водой. Поставить очистительную клизму с добавлением яблочного уксуса (2 ст. ложки уксуса на 2 литра теплой воды). После этого лечь в постель и положить теплую грелку на жив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66"/>
                </a:solidFill>
                <a:latin typeface="Calibri"/>
              </a:rPr>
              <a:t>2. Приготовить раствор яблочного уксуса в воде (2 ст. ложки на стакан). Пить по 1 ч. ложке раствора каждые 5 минут в течение суток. Ничего не е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3. На второй день вновь поставить клизму с разбавленным уксусом и пить раствор яблочного уксуса в течение дня по 1 ч. ложке. Ничего не е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cc"/>
                </a:solidFill>
                <a:latin typeface="Calibri"/>
              </a:rPr>
              <a:t>4. На третий день начинать есть протертые каши и чай с сухарями. Пить разбавленный яблочный уксус 3 раза в день по 1 стакану (1 ст. ложка уксуса на стака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7192-9E94-4B7F-9699-C952BE215A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ff"/>
                </a:solidFill>
                <a:latin typeface="Calibri"/>
              </a:rPr>
              <a:t>Информационные источн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ff"/>
                </a:solidFill>
                <a:latin typeface="Calibri"/>
              </a:rPr>
              <a:t>CD-R </a:t>
            </a: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«Первая медицинская помощ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ff"/>
                </a:solidFill>
                <a:latin typeface="Calibri"/>
              </a:rPr>
              <a:t>www.yandex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«Современная медицинская энциклопед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2273-0F12-4CE2-88C5-0353CAA3DF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лагодарим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6AAE-58D0-4372-B589-1EDDBCA198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ищеварительная систем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– это система органов, при помощи которых тело получает питательные вещества.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адачей пищеварительных органов является прием пищи, ее механическое раздробление в процессе жевания и химическое расщепление под действием слюны, желудочного сока, желчи и секрета поджелудочной желе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69C5-7E78-49AD-BF1E-0C917635E3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60093"/>
                </a:solidFill>
                <a:latin typeface="Calibri"/>
              </a:rPr>
              <a:t>Основным видом повреждений органов пищеварительного тракта являются инородные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CFBB-60EC-4B45-9063-BCAB471076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Причиной пищевых отравлений является в большинстве случаев бактериальное загрязнение продуктов при их приготовлении, хранении, транспортировке. Они вызываются такими микроорганизмами, как сальмонеллы, стафилококки, кишечная палочка и палоч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ботулизм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E25C-2C0D-435A-B76A-1CFA802131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ищевые отравления в основном сопровождаются тошнотой, рвотой, поносом, болями в области желудка и кишечника.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олезнь длится 2-5 дней, затем, почти во всех случаях, наступает самоизлечение.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страдавшему от пищевого отравления рекомендуется покой, большое количество жидкости, постельный режим и голодание. Потребление пищи обычно вызывает ухудшение общего состоя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E610-C5D0-4458-A07D-4ADA65B179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33"/>
                </a:solidFill>
                <a:latin typeface="Calibri"/>
              </a:rPr>
              <a:t>В органах пищеварения возникают внезапные патологические состояния, при которых необходима первая помощ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09A1-BF4C-4D1D-8016-9F5BE52DAB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Calibri"/>
              </a:rPr>
              <a:t>Каждый человек должен уметь оказать первую помощь по мере своих способностей и возможностей.</a:t>
            </a:r>
            <a:br>
              <a:rPr sz="1200"/>
            </a:br>
            <a:r>
              <a:rPr b="0" lang="ru-RU" sz="1200" spc="-1" strike="noStrike">
                <a:solidFill>
                  <a:srgbClr val="9933ff"/>
                </a:solidFill>
                <a:latin typeface="Calibri"/>
              </a:rPr>
              <a:t>Жизнь и здоровье пострадавшего человека зависят от оказания первой помощи лицами без специального медицинск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601A-8996-4D66-8AA0-3FE11FAEBD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ервая помощь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– это совокупность простых , целесообразных мер по охране здоровья и жизни пострадавшего.</a:t>
            </a:r>
            <a:br>
              <a:rPr sz="1200"/>
            </a:b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Правильно оказанная первая помощь сокращает время специального лечения.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овремя оказанная первая помощь дает шанс пострадавшему выж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B65E-58C3-4802-B402-D15B8466B4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аиболее распространенные типы пищевых отравлений эт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.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Микробные отравления (пищевые токсикоинфекции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Отравления, связанные с употреблением в пищу ядовитых растений и живот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1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. Отравления химическими веществами различных категорий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92C1-8062-43FC-94D0-54BFF63F2B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7780-9CBB-4F44-8D8E-EF6E315E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FA50-026C-4D1C-B4DB-C399B702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EE5A-65C5-4D7C-BD0D-4BBDCFBAC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EED5-A7B8-4EAE-B91D-431E2EF3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82EF-613E-46A9-872B-5EB6CD4F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B7B6-EB5F-41D2-AC86-006BFA8D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B510-B36A-4B9F-A701-D96D6434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5E08-9DD5-430D-A7CE-77463BA0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77CD-3400-4BD7-9D76-EBFE865B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C625-5D8C-41E3-BC7F-F276F62D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C7D0-4D35-48D2-9151-45E841CD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6A46-AFBA-497D-90DB-B9C03E2B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CD20-6D49-4E41-B02F-6F6090E123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d1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Государственное образовательное учреждение среднего профессионального образования Комитета по здравоохранению Администрации Волгоградской области «Медицинский колледж №1, Волгоград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384200"/>
            <a:ext cx="727236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66"/>
                </a:solidFill>
                <a:latin typeface="Arial"/>
              </a:rPr>
              <a:t>Первая помощь при пищевом отравле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580000" y="4925880"/>
            <a:ext cx="35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ыполнила студентка гр.М-4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Крикуненкова Е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987640" y="61102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Волгоград, 20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2_4A"/>
          <p:cNvPicPr/>
          <p:nvPr/>
        </p:nvPicPr>
        <p:blipFill>
          <a:blip r:embed="rId1"/>
          <a:stretch/>
        </p:blipFill>
        <p:spPr>
          <a:xfrm>
            <a:off x="611280" y="2768760"/>
            <a:ext cx="4043160" cy="332100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357120" y="1643040"/>
            <a:ext cx="857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Микробные отравления (пищевые токсикоинфекции): группа наиболее распространенных острых пищевых отравлений, связанных с употреблением в пищу продуктов, зараженных патогенными микробами и их токсин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357200" y="142920"/>
            <a:ext cx="707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Микробные отравления (пищевые токсикоинфек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5" descr="7.jpeg"/>
          <p:cNvPicPr/>
          <p:nvPr/>
        </p:nvPicPr>
        <p:blipFill>
          <a:blip r:embed="rId1"/>
          <a:stretch/>
        </p:blipFill>
        <p:spPr>
          <a:xfrm>
            <a:off x="500040" y="3071880"/>
            <a:ext cx="3522600" cy="30002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11.jpeg"/>
          <p:cNvPicPr/>
          <p:nvPr/>
        </p:nvPicPr>
        <p:blipFill>
          <a:blip r:embed="rId2"/>
          <a:stretch/>
        </p:blipFill>
        <p:spPr>
          <a:xfrm>
            <a:off x="4500720" y="3071880"/>
            <a:ext cx="3960720" cy="2928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500040" y="178596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Ядовитые растения и животные – одна из главных причин пищевого отравления (связанно с употреблением в пищу ядовитых грибов, ягод и т.д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785880" y="142920"/>
            <a:ext cx="771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Отравления, связанные с употреблением в пищу ядовитых растений и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2.jpeg"/>
          <p:cNvPicPr/>
          <p:nvPr/>
        </p:nvPicPr>
        <p:blipFill>
          <a:blip r:embed="rId1"/>
          <a:stretch/>
        </p:blipFill>
        <p:spPr>
          <a:xfrm>
            <a:off x="428760" y="3214800"/>
            <a:ext cx="4010040" cy="30002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5" descr="12.jpeg"/>
          <p:cNvPicPr/>
          <p:nvPr/>
        </p:nvPicPr>
        <p:blipFill>
          <a:blip r:embed="rId2"/>
          <a:stretch/>
        </p:blipFill>
        <p:spPr>
          <a:xfrm>
            <a:off x="4572000" y="3214800"/>
            <a:ext cx="3979800" cy="30002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928800" y="214200"/>
            <a:ext cx="692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Отравления химическими веществами различных катего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785880" y="178596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Отравления, вызванные химическими веществами (связанно с употреблением в пищу различных химических средств в больших количествах,  и т.д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3" descr="i.jpeg"/>
          <p:cNvPicPr/>
          <p:nvPr/>
        </p:nvPicPr>
        <p:blipFill>
          <a:blip r:embed="rId1"/>
          <a:stretch/>
        </p:blipFill>
        <p:spPr>
          <a:xfrm>
            <a:off x="2643120" y="3000240"/>
            <a:ext cx="3786120" cy="34578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7931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Как оказать первую помощ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11280" y="692280"/>
            <a:ext cx="7705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до прихода врача промыть желудок как можно быстрее большим количеством во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дать слабительное (2 столовые ложки касторового масл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делать глубокую клизму с 2 ложками касторового масла или крепким настоем ромаш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через каждые полчаса давать горячее питье, крепкий чай, кофе, горячее вин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полезны теплые ванны и общее согре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растереть тело суконкой, смоченной в уксусе или вод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вызвать «скорую помощ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articles"/>
          <p:cNvPicPr/>
          <p:nvPr/>
        </p:nvPicPr>
        <p:blipFill>
          <a:blip r:embed="rId1"/>
          <a:stretch/>
        </p:blipFill>
        <p:spPr>
          <a:xfrm>
            <a:off x="2124000" y="4005360"/>
            <a:ext cx="4753080" cy="25225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0" y="2349360"/>
            <a:ext cx="8424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66"/>
                </a:solidFill>
                <a:latin typeface="Arial"/>
              </a:rPr>
              <a:t>2. Приготовить раствор яблочного уксуса в воде (2 ст. ложки на стакан). Пить по 1 ч. ложке раствора каждые 5 минут в течение суток. Ничего не е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0" y="3429000"/>
            <a:ext cx="69850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3. На второй день вновь поставить клизму с разбавленным уксусом и пить раствор яблочного уксуса в течение дня по 1 ч. ложке. Ничего не е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0" y="4653000"/>
            <a:ext cx="806436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4. На третий день начинать есть протертые каши и чай с сухарями. Пить разбавленный яблочный уксус 3 раза в день по 1 стакану (1 ст. ложка уксуса на стака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755640" y="26028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хема л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0" y="907920"/>
            <a:ext cx="80280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1. Промыть желудок теплой кипяченой и немного подсоленной водой. Поставить очистительную клизму с добавлением яблочного уксуса (2 ст. ложки уксуса на 2 литра теплой воды). После этого лечь в постель и положить теплую грелку на жив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Информационные источн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285920" y="128592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CD-R </a:t>
            </a: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«Первая медицинская помощ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www.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«Современная медицинская энциклопед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87325_books_pic"/>
          <p:cNvPicPr/>
          <p:nvPr/>
        </p:nvPicPr>
        <p:blipFill>
          <a:blip r:embed="rId1"/>
          <a:stretch/>
        </p:blipFill>
        <p:spPr>
          <a:xfrm>
            <a:off x="1714680" y="2928960"/>
            <a:ext cx="5857560" cy="380664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0" y="1928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Благодарим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686800" cy="29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ищеварительная систем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– это система органов, при помощи которых тело получает питательные вещества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адачей пищеварительных органов является прием пищи, ее механическое раздробление в процессе жевания и химическое расщепление под действием слюны, желудочного сока, желчи и секрета поджелудочной желе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TEMA17"/>
          <p:cNvPicPr/>
          <p:nvPr/>
        </p:nvPicPr>
        <p:blipFill>
          <a:blip r:embed="rId1"/>
          <a:stretch/>
        </p:blipFill>
        <p:spPr>
          <a:xfrm>
            <a:off x="684360" y="2708280"/>
            <a:ext cx="2803320" cy="4149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07020601"/>
          <p:cNvPicPr/>
          <p:nvPr/>
        </p:nvPicPr>
        <p:blipFill>
          <a:blip r:embed="rId2"/>
          <a:stretch/>
        </p:blipFill>
        <p:spPr>
          <a:xfrm>
            <a:off x="3708360" y="2733840"/>
            <a:ext cx="3208320" cy="412416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60093"/>
                </a:solidFill>
                <a:latin typeface="Arial"/>
              </a:rPr>
              <a:t>Основным видом повреждений органов пищеварительного тракта являются инородные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24000" y="2349360"/>
            <a:ext cx="352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Попадание в пищеварительный тракт едких ядов – кислот и щелочей – вызывает разъедание слизистой оболочки ротовой полости, пищевода и желуд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7_4A"/>
          <p:cNvPicPr/>
          <p:nvPr/>
        </p:nvPicPr>
        <p:blipFill>
          <a:blip r:embed="rId1"/>
          <a:stretch/>
        </p:blipFill>
        <p:spPr>
          <a:xfrm>
            <a:off x="3851280" y="1700280"/>
            <a:ext cx="4989600" cy="37418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382716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Причиной пищевых отравлений является в большинстве случаев бактериальное загрязнение продуктов при их приготовлении, хранении, транспортировке. Они вызываются такими микроорганизмами, как сальмонеллы, стафилококки, кишечная палочка и палоч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ботулизм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0_709b_7e44cef9_S"/>
          <p:cNvPicPr/>
          <p:nvPr/>
        </p:nvPicPr>
        <p:blipFill>
          <a:blip r:embed="rId1"/>
          <a:stretch/>
        </p:blipFill>
        <p:spPr>
          <a:xfrm>
            <a:off x="4643280" y="428760"/>
            <a:ext cx="4214880" cy="2809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0_7d78_eb8ea104_S"/>
          <p:cNvPicPr/>
          <p:nvPr/>
        </p:nvPicPr>
        <p:blipFill>
          <a:blip r:embed="rId2"/>
          <a:stretch/>
        </p:blipFill>
        <p:spPr>
          <a:xfrm>
            <a:off x="4643280" y="3571920"/>
            <a:ext cx="4233960" cy="279540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814716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ищевые отравления в основном сопровождаются тошнотой, рвотой, поносом, болями в области желудка и кишечника.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Болезнь длится 2-5 дней, затем, почти во всех случаях, наступает самоизлечение.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страдавшему от пищевого отравления рекомендуется покой, большое количество жидкости, постельный режим и голодание. Потребление пищи обычно вызывает ухудшение общего состоя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354184-001"/>
          <p:cNvPicPr/>
          <p:nvPr/>
        </p:nvPicPr>
        <p:blipFill>
          <a:blip r:embed="rId1"/>
          <a:stretch/>
        </p:blipFill>
        <p:spPr>
          <a:xfrm>
            <a:off x="214200" y="3500280"/>
            <a:ext cx="3902040" cy="2571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3"/>
          <p:cNvPicPr/>
          <p:nvPr/>
        </p:nvPicPr>
        <p:blipFill>
          <a:blip r:embed="rId2"/>
          <a:stretch/>
        </p:blipFill>
        <p:spPr>
          <a:xfrm>
            <a:off x="4643280" y="3500280"/>
            <a:ext cx="4340520" cy="25164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36136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33"/>
                </a:solidFill>
                <a:latin typeface="Arial"/>
              </a:rPr>
              <a:t>В органах пищеварения возникают внезапные патологические состояния, при которых необходима первая помощ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255250-016"/>
          <p:cNvPicPr/>
          <p:nvPr/>
        </p:nvPicPr>
        <p:blipFill>
          <a:blip r:embed="rId1"/>
          <a:stretch/>
        </p:blipFill>
        <p:spPr>
          <a:xfrm>
            <a:off x="142920" y="2286000"/>
            <a:ext cx="4491000" cy="3800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255229-001"/>
          <p:cNvPicPr/>
          <p:nvPr/>
        </p:nvPicPr>
        <p:blipFill>
          <a:blip r:embed="rId2"/>
          <a:stretch/>
        </p:blipFill>
        <p:spPr>
          <a:xfrm>
            <a:off x="4929120" y="2286000"/>
            <a:ext cx="3619440" cy="381636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4978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Arial"/>
              </a:rPr>
              <a:t>Каждый человек должен уметь оказать первую помощь по мере своих способностей и возможностей.</a:t>
            </a:r>
            <a:br>
              <a:rPr sz="2400"/>
            </a:br>
            <a:r>
              <a:rPr b="0" lang="ru-RU" sz="2400" spc="-1" strike="noStrike">
                <a:solidFill>
                  <a:srgbClr val="9933ff"/>
                </a:solidFill>
                <a:latin typeface="Arial"/>
              </a:rPr>
              <a:t>Жизнь и здоровье пострадавшего человека зависят от оказания первой помощи лицами без специального медицинск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2_1A"/>
          <p:cNvPicPr/>
          <p:nvPr/>
        </p:nvPicPr>
        <p:blipFill>
          <a:blip r:embed="rId1"/>
          <a:stretch/>
        </p:blipFill>
        <p:spPr>
          <a:xfrm>
            <a:off x="1835280" y="2565360"/>
            <a:ext cx="5473440" cy="39481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99640" y="3357720"/>
            <a:ext cx="7643880" cy="32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вая помощь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– это совокупность простых , целесообразных мер по охране здоровья и жизни пострадавшего.</a:t>
            </a:r>
            <a:br>
              <a:rPr sz="2400"/>
            </a:b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Правильно оказанная первая помощь сокращает время специального лечения.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Вовремя оказанная первая помощь дает шанс пострадавшему выж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3" descr="9.jpeg"/>
          <p:cNvPicPr/>
          <p:nvPr/>
        </p:nvPicPr>
        <p:blipFill>
          <a:blip r:embed="rId1"/>
          <a:stretch/>
        </p:blipFill>
        <p:spPr>
          <a:xfrm>
            <a:off x="1000080" y="571680"/>
            <a:ext cx="3286080" cy="30002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4.jpeg"/>
          <p:cNvPicPr/>
          <p:nvPr/>
        </p:nvPicPr>
        <p:blipFill>
          <a:blip r:embed="rId2"/>
          <a:stretch/>
        </p:blipFill>
        <p:spPr>
          <a:xfrm>
            <a:off x="4643280" y="571680"/>
            <a:ext cx="3929400" cy="300024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4"/>
          <p:cNvSpPr/>
          <p:nvPr/>
        </p:nvSpPr>
        <p:spPr>
          <a:xfrm>
            <a:off x="785880" y="357120"/>
            <a:ext cx="7215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аиболее распространенные типы пищевых отравлений эт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>
            <a:hlinkClick r:id="" action="ppaction://hlinkshowjump?jump=nextslide"/>
          </p:cNvPr>
          <p:cNvSpPr/>
          <p:nvPr/>
        </p:nvSpPr>
        <p:spPr>
          <a:xfrm>
            <a:off x="1571760" y="1857240"/>
            <a:ext cx="521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Микробные отравления (пищевые токсикоинфекци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1714680" y="3000240"/>
            <a:ext cx="5357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равления, связанные с употреблением в пищу ядовитых растений и живот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1714680" y="4714920"/>
            <a:ext cx="5715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. Отравления химическими веществами различных категор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05:40:48Z</dcterms:created>
  <dc:creator>STUDENT</dc:creator>
  <dc:description/>
  <dc:language>en-US</dc:language>
  <cp:lastModifiedBy>LEGION</cp:lastModifiedBy>
  <dcterms:modified xsi:type="dcterms:W3CDTF">2015-05-12T08:55:05Z</dcterms:modified>
  <cp:revision>24</cp:revision>
  <dc:subject/>
  <dc:title>Первая помощь при пищевом отравлении</dc:title>
</cp:coreProperties>
</file>