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7A0E-D522-4A23-AAF2-3DD2EA7247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помощь при тепловых и солнечных удара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2C58-8BAB-457A-8B0D-016ABEA6DB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5AD7-3507-4042-A745-EB89855839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ОЛНЕЧНЫХ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КРАСНЕЕТ, БО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Е ОЖОГА  НА КОЖЕ ПОЯВЛЯЮТСЯ ВОЛДЫР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, ОЗН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9452-4A61-40A2-AB79-6A47A50C53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олнечные ожоги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ак предотвратить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6B53-4123-42DC-A66A-76EB241F41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ащитные кр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EB79-A8EC-4250-A8F3-1BB9402300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F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защи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3BC2-6CA7-454A-A4E1-4797D0A4DB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предотвратить солнечный уда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е головной у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7CD9-E5A0-418D-8DEF-AC4198853F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ходите на пляж или с утра или после об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2C45-45BF-4EF1-B113-D6B2D7DCBA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двигайте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E852-676B-4C4F-81FB-E34377EA2D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те больше воды , находясь на солнц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3781-DB7F-43A2-B533-4FA90B4ACD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ульта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го перегрева организм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F296-AB92-4988-98EA-A76457553F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ереедайте перед походом на пля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0BCB-0A7F-42F1-84F3-8CA35C19C7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пать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966B-1236-44CF-BB5A-1D193603DB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йте под зо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E444-9832-4D31-9E1C-4492134765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гревание в результате длительного пребывания на солнце и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го воздействия солнечных луч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жет проявиться через несколько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79B4-39FF-414B-81F4-781B68597A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новные призна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олнечного уд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 или острая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, шум в уш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ькание в глаз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асне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енное дыхание и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(иногда рв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A0B4-4C9A-4AD7-97CB-F9695DE98E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ДЕЛ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йти прохладно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выпить воды, принять душ или искуп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4AC7-C6A1-4E5B-A9C2-0050695BB5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яжелых случаях потеря сознания, 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2B8D-B0AE-4757-872D-D6BB708266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мощь пострадавше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в сознан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выпить холодную жидкость, компресс на голову и шею, обтереть холод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без созн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понюхать нашатырный спирт, облить водой или завернуть в мокрую тк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звать 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A927-0FF3-47AE-8C2C-CE14606F32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чем отличается ТЕПЛОВОЙ УДАР от СОЛНЕЧ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некоторые люди падают в обморок в душном автобу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94BF-A29A-43DE-8BEF-4861297DA3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E87B-CCD1-4CC5-A0F7-DD0BF7908D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B81-9B0D-43BC-868D-1538FD03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3EA-DC8D-45C4-B0EE-9D47E8A7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D58-5EEC-4369-92A2-A19A0165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3B8-5493-49DD-95F5-22A2E483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AA4A-C985-4D15-BEFE-56507C19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8F1C-84FF-4D01-A6AA-2BC8991A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15AF-8242-42DE-9225-61E45AC4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D5D7-7D94-49D4-B3AA-121C4903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B886-96CA-483D-B6B2-78CCE4BA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37B9-80AA-46E0-A4F2-1223F337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8E58-94E8-4760-BB4D-704D0F57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149-D202-4399-9196-9BCFA62C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1156-33FB-40CC-9BC1-B35852BA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8D2D-5A18-4B87-8224-5499A5C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5D90-5EB2-429E-8257-28F81C39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3695-D3D3-45C9-AFC3-181A72B9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31EE-9F05-4DA1-A2E5-8F147FFE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5F6-F8C0-4664-BD26-0749F9E8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2F4-C10E-416A-B4AC-4943AC50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B61-B5DA-45D0-B2FD-2D3FE98C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EC6-099A-4FC8-B891-E3C0F35F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BF7-C118-4508-BE97-71022B0A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457-F235-4623-A771-40F83D4A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900-C28C-4C62-8469-11F736F4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1711-9C1C-4085-B67E-21054EA2512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51D7-79E4-4864-B961-C2FD11ADAAA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6191280" y="4017960"/>
          <a:ext cx="29527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1280" y="4017960"/>
                    <a:ext cx="29527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237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c0c0"/>
                </a:solidFill>
                <a:latin typeface="Arial"/>
              </a:rPr>
              <a:t>Самопомощь при тепловых и солнечных ударах .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Солнечные ожог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ЗНАКИ СОЛНЕЧНЫХ ОЖОГОВ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ЖА КРАСНЕЕТ, БОЛ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МЕСТЕ ОЖОГА  НА КОЖЕ ПОЯВЛЯЮТСЯ ВОЛДЫРИ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ВЫШЕНИЕ ТЕМПЕРАТУРЫ, ОЗНО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ШНОТА И РВ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олнечные ожоги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 предотвратить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уйте защитные крем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big_1239014954"/>
          <p:cNvPicPr/>
          <p:nvPr/>
        </p:nvPicPr>
        <p:blipFill>
          <a:blip r:embed="rId1"/>
          <a:stretch/>
        </p:blipFill>
        <p:spPr>
          <a:xfrm>
            <a:off x="2124000" y="1557360"/>
            <a:ext cx="3960720" cy="475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PF-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олнцезащитный факт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крем"/>
          <p:cNvPicPr/>
          <p:nvPr/>
        </p:nvPicPr>
        <p:blipFill>
          <a:blip r:embed="rId1"/>
          <a:stretch/>
        </p:blipFill>
        <p:spPr>
          <a:xfrm>
            <a:off x="5724360" y="3284640"/>
            <a:ext cx="2883240" cy="273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крем 2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c0c0"/>
                </a:solidFill>
                <a:uFillTx/>
                <a:latin typeface="Arial"/>
              </a:rPr>
              <a:t>Как предотвратить солнечный удар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сите головной у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i_526045_1"/>
          <p:cNvPicPr/>
          <p:nvPr/>
        </p:nvPicPr>
        <p:blipFill>
          <a:blip r:embed="rId1"/>
          <a:stretch/>
        </p:blipFill>
        <p:spPr>
          <a:xfrm>
            <a:off x="2050920" y="2276640"/>
            <a:ext cx="5257800" cy="44240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ходите на пляж или с утра или после обе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foto_422869"/>
          <p:cNvPicPr/>
          <p:nvPr/>
        </p:nvPicPr>
        <p:blipFill>
          <a:blip r:embed="rId1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ольше двигайтес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5761a18dffc663_b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807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ейте больше воды , находясь на солнце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ater_bottles_turqoise"/>
          <p:cNvPicPr/>
          <p:nvPr/>
        </p:nvPicPr>
        <p:blipFill>
          <a:blip r:embed="rId1"/>
          <a:stretch/>
        </p:blipFill>
        <p:spPr>
          <a:xfrm>
            <a:off x="2340000" y="1276200"/>
            <a:ext cx="4467240" cy="55818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Теплово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езультат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бщего перегрева организма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Не переедайте перед походом на пляж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Obesidad-infatil"/>
          <p:cNvPicPr/>
          <p:nvPr/>
        </p:nvPicPr>
        <p:blipFill>
          <a:blip r:embed="rId1"/>
          <a:stretch/>
        </p:blipFill>
        <p:spPr>
          <a:xfrm>
            <a:off x="1692360" y="1700280"/>
            <a:ext cx="5943600" cy="42717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Нельзя спать на солнц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lisa-sleep"/>
          <p:cNvPicPr/>
          <p:nvPr/>
        </p:nvPicPr>
        <p:blipFill>
          <a:blip r:embed="rId1"/>
          <a:stretch/>
        </p:blipFill>
        <p:spPr>
          <a:xfrm>
            <a:off x="1028880" y="1268280"/>
            <a:ext cx="7143480" cy="5359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Отдыхайте под зонтом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зонт"/>
          <p:cNvPicPr/>
          <p:nvPr/>
        </p:nvPicPr>
        <p:blipFill>
          <a:blip r:embed="rId1"/>
          <a:stretch/>
        </p:blipFill>
        <p:spPr>
          <a:xfrm>
            <a:off x="4267080" y="2225520"/>
            <a:ext cx="4876920" cy="46324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Солнечны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егревание в результате длительного пребывания на солнце и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ямого воздействия солнечных луч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ожет проявиться через несколько ча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balltossBg"/>
          <p:cNvPicPr/>
          <p:nvPr/>
        </p:nvPicPr>
        <p:blipFill>
          <a:blip r:embed="rId1"/>
          <a:stretch/>
        </p:blipFill>
        <p:spPr>
          <a:xfrm>
            <a:off x="0" y="0"/>
            <a:ext cx="2484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Основные призна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олнечного уда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ловокружение или острая головная б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абость, шум в уш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лькание в глаз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раснение кож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ащенное дыхание и пуль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ышение темпера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(иногда рв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ЧТО ДЕЛАТЬ?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йти прохладное мест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выпить воды, принять душ или искупа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2672m"/>
          <p:cNvPicPr/>
          <p:nvPr/>
        </p:nvPicPr>
        <p:blipFill>
          <a:blip r:embed="rId1"/>
          <a:stretch/>
        </p:blipFill>
        <p:spPr>
          <a:xfrm>
            <a:off x="4822920" y="3456000"/>
            <a:ext cx="4321080" cy="3402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08000" y="33336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тяжелых случаях потеря сознания, судор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400_F_466122_rqr1B7Hi1ocvDf6lhVSOp8wj2C8RsB"/>
          <p:cNvPicPr/>
          <p:nvPr/>
        </p:nvPicPr>
        <p:blipFill>
          <a:blip r:embed="rId1"/>
          <a:stretch/>
        </p:blipFill>
        <p:spPr>
          <a:xfrm>
            <a:off x="4500720" y="1341360"/>
            <a:ext cx="4287600" cy="4175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Помощь пострадавшему: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 сознан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выпить холодную жидкость, компресс на голову и шею, обтереть холодной вод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без с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понюхать нашатырный спирт, облить водой или завернуть в мокрую тка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звать 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ак чем отличается ТЕПЛОВОЙ УДАР от СОЛНЕЧНО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некоторые люди падают в обморок в душном автобус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плакат солнце"/>
          <p:cNvPicPr/>
          <p:nvPr/>
        </p:nvPicPr>
        <p:blipFill>
          <a:blip r:embed="rId1"/>
          <a:stretch/>
        </p:blipFill>
        <p:spPr>
          <a:xfrm>
            <a:off x="2124000" y="620640"/>
            <a:ext cx="3870360" cy="3305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4:39:03Z</dcterms:created>
  <dc:creator>Олег Евгеньевич;Хадыкина Наталья</dc:creator>
  <dc:description/>
  <dc:language>en-US</dc:language>
  <cp:lastModifiedBy>LEGION</cp:lastModifiedBy>
  <dcterms:modified xsi:type="dcterms:W3CDTF">2015-05-12T08:56:02Z</dcterms:modified>
  <cp:revision>56</cp:revision>
  <dc:subject/>
  <dc:title>Самопомощь при тепловых и солнечных ударах</dc:title>
</cp:coreProperties>
</file>