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1.jpeg" ContentType="image/jpeg"/>
  <Override PartName="/ppt/media/image9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media/image2.gif" ContentType="image/gi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5787-E06D-4A61-8BCE-63168243A5F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мопомощь при тепловых и солнечных ударах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4F0B-8137-466E-974A-E1AD6DE91D0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Солнечные ожоги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EDEA-8971-4AAC-977C-EB246ACEE50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СОЛНЕЧНЫХ ОЖ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ЖА КРАСНЕЕТ, БОЛ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СТЕ ОЖОГА  НА КОЖЕ ПОЯВЛЯЮТСЯ ВОЛДЫР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ТЕМПЕРАТУРЫ, ОЗНО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ШНОТА И РВ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9C97-0D55-4883-87AC-ABB235DB21F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Солнечные ожоги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Как предотвратить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92E3-5B90-40F5-B0C9-9517E0B5BA5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йте защитные кр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E064-A8BC-4878-88E3-573F4EC182A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F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цезащитный фа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4088-D869-4300-929F-D7257C510BF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к предотвратить солнечный удар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е головной у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B335-A536-498A-AEDA-A2B3C46F348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ходите на пляж или с утра или после об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F9B7-6FC7-4008-849B-E7A2604E3FC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е двигайте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D210-A183-4EF4-8A8C-8B8C4444E87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йте больше воды , находясь на солнц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C569-ED7F-4FF5-AB8C-4EEC7318FC2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епловой уда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зультат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щего перегрева организм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во время пребывания в душном помещении, во время физических нагрузок, в общественном транспорт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48FA-925A-485C-A865-B017B7BC285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ереедайте перед походом на пля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5C29-098E-44FF-8FCD-C761ABB160E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спать на солнц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383A-E01B-435B-8568-07432063924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ыхайте под зон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591B-B293-412A-9AA3-9EDF08C51BA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олнечный уда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регревание в результате длительного пребывания на солнце и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ямого воздействия солнечных луч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ожет проявиться через несколько ч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1B66-E472-46CB-9DB3-E506D4190E2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сновные признак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солнечного удар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окружение или острая головная б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бость, шум в уш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лькание в глаз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раснение ко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енное дыхание и пуль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темп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шнота (иногда рво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28C9-512B-451B-BF7C-8BB6D3F1FF1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ТО ДЕЛАТ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появлении сильной жажды, сухости во рту, при покраснении кожи лица необходим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йти прохладное мест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выпить воды, принять душ или искупать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900C-DF0B-4C51-B654-878EC9534D5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этого не сделать, появится головная боль, слабость, шум в ушах, тошнота, участятся пульс и дыхание температура тела повыш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тяжелых случаях потеря сознания, судор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AC54-D326-4208-9A44-18D0F05CF4A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мощь пострадавшем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нести в прохладное темное место, где есть доступ свежего воздуха, раздеть его, приподнять ноги (на 25 с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сли в сознан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дать выпить холодную жидкость, компресс на голову и шею, обтереть холодной вод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сли без созна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дать понюхать нашатырный спирт, облить водой или завернуть в мокрую ткан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звать 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CB36-ABF5-4F49-866B-7DEF4D47D50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чем отличается ТЕПЛОВОЙ УДАР от СОЛНЕЧНО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некоторые люди падают в обморок в душном автобус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5821-C817-4EE4-BD9D-8665819C89A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пловой или солнечный удары чаще поражают людей, неправильно одетых, не имеющих головного убора, переутомлен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B10A-8ED9-43CB-B88A-80FBE8B96B2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F4F5-FA46-485E-9A2F-728F4D70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DBB8-7830-4924-A2CA-26828F37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0D91-9092-46EE-9B84-A91193CB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96AE-A565-4994-AAFB-379A3E4BA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856A-FD00-40CD-805F-AFE9E6846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12B2-141D-4778-B173-7F4C7510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E597-3B5C-4121-87A1-E6DFEB4B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0763-77D3-4E1F-8F73-E290DE69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9110-21F8-4491-ADB6-3F20F5F8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0AC9-11DB-4979-9605-D3CC2BE8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C150-6FAB-48F5-983D-6E3B4F52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0727-ADDD-4ADD-8482-AE7DC104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EA9B-4725-42AA-8623-AC3A208A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F961-4621-4F6F-81CD-40E26923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FFC1-C01D-4C3D-9C23-62D44BD3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123C-8A06-44CA-AFDB-0D143E422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3360-4A7E-4A82-86D6-9072591C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3277-F077-4773-96F2-A4E72D17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FE85-DAA9-4B5E-AC7F-EDEE79C2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0869-42D2-42DE-829C-84972871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9E36-7AEC-473A-822D-E39D34E8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9E93-662E-4814-A600-119ED96D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2279-9521-454F-87E6-E7ADDAF8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A36A-251C-4787-9261-03189B10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211E-1B52-4A2B-A819-D0532D43313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F5BE-53E4-4EFB-9310-EB8F4B112B2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4"/>
          <p:cNvGraphicFramePr/>
          <p:nvPr/>
        </p:nvGraphicFramePr>
        <p:xfrm>
          <a:off x="6191280" y="4017960"/>
          <a:ext cx="2952720" cy="28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1280" y="4017960"/>
                    <a:ext cx="2952720" cy="28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8280360" cy="237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c0c0"/>
                </a:solidFill>
                <a:latin typeface="Arial"/>
              </a:rPr>
              <a:t>Самопомощь при тепловых и солнечных ударах .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Солнечные ожоги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ПРИЗНАКИ СОЛНЕЧНЫХ ОЖОГОВ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ЖА КРАСНЕЕТ, БОЛИ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 МЕСТЕ ОЖОГА  НА КОЖЕ ПОЯВЛЯЮТСЯ ВОЛДЫРИ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ВЫШЕНИЕ ТЕМПЕРАТУРЫ, ОЗНО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ОШНОТА И РВО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0c0c0"/>
              </a:solidFill>
              <a:latin typeface="Arial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Солнечные ожоги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ак предотвратить</a:t>
            </a: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Используйте защитные крема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big_1239014954"/>
          <p:cNvPicPr/>
          <p:nvPr/>
        </p:nvPicPr>
        <p:blipFill>
          <a:blip r:embed="rId1"/>
          <a:stretch/>
        </p:blipFill>
        <p:spPr>
          <a:xfrm>
            <a:off x="2124000" y="1557360"/>
            <a:ext cx="3960720" cy="47545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SPF-</a:t>
            </a: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Солнцезащитный фактор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4" descr="крем"/>
          <p:cNvPicPr/>
          <p:nvPr/>
        </p:nvPicPr>
        <p:blipFill>
          <a:blip r:embed="rId1"/>
          <a:stretch/>
        </p:blipFill>
        <p:spPr>
          <a:xfrm>
            <a:off x="5724360" y="3284640"/>
            <a:ext cx="2883240" cy="2735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крем 2"/>
          <p:cNvPicPr/>
          <p:nvPr/>
        </p:nvPicPr>
        <p:blipFill>
          <a:blip r:embed="rId2"/>
          <a:stretch/>
        </p:blipFill>
        <p:spPr>
          <a:xfrm>
            <a:off x="539640" y="162864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0c0c0"/>
                </a:solidFill>
                <a:uFillTx/>
                <a:latin typeface="Arial"/>
              </a:rPr>
              <a:t>Как предотвратить солнечный удар?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осите головной убо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4" descr="i_526045_1"/>
          <p:cNvPicPr/>
          <p:nvPr/>
        </p:nvPicPr>
        <p:blipFill>
          <a:blip r:embed="rId1"/>
          <a:stretch/>
        </p:blipFill>
        <p:spPr>
          <a:xfrm>
            <a:off x="2050920" y="2276640"/>
            <a:ext cx="5257800" cy="44240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риходите на пляж или с утра или после обед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foto_422869"/>
          <p:cNvPicPr/>
          <p:nvPr/>
        </p:nvPicPr>
        <p:blipFill>
          <a:blip r:embed="rId1"/>
          <a:stretch/>
        </p:blipFill>
        <p:spPr>
          <a:xfrm>
            <a:off x="4381560" y="3048120"/>
            <a:ext cx="4762440" cy="380988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ольше двигайтесь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5" descr="5761a18dffc663_b"/>
          <p:cNvPicPr/>
          <p:nvPr/>
        </p:nvPicPr>
        <p:blipFill>
          <a:blip r:embed="rId1"/>
          <a:stretch/>
        </p:blipFill>
        <p:spPr>
          <a:xfrm>
            <a:off x="971640" y="1557360"/>
            <a:ext cx="7200720" cy="480708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0c0c0"/>
                </a:solidFill>
                <a:latin typeface="Arial"/>
              </a:rPr>
              <a:t>Пейте больше воды , находясь на солнце</a:t>
            </a:r>
            <a:br>
              <a:rPr sz="4000"/>
            </a:b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water_bottles_turqoise"/>
          <p:cNvPicPr/>
          <p:nvPr/>
        </p:nvPicPr>
        <p:blipFill>
          <a:blip r:embed="rId1"/>
          <a:stretch/>
        </p:blipFill>
        <p:spPr>
          <a:xfrm>
            <a:off x="2340000" y="1276200"/>
            <a:ext cx="4467240" cy="558180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c0c0"/>
                </a:solidFill>
                <a:latin typeface="Arial"/>
              </a:rPr>
              <a:t>Тепловой удар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результат </a:t>
            </a: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общего перегрева организма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 во время пребывания в душном помещении, во время физических нагрузок, в общественном транспорте.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c0c0"/>
                </a:solidFill>
                <a:latin typeface="Arial"/>
              </a:rPr>
              <a:t>Не переедайте перед походом на пляж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Obesidad-infatil"/>
          <p:cNvPicPr/>
          <p:nvPr/>
        </p:nvPicPr>
        <p:blipFill>
          <a:blip r:embed="rId1"/>
          <a:stretch/>
        </p:blipFill>
        <p:spPr>
          <a:xfrm>
            <a:off x="1692360" y="1700280"/>
            <a:ext cx="5943600" cy="427176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Нельзя спать на солнце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4" descr="lisa-sleep"/>
          <p:cNvPicPr/>
          <p:nvPr/>
        </p:nvPicPr>
        <p:blipFill>
          <a:blip r:embed="rId1"/>
          <a:stretch/>
        </p:blipFill>
        <p:spPr>
          <a:xfrm>
            <a:off x="1028880" y="1268280"/>
            <a:ext cx="7143480" cy="535968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Отдыхайте под зонтом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зонт"/>
          <p:cNvPicPr/>
          <p:nvPr/>
        </p:nvPicPr>
        <p:blipFill>
          <a:blip r:embed="rId1"/>
          <a:stretch/>
        </p:blipFill>
        <p:spPr>
          <a:xfrm>
            <a:off x="4267080" y="2225520"/>
            <a:ext cx="4876920" cy="46324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056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c0c0"/>
                </a:solidFill>
                <a:latin typeface="Arial"/>
              </a:rPr>
              <a:t>Солнечный удар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ерегревание в результате длительного пребывания на солнце и </a:t>
            </a: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прямого воздействия солнечных луч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может проявиться через несколько час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balltossBg"/>
          <p:cNvPicPr/>
          <p:nvPr/>
        </p:nvPicPr>
        <p:blipFill>
          <a:blip r:embed="rId1"/>
          <a:stretch/>
        </p:blipFill>
        <p:spPr>
          <a:xfrm>
            <a:off x="0" y="0"/>
            <a:ext cx="2484360" cy="14842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260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11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Основные признаки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солнечного уда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оловокружение или острая головная бо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лабость, шум в уша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елькание в глаза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краснение кож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чащенное дыхание и пуль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вышение температу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шнота (иногда рвот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c0c0"/>
                </a:solidFill>
                <a:latin typeface="Arial"/>
              </a:rPr>
              <a:t>ЧТО ДЕЛАТЬ?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964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 появлении сильной жажды, сухости во рту, при покраснении кожи лица необходимо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айти прохладное мест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 выпить воды, принять душ или искупать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2672m"/>
          <p:cNvPicPr/>
          <p:nvPr/>
        </p:nvPicPr>
        <p:blipFill>
          <a:blip r:embed="rId1"/>
          <a:stretch/>
        </p:blipFill>
        <p:spPr>
          <a:xfrm>
            <a:off x="4822920" y="3456000"/>
            <a:ext cx="4321080" cy="34020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-747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08000" y="333360"/>
            <a:ext cx="4572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сли этого не сделать, появится головная боль, слабость, шум в ушах, тошнота, участятся пульс и дыхание температура тела повышает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тяжелых случаях потеря сознания, судорог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400_F_466122_rqr1B7Hi1ocvDf6lhVSOp8wj2C8RsB"/>
          <p:cNvPicPr/>
          <p:nvPr/>
        </p:nvPicPr>
        <p:blipFill>
          <a:blip r:embed="rId1"/>
          <a:stretch/>
        </p:blipFill>
        <p:spPr>
          <a:xfrm>
            <a:off x="4500720" y="1341360"/>
            <a:ext cx="4287600" cy="41752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c0c0"/>
                </a:solidFill>
                <a:latin typeface="Arial"/>
              </a:rPr>
              <a:t>Помощь пострадавшему: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енести в прохладное темное место, где есть доступ свежего воздуха, раздеть его, приподнять ноги (на 25 см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Если в сознани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дать выпить холодную жидкость, компресс на голову и шею, обтереть холодной водо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Если без сознани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дать понюхать нашатырный спирт, облить водой или завернуть в мокрую ткан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звать 0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ак чем отличается ТЕПЛОВОЙ УДАР от СОЛНЕЧНОГ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чему некоторые люди падают в обморок в душном автобус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50560" y="1628280"/>
            <a:ext cx="8893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пловой или солнечный удары чаще поражают людей, неправильно одетых, не имеющих головного убора, переутомленны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5" descr="плакат солнце"/>
          <p:cNvPicPr/>
          <p:nvPr/>
        </p:nvPicPr>
        <p:blipFill>
          <a:blip r:embed="rId1"/>
          <a:stretch/>
        </p:blipFill>
        <p:spPr>
          <a:xfrm>
            <a:off x="2124000" y="620640"/>
            <a:ext cx="3870360" cy="33051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04:39:03Z</dcterms:created>
  <dc:creator>Олег Евгеньевич;Хадыкина Наталья</dc:creator>
  <dc:description/>
  <dc:language>en-US</dc:language>
  <cp:lastModifiedBy>LEGION</cp:lastModifiedBy>
  <dcterms:modified xsi:type="dcterms:W3CDTF">2015-05-12T08:56:02Z</dcterms:modified>
  <cp:revision>56</cp:revision>
  <dc:subject/>
  <dc:title>Самопомощь при тепловых и солнечных ударах</dc:title>
</cp:coreProperties>
</file>