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1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84C5-4E24-4146-AA6F-9E06B46BBB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помощь при тепловых и солнечных ударах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67C8-9551-4A03-9DE1-9E458BB6D7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Солнечные ожог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FB01-154B-4D0A-825F-7D2669520D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ОЛНЕЧНЫХ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КРАСНЕЕТ, БО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Е ОЖОГА  НА КОЖЕ ПОЯВЛЯЮТСЯ ВОЛДЫР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ТЕМПЕРАТУРЫ, ОЗН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5779-46DF-4195-A2AC-EAB0161A39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олнечные ожоги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ак предотвратить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EEF8-B372-4671-94FE-AC2E8E0E0E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защитные кр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BE00-0981-46E5-A016-0D5BCE9A8B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F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защитный фа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6D0F-C2DF-4738-83A3-0112F8D666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предотвратить солнечный уда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е головной у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CD05-89ED-4EF3-9738-913BDC512F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ходите на пляж или с утра или после об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0CB6-E407-4A4D-8213-4AF17FFA68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двигайте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88DD-CB88-46E3-9442-8385A9BF53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те больше воды , находясь на солнц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CFDA-C888-4995-9F4F-F329DA1D4F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пловой уд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зульта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щего перегрева организм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о время пребывания в душном помещении, во время физических нагрузок, в общественном транспорт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13B6-850F-4740-BE4C-B70FFF6E4D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ереедайте перед походом на пля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6C9B-E9AF-455E-9868-5F9F80DAB3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пать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8484-2182-47D6-A88C-77175D85B0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йте под зо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96FC-3218-4A9A-8362-5647E9EC1A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гревание в результате длительного пребывания на солнце и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го воздействия солнечных луч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жет проявиться через несколько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9B48-A435-4752-A6FC-23E557D727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сновные призна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олнечного уда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 или острая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, шум в уш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ькание в глаз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асне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енное дыхание и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темп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(иногда рв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4654-40CA-4697-841C-B75E7C5969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ДЕЛ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явлении сильной жажды, сухости во рту, при покраснении кожи лица необходим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йти прохладно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выпить воды, принять душ или искуп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DAC3-8F66-4A9F-97FD-C10DCF6BDA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этого не сделать, появится головная боль, слабость, шум в ушах, тошнота, участятся пульс и дыхание температура тела повыш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яжелых случаях потеря сознания, 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E323-087B-4135-8596-AC9AFFE69B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мощь пострадавше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 прохладное темное место, где есть доступ свежего воздуха, раздеть его, приподнять ноги (на 25 с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ли в сознан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ать выпить холодную жидкость, компресс на голову и шею, обтереть холод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ли без созн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ать понюхать нашатырный спирт, облить водой или завернуть в мокрую тка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звать 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4F0D-780A-4E42-BD48-2290324A47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чем отличается ТЕПЛОВОЙ УДАР от СОЛНЕЧ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некоторые люди падают в обморок в душном автобус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0DB8-1DF2-4DF9-9B56-56F73D72F3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пловой или солнечный удары чаще поражают людей, неправильно одетых, не имеющих головного убора, переутомл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445F-BF8E-4AE6-A0ED-B1132C3F42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9DF-F7EF-4391-A42B-44F0883C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65C-7D4B-459B-A385-909CF988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9F3-C44A-4C64-940A-F5B59403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AE4-81A5-4170-8C54-35BD98D4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CCFD-EDE4-44A2-A597-1DD7535E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4B55-A78F-4218-890B-CEB68BCE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9FB4-4E16-4AB8-96D1-2FA97B66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4767-4AC0-489A-8EE3-1006910C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5BBB-A5C8-43F0-99E5-3D60A5F0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05F6-410A-437B-BE28-B5B3085C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FD35-756C-4BEA-8231-F465207B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32C-BED5-4927-894F-6175F46C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3C27-1A7D-49F0-A504-E4BE7A28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94B8-CC05-4F1A-A4CE-6270112F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BE63-6CFD-40A0-B608-BC9073F0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4F2F-C0A2-4040-8A4B-E0F41328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4A12-8373-444D-9CCD-410160D3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6D0-D5DC-4C83-9EDD-13D0AD1B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0EE-15C8-4D06-A0C1-BA344472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946-ADAD-44DF-9817-001B55E4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44C-C846-4E24-B683-C7D7991C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47A-550A-4284-A323-ECD928A2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8FC-4C7B-4CAC-B09A-AB118B27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CAD-CE47-4C0D-AC86-5B5308A2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FD70-DB04-4BD3-B793-DA63501ABBA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67BC-BBC7-473A-9667-12AD1DCB1E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4"/>
          <p:cNvGraphicFramePr/>
          <p:nvPr/>
        </p:nvGraphicFramePr>
        <p:xfrm>
          <a:off x="6191280" y="4017960"/>
          <a:ext cx="295272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1280" y="4017960"/>
                    <a:ext cx="29527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237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c0c0"/>
                </a:solidFill>
                <a:latin typeface="Arial"/>
              </a:rPr>
              <a:t>Самопомощь при тепловых и солнечных ударах .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Солнечные ожог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РИЗНАКИ СОЛНЕЧНЫХ ОЖОГОВ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ЖА КРАСНЕЕТ, БОЛ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МЕСТЕ ОЖОГА  НА КОЖЕ ПОЯВЛЯЮТСЯ ВОЛДЫРИ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ВЫШЕНИЕ ТЕМПЕРАТУРЫ, ОЗНО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ШНОТА И РВО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Солнечные ожоги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к предотвратить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Используйте защитные крем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big_1239014954"/>
          <p:cNvPicPr/>
          <p:nvPr/>
        </p:nvPicPr>
        <p:blipFill>
          <a:blip r:embed="rId1"/>
          <a:stretch/>
        </p:blipFill>
        <p:spPr>
          <a:xfrm>
            <a:off x="2124000" y="1557360"/>
            <a:ext cx="3960720" cy="475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SPF-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Солнцезащитный фактор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крем"/>
          <p:cNvPicPr/>
          <p:nvPr/>
        </p:nvPicPr>
        <p:blipFill>
          <a:blip r:embed="rId1"/>
          <a:stretch/>
        </p:blipFill>
        <p:spPr>
          <a:xfrm>
            <a:off x="5724360" y="3284640"/>
            <a:ext cx="2883240" cy="2735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крем 2"/>
          <p:cNvPicPr/>
          <p:nvPr/>
        </p:nvPicPr>
        <p:blipFill>
          <a:blip r:embed="rId2"/>
          <a:stretch/>
        </p:blipFill>
        <p:spPr>
          <a:xfrm>
            <a:off x="539640" y="162864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c0c0"/>
                </a:solidFill>
                <a:uFillTx/>
                <a:latin typeface="Arial"/>
              </a:rPr>
              <a:t>Как предотвратить солнечный удар?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сите головной у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i_526045_1"/>
          <p:cNvPicPr/>
          <p:nvPr/>
        </p:nvPicPr>
        <p:blipFill>
          <a:blip r:embed="rId1"/>
          <a:stretch/>
        </p:blipFill>
        <p:spPr>
          <a:xfrm>
            <a:off x="2050920" y="2276640"/>
            <a:ext cx="5257800" cy="44240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ходите на пляж или с утра или после обе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foto_422869"/>
          <p:cNvPicPr/>
          <p:nvPr/>
        </p:nvPicPr>
        <p:blipFill>
          <a:blip r:embed="rId1"/>
          <a:stretch/>
        </p:blipFill>
        <p:spPr>
          <a:xfrm>
            <a:off x="4381560" y="304812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ольше двигайтес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5761a18dffc663_b"/>
          <p:cNvPicPr/>
          <p:nvPr/>
        </p:nvPicPr>
        <p:blipFill>
          <a:blip r:embed="rId1"/>
          <a:stretch/>
        </p:blipFill>
        <p:spPr>
          <a:xfrm>
            <a:off x="971640" y="1557360"/>
            <a:ext cx="7200720" cy="4807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Пейте больше воды , находясь на солнце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ater_bottles_turqoise"/>
          <p:cNvPicPr/>
          <p:nvPr/>
        </p:nvPicPr>
        <p:blipFill>
          <a:blip r:embed="rId1"/>
          <a:stretch/>
        </p:blipFill>
        <p:spPr>
          <a:xfrm>
            <a:off x="2340000" y="1276200"/>
            <a:ext cx="4467240" cy="55818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Тепловой удар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езультат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общего перегрева организма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во время пребывания в душном помещении, во время физических нагрузок, в общественном транспорте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Не переедайте перед походом на пляж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Obesidad-infatil"/>
          <p:cNvPicPr/>
          <p:nvPr/>
        </p:nvPicPr>
        <p:blipFill>
          <a:blip r:embed="rId1"/>
          <a:stretch/>
        </p:blipFill>
        <p:spPr>
          <a:xfrm>
            <a:off x="1692360" y="1700280"/>
            <a:ext cx="5943600" cy="42717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Нельзя спать на солнц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lisa-sleep"/>
          <p:cNvPicPr/>
          <p:nvPr/>
        </p:nvPicPr>
        <p:blipFill>
          <a:blip r:embed="rId1"/>
          <a:stretch/>
        </p:blipFill>
        <p:spPr>
          <a:xfrm>
            <a:off x="1028880" y="1268280"/>
            <a:ext cx="7143480" cy="5359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Отдыхайте под зонтом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зонт"/>
          <p:cNvPicPr/>
          <p:nvPr/>
        </p:nvPicPr>
        <p:blipFill>
          <a:blip r:embed="rId1"/>
          <a:stretch/>
        </p:blipFill>
        <p:spPr>
          <a:xfrm>
            <a:off x="4267080" y="2225520"/>
            <a:ext cx="4876920" cy="46324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Солнечный удар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егревание в результате длительного пребывания на солнце и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рямого воздействия солнечных луч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ожет проявиться через несколько ча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balltossBg"/>
          <p:cNvPicPr/>
          <p:nvPr/>
        </p:nvPicPr>
        <p:blipFill>
          <a:blip r:embed="rId1"/>
          <a:stretch/>
        </p:blipFill>
        <p:spPr>
          <a:xfrm>
            <a:off x="0" y="0"/>
            <a:ext cx="248436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1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Основные признак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олнечного уда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ловокружение или острая головная б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абость, шум в уш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лькание в глаз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краснение кож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ащенное дыхание и пуль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вышение темпера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(иногда рво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ЧТО ДЕЛАТЬ?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 появлении сильной жажды, сухости во рту, при покраснении кожи лица необходимо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йти прохладное мест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выпить воды, принять душ или искупа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2672m"/>
          <p:cNvPicPr/>
          <p:nvPr/>
        </p:nvPicPr>
        <p:blipFill>
          <a:blip r:embed="rId1"/>
          <a:stretch/>
        </p:blipFill>
        <p:spPr>
          <a:xfrm>
            <a:off x="4822920" y="3456000"/>
            <a:ext cx="4321080" cy="3402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-747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08000" y="333360"/>
            <a:ext cx="4572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того не сделать, появится головная боль, слабость, шум в ушах, тошнота, участятся пульс и дыхание температура тела повышае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тяжелых случаях потеря сознания, судор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400_F_466122_rqr1B7Hi1ocvDf6lhVSOp8wj2C8RsB"/>
          <p:cNvPicPr/>
          <p:nvPr/>
        </p:nvPicPr>
        <p:blipFill>
          <a:blip r:embed="rId1"/>
          <a:stretch/>
        </p:blipFill>
        <p:spPr>
          <a:xfrm>
            <a:off x="4500720" y="1341360"/>
            <a:ext cx="4287600" cy="4175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Помощь пострадавшему: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нести в прохладное темное место, где есть доступ свежего воздуха, раздеть его, приподнять ноги (на 25 с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в сознан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ть выпить холодную жидкость, компресс на голову и шею, обтереть холодной вод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без с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ть понюхать нашатырный спирт, облить водой или завернуть в мокрую тка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звать 0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ак чем отличается ТЕПЛОВОЙ УДАР от СОЛНЕЧНОГ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му некоторые люди падают в обморок в душном автобус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пловой или солнечный удары чаще поражают людей, неправильно одетых, не имеющих головного убора, переутомленны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плакат солнце"/>
          <p:cNvPicPr/>
          <p:nvPr/>
        </p:nvPicPr>
        <p:blipFill>
          <a:blip r:embed="rId1"/>
          <a:stretch/>
        </p:blipFill>
        <p:spPr>
          <a:xfrm>
            <a:off x="2124000" y="620640"/>
            <a:ext cx="3870360" cy="3305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04:39:03Z</dcterms:created>
  <dc:creator>Олег Евгеньевич;Хадыкина Наталья</dc:creator>
  <dc:description/>
  <dc:language>en-US</dc:language>
  <cp:lastModifiedBy>LEGION</cp:lastModifiedBy>
  <dcterms:modified xsi:type="dcterms:W3CDTF">2015-05-12T08:56:02Z</dcterms:modified>
  <cp:revision>56</cp:revision>
  <dc:subject/>
  <dc:title>Самопомощь при тепловых и солнечных ударах</dc:title>
</cp:coreProperties>
</file>