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0CD2-BD29-4B37-BBB9-19E64102F2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1BD7-6313-4763-BC10-5E373813ED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Лекция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4</a:t>
            </a:r>
            <a:br>
              <a:rPr sz="11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противление злу сило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A512-5AD0-42CB-8474-B4ACADD54F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Евразийцы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С. Трубецко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0-19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Н. Савиц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5-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П. Сувчин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2-198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В. Флоров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3-1979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 Карсавин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2-1952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Иль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3-195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0554-76E6-45B6-88F3-EC8E95BFC7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ход к Востоку: Предчувствия и свершения [Кн. 1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 путях: Утверждение Евразийцев [Кн. 2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ссия и латинство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вразийский Временник [Кн. 3‑5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3‑193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С. Трубецкой. Наследие Чингис-хана: Взгляд на русскую историю не с Запада, а с Восток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вразийский сборник [Кн. 6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дцатые годы [Кн. 7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D581-988C-4CAD-B34F-364F0501A1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тиевропе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оличество и правосла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вр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инент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уранский тип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усской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таро-монгольская государ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перский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волюции 1917 г. и гражданская вой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революционная мисси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окра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ый правящий слой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8E6E-DCE0-478E-AFF5-D74FEF4335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черки религиозной жизни в Италии XII-XIII веков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средневековой религиозности в XII-XIII веках, преимущественно в Итал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ультура средних веков: Общий очерк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Noctes Petropolitanae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началах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Церковь, личность и государство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личност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европейской культуры. Т. 1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B3F0-59AD-4BDB-A87C-8017F3E491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истории и социальн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я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имфоническая личнос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елигии и 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люб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Жизнь чрез смер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E460-D2AE-490A-B5D3-CB18829C79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B102-C672-45B7-BC6F-5516E5AF0B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Гегеля как учение о конкретности Бога и человек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сущности правосознания [Учение о правосознании]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9, опубл. 195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сопротивлении злу сило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ь духовного обновлен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христианской культуры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ь к очевидност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опубл. 195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1A95-5490-4016-AF01-D836880320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жественный источник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ксиомы правосо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духовного достоинств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автоном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взаимного при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(сопротивление злу силою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3ECB-8EFA-42D7-A23A-E254FF90CA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027B-6656-48C2-8A32-24B84276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D646-601D-40FF-8FA5-63FBBFE9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2510-CDE2-48AD-82A7-7F5E2642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59E0-8538-4A95-AC08-5A6903B4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B0B2-4A3B-4777-9327-41CB458F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E2A8-7EDF-4AF3-A56D-8ED41529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90A3-A187-41C8-8954-3F12AEB5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9E4E-6420-4159-BFDA-B74BFE19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D8AD-CACD-45CF-A13D-F383B639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812C-FF7A-42F0-A8DE-70E95C64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2304-B777-4429-8593-C615DF1C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8A35-57DC-46C2-A283-58A5A733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D06D-7212-4279-A9C0-342CC85C4F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2338560"/>
            <a:ext cx="849312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9440" y="4317480"/>
            <a:ext cx="820116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кция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</a:t>
            </a:r>
            <a:br>
              <a:rPr sz="2800"/>
            </a:br>
            <a:br>
              <a:rPr sz="10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противление злу сил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Organization Chart 7"/>
          <p:cNvGrpSpPr/>
          <p:nvPr/>
        </p:nvGrpSpPr>
        <p:grpSpPr>
          <a:xfrm>
            <a:off x="431640" y="1585800"/>
            <a:ext cx="8208720" cy="4463640"/>
            <a:chOff x="431640" y="1585800"/>
            <a:chExt cx="8208720" cy="4463640"/>
          </a:xfrm>
        </p:grpSpPr>
        <p:cxnSp>
          <p:nvCxnSpPr>
            <p:cNvPr id="107" name="_s1028"/>
            <p:cNvCxnSpPr>
              <a:stCxn id="108" idx="1"/>
              <a:endCxn id="109" idx="2"/>
            </p:cNvCxnSpPr>
            <p:nvPr/>
          </p:nvCxnSpPr>
          <p:spPr>
            <a:xfrm rot="10800000">
              <a:off x="7087680" y="4474440"/>
              <a:ext cx="22104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0" name="_s1029"/>
            <p:cNvCxnSpPr>
              <a:stCxn id="111" idx="1"/>
              <a:endCxn id="109" idx="2"/>
            </p:cNvCxnSpPr>
            <p:nvPr/>
          </p:nvCxnSpPr>
          <p:spPr>
            <a:xfrm rot="10800000">
              <a:off x="7087680" y="4474440"/>
              <a:ext cx="221040" cy="52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1030"/>
            <p:cNvCxnSpPr>
              <a:stCxn id="113" idx="1"/>
              <a:endCxn id="114" idx="2"/>
            </p:cNvCxnSpPr>
            <p:nvPr/>
          </p:nvCxnSpPr>
          <p:spPr>
            <a:xfrm rot="10800000">
              <a:off x="5312160" y="4474440"/>
              <a:ext cx="22248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031"/>
            <p:cNvCxnSpPr>
              <a:stCxn id="116" idx="1"/>
              <a:endCxn id="114" idx="2"/>
            </p:cNvCxnSpPr>
            <p:nvPr/>
          </p:nvCxnSpPr>
          <p:spPr>
            <a:xfrm rot="10800000">
              <a:off x="5312160" y="4474440"/>
              <a:ext cx="222480" cy="52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7" name="_s1032"/>
            <p:cNvCxnSpPr>
              <a:stCxn id="118" idx="3"/>
              <a:endCxn id="119" idx="2"/>
            </p:cNvCxnSpPr>
            <p:nvPr/>
          </p:nvCxnSpPr>
          <p:spPr>
            <a:xfrm flipV="1">
              <a:off x="3537360" y="4474440"/>
              <a:ext cx="22392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1033"/>
            <p:cNvCxnSpPr>
              <a:stCxn id="121" idx="3"/>
              <a:endCxn id="119" idx="2"/>
            </p:cNvCxnSpPr>
            <p:nvPr/>
          </p:nvCxnSpPr>
          <p:spPr>
            <a:xfrm flipV="1">
              <a:off x="3537360" y="4474440"/>
              <a:ext cx="223920" cy="52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2" name="_s1034"/>
            <p:cNvCxnSpPr>
              <a:stCxn id="123" idx="3"/>
              <a:endCxn id="124" idx="2"/>
            </p:cNvCxnSpPr>
            <p:nvPr/>
          </p:nvCxnSpPr>
          <p:spPr>
            <a:xfrm flipV="1">
              <a:off x="1763280" y="4474440"/>
              <a:ext cx="222480" cy="1312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5" name="_s1035"/>
            <p:cNvCxnSpPr>
              <a:stCxn id="126" idx="3"/>
              <a:endCxn id="124" idx="2"/>
            </p:cNvCxnSpPr>
            <p:nvPr/>
          </p:nvCxnSpPr>
          <p:spPr>
            <a:xfrm flipV="1">
              <a:off x="1763280" y="4474440"/>
              <a:ext cx="222480" cy="52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7" name="_s1036"/>
            <p:cNvCxnSpPr>
              <a:stCxn id="109" idx="0"/>
              <a:endCxn id="128" idx="2"/>
            </p:cNvCxnSpPr>
            <p:nvPr/>
          </p:nvCxnSpPr>
          <p:spPr>
            <a:xfrm flipV="1" rot="16200000">
              <a:off x="6512760" y="3373560"/>
              <a:ext cx="263160" cy="88848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9" name="_s1037"/>
            <p:cNvCxnSpPr>
              <a:stCxn id="114" idx="0"/>
              <a:endCxn id="128" idx="2"/>
            </p:cNvCxnSpPr>
            <p:nvPr/>
          </p:nvCxnSpPr>
          <p:spPr>
            <a:xfrm flipH="1" flipV="1" rot="5400000">
              <a:off x="5625360" y="3373920"/>
              <a:ext cx="263160" cy="88848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0" name="_s1038"/>
            <p:cNvCxnSpPr>
              <a:stCxn id="119" idx="0"/>
              <a:endCxn id="131" idx="2"/>
            </p:cNvCxnSpPr>
            <p:nvPr/>
          </p:nvCxnSpPr>
          <p:spPr>
            <a:xfrm flipV="1" rot="16200000">
              <a:off x="3183840" y="3373200"/>
              <a:ext cx="263160" cy="88956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2" name="_s1039"/>
            <p:cNvCxnSpPr>
              <a:stCxn id="124" idx="0"/>
              <a:endCxn id="131" idx="2"/>
            </p:cNvCxnSpPr>
            <p:nvPr/>
          </p:nvCxnSpPr>
          <p:spPr>
            <a:xfrm flipH="1" flipV="1" rot="5400000">
              <a:off x="2296800" y="3374640"/>
              <a:ext cx="263160" cy="88704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3" name="_s1040"/>
            <p:cNvCxnSpPr>
              <a:stCxn id="128" idx="0"/>
              <a:endCxn id="134" idx="2"/>
            </p:cNvCxnSpPr>
            <p:nvPr/>
          </p:nvCxnSpPr>
          <p:spPr>
            <a:xfrm flipV="1" rot="16200000">
              <a:off x="5235840" y="2196360"/>
              <a:ext cx="263160" cy="1666800"/>
            </a:xfrm>
            <a:prstGeom prst="bentConnector3">
              <a:avLst>
                <a:gd name="adj1" fmla="val 432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5" name="_s1041"/>
            <p:cNvCxnSpPr>
              <a:stCxn id="131" idx="0"/>
              <a:endCxn id="134" idx="2"/>
            </p:cNvCxnSpPr>
            <p:nvPr/>
          </p:nvCxnSpPr>
          <p:spPr>
            <a:xfrm flipH="1" flipV="1" rot="5400000">
              <a:off x="3571200" y="2198160"/>
              <a:ext cx="263160" cy="1663560"/>
            </a:xfrm>
            <a:prstGeom prst="bentConnector3">
              <a:avLst>
                <a:gd name="adj1" fmla="val 4328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6" name="_s1042"/>
            <p:cNvCxnSpPr>
              <a:stCxn id="134" idx="0"/>
              <a:endCxn id="137" idx="2"/>
            </p:cNvCxnSpPr>
            <p:nvPr/>
          </p:nvCxnSpPr>
          <p:spPr>
            <a:xfrm flipV="1" rot="16200000">
              <a:off x="3543120" y="1382400"/>
              <a:ext cx="263160" cy="171900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8" name="_s1043"/>
            <p:cNvCxnSpPr>
              <a:stCxn id="139" idx="0"/>
              <a:endCxn id="137" idx="2"/>
            </p:cNvCxnSpPr>
            <p:nvPr/>
          </p:nvCxnSpPr>
          <p:spPr>
            <a:xfrm flipH="1" flipV="1" rot="5400000">
              <a:off x="1825920" y="1383480"/>
              <a:ext cx="263160" cy="1717200"/>
            </a:xfrm>
            <a:prstGeom prst="bentConnector3">
              <a:avLst>
                <a:gd name="adj1" fmla="val 435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7" name="_s1044"/>
            <p:cNvSpPr/>
            <p:nvPr/>
          </p:nvSpPr>
          <p:spPr>
            <a:xfrm>
              <a:off x="2149920" y="158580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Действие </a:t>
              </a:r>
              <a:br>
                <a:rPr sz="1100"/>
              </a:b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волевой сил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45"/>
            <p:cNvSpPr/>
            <p:nvPr/>
          </p:nvSpPr>
          <p:spPr>
            <a:xfrm>
              <a:off x="431640" y="237384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Органически цель- </a:t>
              </a:r>
              <a:br>
                <a:rPr sz="1100"/>
              </a:b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ное и свободн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46"/>
            <p:cNvSpPr/>
            <p:nvPr/>
          </p:nvSpPr>
          <p:spPr>
            <a:xfrm>
              <a:off x="3868560" y="237384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Заставляюще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47"/>
            <p:cNvSpPr/>
            <p:nvPr/>
          </p:nvSpPr>
          <p:spPr>
            <a:xfrm>
              <a:off x="2205720" y="316188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Внутреннее</a:t>
              </a:r>
              <a:br>
                <a:rPr sz="1100"/>
              </a:b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заставл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48"/>
            <p:cNvSpPr/>
            <p:nvPr/>
          </p:nvSpPr>
          <p:spPr>
            <a:xfrm>
              <a:off x="5533200" y="316188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Внешнее застав-</a:t>
              </a:r>
              <a:br>
                <a:rPr sz="1100"/>
              </a:b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ление друг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49"/>
            <p:cNvSpPr/>
            <p:nvPr/>
          </p:nvSpPr>
          <p:spPr>
            <a:xfrm>
              <a:off x="131940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сих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50"/>
            <p:cNvSpPr/>
            <p:nvPr/>
          </p:nvSpPr>
          <p:spPr>
            <a:xfrm>
              <a:off x="309348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Физ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51"/>
            <p:cNvSpPr/>
            <p:nvPr/>
          </p:nvSpPr>
          <p:spPr>
            <a:xfrm>
              <a:off x="464688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сих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52"/>
            <p:cNvSpPr/>
            <p:nvPr/>
          </p:nvSpPr>
          <p:spPr>
            <a:xfrm>
              <a:off x="6420960" y="394992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Физическо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53"/>
            <p:cNvSpPr/>
            <p:nvPr/>
          </p:nvSpPr>
          <p:spPr>
            <a:xfrm>
              <a:off x="431640" y="4737960"/>
              <a:ext cx="1331640" cy="52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понужд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54"/>
            <p:cNvSpPr/>
            <p:nvPr/>
          </p:nvSpPr>
          <p:spPr>
            <a:xfrm>
              <a:off x="431640" y="5526000"/>
              <a:ext cx="133164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насил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55"/>
            <p:cNvSpPr/>
            <p:nvPr/>
          </p:nvSpPr>
          <p:spPr>
            <a:xfrm>
              <a:off x="2207160" y="473796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принужд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56"/>
            <p:cNvSpPr/>
            <p:nvPr/>
          </p:nvSpPr>
          <p:spPr>
            <a:xfrm>
              <a:off x="2207160" y="552600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ff"/>
                  </a:solidFill>
                  <a:latin typeface="Arial"/>
                </a:rPr>
                <a:t>Самонасил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57"/>
            <p:cNvSpPr/>
            <p:nvPr/>
          </p:nvSpPr>
          <p:spPr>
            <a:xfrm>
              <a:off x="5534640" y="473796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онуждение 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друг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58"/>
            <p:cNvSpPr/>
            <p:nvPr/>
          </p:nvSpPr>
          <p:spPr>
            <a:xfrm>
              <a:off x="5534640" y="5526000"/>
              <a:ext cx="133020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силие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д другим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59"/>
            <p:cNvSpPr/>
            <p:nvPr/>
          </p:nvSpPr>
          <p:spPr>
            <a:xfrm>
              <a:off x="7308720" y="4737960"/>
              <a:ext cx="132984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онуждение и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пресеч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60"/>
            <p:cNvSpPr/>
            <p:nvPr/>
          </p:nvSpPr>
          <p:spPr>
            <a:xfrm>
              <a:off x="7308720" y="5526000"/>
              <a:ext cx="1331640" cy="52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силие</a:t>
              </a:r>
              <a:br>
                <a:rPr sz="1100"/>
              </a:br>
              <a:r>
                <a:rPr b="1" lang="en-US" sz="1100" spc="-1" strike="noStrike">
                  <a:solidFill>
                    <a:srgbClr val="0000ff"/>
                  </a:solidFill>
                  <a:latin typeface="Arial"/>
                </a:rPr>
                <a:t>над другим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русской эмиг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04840" y="1798200"/>
            <a:ext cx="323856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Евразийцы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С. Трубецко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0-19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Н. Савиц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5-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П. Сувчин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2-198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В. Флоровски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3-1979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 Карсавин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2-1952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Иль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3-195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Trubetskoy N S (1)"/>
          <p:cNvPicPr/>
          <p:nvPr/>
        </p:nvPicPr>
        <p:blipFill>
          <a:blip r:embed="rId1"/>
          <a:stretch/>
        </p:blipFill>
        <p:spPr>
          <a:xfrm>
            <a:off x="3598920" y="1798560"/>
            <a:ext cx="203976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10" descr="Карсавин (1-1)"/>
          <p:cNvPicPr/>
          <p:nvPr/>
        </p:nvPicPr>
        <p:blipFill>
          <a:blip r:embed="rId2"/>
          <a:stretch/>
        </p:blipFill>
        <p:spPr>
          <a:xfrm>
            <a:off x="5218200" y="2517840"/>
            <a:ext cx="191448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8" name="Picture 9" descr="Ильин (3-3)"/>
          <p:cNvPicPr/>
          <p:nvPr/>
        </p:nvPicPr>
        <p:blipFill>
          <a:blip r:embed="rId3"/>
          <a:stretch/>
        </p:blipFill>
        <p:spPr>
          <a:xfrm>
            <a:off x="6837480" y="3238560"/>
            <a:ext cx="1957320" cy="28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Trubetskoy N S (1)"/>
          <p:cNvPicPr/>
          <p:nvPr/>
        </p:nvPicPr>
        <p:blipFill>
          <a:blip r:embed="rId1"/>
          <a:stretch/>
        </p:blipFill>
        <p:spPr>
          <a:xfrm>
            <a:off x="358920" y="1798560"/>
            <a:ext cx="30589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77840" y="2517840"/>
            <a:ext cx="50389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ход к Востоку: Предчувствия и свершения [Кн. 1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путях: Утверждение Евразийцев [Кн. 2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и латин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азийский Временник [Кн. 3‑5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‑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С. Трубецкой. Наследие Чингис-хана: Взгляд на русскую историю не с Запада, а с Восто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азийский сборник [Кн. 6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дцатые годы [Кн. 7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4497480" y="1762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вразийц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5856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тиевропе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 и Вост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оличество и правосла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вр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инент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уранский тип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усской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таро-монгольская государ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мперский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волюции 1917 г. и гражданская вой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литическ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революционная мисси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окра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ый правящий слой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98560" y="2517840"/>
            <a:ext cx="5398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черки религиозной жизни в Италии XII-XIII век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ы средневековой религиозности в XII-XIII веках, преимущественно в Итал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ультура средних веков: Общий очерк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Noctes Petropolitanae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начал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рковь, личность и государ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личност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европейской культуры. Т. 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Карсавин (1-1)"/>
          <p:cNvPicPr/>
          <p:nvPr/>
        </p:nvPicPr>
        <p:blipFill>
          <a:blip r:embed="rId1"/>
          <a:stretch/>
        </p:blipFill>
        <p:spPr>
          <a:xfrm>
            <a:off x="358920" y="1798560"/>
            <a:ext cx="28717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1" name="Text Box 8"/>
          <p:cNvSpPr/>
          <p:nvPr/>
        </p:nvSpPr>
        <p:spPr>
          <a:xfrm>
            <a:off x="449748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. Карсавин (1882-195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еди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истории и социальная фил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я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имфоническая личнос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религии и 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люб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Жизнь чрез смер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 Л. П. Карсави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симфонической лич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"/>
          <p:cNvSpPr/>
          <p:nvPr/>
        </p:nvSpPr>
        <p:spPr>
          <a:xfrm>
            <a:off x="3957480" y="1906560"/>
            <a:ext cx="4318200" cy="4318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"/>
          <p:cNvSpPr/>
          <p:nvPr/>
        </p:nvSpPr>
        <p:spPr>
          <a:xfrm>
            <a:off x="417348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"/>
          <p:cNvSpPr/>
          <p:nvPr/>
        </p:nvSpPr>
        <p:spPr>
          <a:xfrm>
            <a:off x="5540400" y="3346560"/>
            <a:ext cx="251928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6"/>
          <p:cNvSpPr/>
          <p:nvPr/>
        </p:nvSpPr>
        <p:spPr>
          <a:xfrm>
            <a:off x="4856040" y="1943280"/>
            <a:ext cx="2519640" cy="25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7"/>
          <p:cNvSpPr/>
          <p:nvPr/>
        </p:nvSpPr>
        <p:spPr>
          <a:xfrm>
            <a:off x="5000760" y="2770200"/>
            <a:ext cx="143964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5792760" y="2770200"/>
            <a:ext cx="144000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9"/>
          <p:cNvSpPr/>
          <p:nvPr/>
        </p:nvSpPr>
        <p:spPr>
          <a:xfrm>
            <a:off x="5397480" y="1978200"/>
            <a:ext cx="144000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547056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5902200" y="240984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5686560" y="201456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3"/>
          <p:cNvSpPr/>
          <p:nvPr/>
        </p:nvSpPr>
        <p:spPr>
          <a:xfrm>
            <a:off x="575640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4"/>
          <p:cNvSpPr/>
          <p:nvPr/>
        </p:nvSpPr>
        <p:spPr>
          <a:xfrm>
            <a:off x="6008760" y="230184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5"/>
          <p:cNvSpPr/>
          <p:nvPr/>
        </p:nvSpPr>
        <p:spPr>
          <a:xfrm>
            <a:off x="5865840" y="205092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6"/>
          <p:cNvSpPr/>
          <p:nvPr/>
        </p:nvSpPr>
        <p:spPr>
          <a:xfrm>
            <a:off x="590220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7"/>
          <p:cNvSpPr/>
          <p:nvPr/>
        </p:nvSpPr>
        <p:spPr>
          <a:xfrm>
            <a:off x="6043680" y="219384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8"/>
          <p:cNvSpPr/>
          <p:nvPr/>
        </p:nvSpPr>
        <p:spPr>
          <a:xfrm>
            <a:off x="5973840" y="2068560"/>
            <a:ext cx="25236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359640" y="1978200"/>
            <a:ext cx="306108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лове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509040" y="4786200"/>
            <a:ext cx="308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ые эфемер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иодическ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оян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507600" y="5865840"/>
            <a:ext cx="33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одовлеющ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ункцион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8200" y="2409840"/>
            <a:ext cx="449928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Гегеля как учение о конкретности Бога и челове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ущности правосознания [Учение о правосознании]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9, опубл. 19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опротивлении злу сило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ть духовного обновл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ы христианской культур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ть к очевидности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публ. 19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nb_pinacoteca_nesterov_thinker"/>
          <p:cNvPicPr/>
          <p:nvPr/>
        </p:nvPicPr>
        <p:blipFill>
          <a:blip r:embed="rId1"/>
          <a:stretch/>
        </p:blipFill>
        <p:spPr>
          <a:xfrm>
            <a:off x="250920" y="1798560"/>
            <a:ext cx="426384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0" name="Text Box 7"/>
          <p:cNvSpPr/>
          <p:nvPr/>
        </p:nvSpPr>
        <p:spPr>
          <a:xfrm>
            <a:off x="521820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Ильин (1883-19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я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жественный источник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ксиомы правосо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духовного достоинств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автоном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взаимного призн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(сопротивление злу силою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7:18:50Z</dcterms:created>
  <dc:creator>Николай Бирюков / Nikolai Biryukov</dc:creator>
  <dc:description>Версия мая 2007 г.</dc:description>
  <dc:language>en-US</dc:language>
  <cp:lastModifiedBy>LEGION</cp:lastModifiedBy>
  <dcterms:modified xsi:type="dcterms:W3CDTF">2014-11-11T11:33:11Z</dcterms:modified>
  <cp:revision>19</cp:revision>
  <dc:subject>История русской философии - Лекция 14</dc:subject>
  <dc:title>Философия русской эмиграции</dc:title>
</cp:coreProperties>
</file>