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544760" y="1068480"/>
            <a:ext cx="4464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52360" y="5089680"/>
            <a:ext cx="5253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420e"/>
                </a:solidFill>
                <a:latin typeface="Tahoma"/>
                <a:ea typeface="Tahoma"/>
              </a:rPr>
              <a:t>Первая помощь при отравлении угарным газ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ак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Работы осуществлять в хорошо проветриваемых помещения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оверять открытие заслонок при использовании в домах печей и каминов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4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3deb3d"/>
                </a:solidFill>
                <a:latin typeface="Arial Black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гарный га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47ff"/>
                </a:solidFill>
                <a:latin typeface="Times New Roman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а ри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5000b"/>
                </a:solidFill>
                <a:uFillTx/>
                <a:latin typeface="Times New Roman"/>
              </a:rPr>
              <a:t>Отравление возмож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пожара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олжение(о группе рис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О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ревышает порог отравления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использовании некачественного воздуха в дыхательных аппарат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лёгком отравлени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являются головная боль, стук в висках, головокружение, боли в груди,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отравлении средней тяже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нливость, возможен двигательный паралич при сохраненном сознании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при тяжёлом отравлении: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лож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субарахноидальные кровоизлия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олиневриты -явления отека мозг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 нарушение зрения, слух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помощ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dc2300"/>
                </a:solidFill>
                <a:uFillTx/>
                <a:latin typeface="Arial"/>
              </a:rPr>
              <a:t>Для оказания первой помощи необходим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звать «скорую помощь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быстро вынести пострадавшего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дать пострадавшему подышать кислоро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на голову и грудь положить холодный компресс или пузырь со ль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199A-08B8-48D6-B4AB-A9CD6A04B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41EA-3D29-4981-A3F5-D7B86E20F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E157-CE41-4E4A-8B4E-40D46C51E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2D5D-C356-41B7-A458-02A832322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75E3C-C526-4CB3-83E0-4A32A54FBE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983B-26CF-4BC1-A206-A13AF2845F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6AB9-1B4F-4864-A229-87B8E35BA4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47F1C-905F-400D-A7AC-EC7F50C34C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5276-8058-43BD-8B88-87D0B8E03B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DA5D7-233C-4D3F-94DF-BF7E718B62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FEA4C-BD3E-4A89-B2D5-4F61EADD60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DB09-F50C-4330-813D-2B5BB5D0D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282B-6E73-4F24-AEE6-B39E8046EF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2F795-E814-4E6E-AE25-0F445E0917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2BA3-1931-44F2-8939-79DA356182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36B2-FDC7-4959-A970-B005686C14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3E2B-B6EE-4A8F-9CCD-207E690C5C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B0B-7181-4FCA-A34D-524B235F25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234-F4F4-494E-ACDB-875787C9EA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ECB-F27F-44C2-9431-AADFAEDAAE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B2BB-8581-4668-95AF-2F3A97BEDE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137-2E99-4657-AFC2-B4E4CE7E5F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97DD-F83B-4E46-9CE6-A74EB6DB60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4D5-77EA-4419-8E13-860D208E8B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460-1CF5-414E-8826-2965A8A4B0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2EA-2629-49A1-8F06-428FD07934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8E8-C075-49C2-91B9-6D9E001303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F091-129B-4FD5-9F62-AEA1DCC942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3D5-0F1F-4131-A478-9585CC0D6A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6BC-CDBD-4339-ADC6-31C6E87FDF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1FB34-80D7-4E6B-8684-80C1B15CA8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BA46E-3504-4D8C-964B-68B777E397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0B932-B482-4126-9659-669E4B7FC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B1A3-5C2D-4181-8E86-5D54231C5B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3001A-7750-45EB-9D85-F0A85A38B0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6C9F1-0F7D-4C60-A568-5E5B845A6A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AC5B1-9AD4-4750-87B0-AA9853368A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F3EE6-01D9-4078-97B1-930851F3C4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34332-EBE1-4E6F-9122-25D9DBB7D8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89037-6357-4143-9AE5-E806065E7F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37CE1-3C50-4002-B24F-341CDD0D23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9DFBD-154A-4E8C-B819-CBB2C042CA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57573-4E93-43B1-B7E9-E41BCDE78F9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643B-60B3-4311-B8FE-086BBEA4F5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2487-F11A-4556-ADA1-16F033377D4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C2E2-380A-4D7F-B4DD-DF6DE5104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CC63-0324-401A-9374-71460ABB2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B6B2-92DD-438C-B5BD-8C7985A5F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38C56-6711-4575-A428-B07896880F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56CED-5F04-4ED6-B53B-DD5A71B7E5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C3516-22F0-4C4E-98AC-80327A89295F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"/>
          <p:cNvSpPr/>
          <p:nvPr/>
        </p:nvSpPr>
        <p:spPr>
          <a:xfrm>
            <a:off x="314280" y="3090960"/>
            <a:ext cx="3240" cy="3344760"/>
          </a:xfrm>
          <a:custGeom>
            <a:avLst/>
            <a:gdLst>
              <a:gd name="textAreaLeft" fmla="*/ 0 w 3240"/>
              <a:gd name="textAreaRight" fmla="*/ 3600 w 3240"/>
              <a:gd name="textAreaTop" fmla="*/ 0 h 3344760"/>
              <a:gd name="textAreaBottom" fmla="*/ 3345120 h 3344760"/>
            </a:gdLst>
            <a:ahLst/>
            <a:rect l="textAreaLeft" t="textAreaTop" r="textAreaRight" b="textAreaBottom"/>
            <a:pathLst>
              <a:path w="3175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E1639-4D30-4F1B-A4DF-19F8F748F0E2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0" y="230040"/>
            <a:ext cx="10080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5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Государственное образовательное учреждение среднего профессионального образован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Комитета по  здравоохранению Администрации Волгоградской област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 «Медицинский колледж №1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04720" y="1989000"/>
            <a:ext cx="907596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16000" y="1467000"/>
            <a:ext cx="9864720" cy="45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420e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Tahoma"/>
              </a:rPr>
              <a:t>Первая помощь при отравлении угарным газ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420e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4824360" y="6086520"/>
          <a:ext cx="6099120" cy="107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24360" y="6086520"/>
                    <a:ext cx="609912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63680" y="-720720"/>
            <a:ext cx="90756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филакт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182520" y="1494000"/>
            <a:ext cx="86090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Работы осуществлять в хорошо проветриваемых помещениях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оверять открытие заслонок при использовании в домах печей и каминов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F:\73241668.jpg"/>
          <p:cNvPicPr/>
          <p:nvPr/>
        </p:nvPicPr>
        <p:blipFill>
          <a:blip r:embed="rId1"/>
          <a:stretch/>
        </p:blipFill>
        <p:spPr>
          <a:xfrm>
            <a:off x="5111640" y="4208400"/>
            <a:ext cx="4969080" cy="3351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2040" y="2309760"/>
            <a:ext cx="86072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WordArt 2"/>
          <p:cNvSpPr txBox="1"/>
          <p:nvPr/>
        </p:nvSpPr>
        <p:spPr>
          <a:xfrm>
            <a:off x="1979640" y="2340000"/>
            <a:ext cx="5940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8"/>
                <a:gd name="adj2" fmla="val -15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deb3d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Arial Black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deb3d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30080" y="2100240"/>
            <a:ext cx="860904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0" y="4500720"/>
            <a:ext cx="10080720" cy="3058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"/>
          <p:cNvSpPr/>
          <p:nvPr/>
        </p:nvSpPr>
        <p:spPr>
          <a:xfrm>
            <a:off x="571680" y="-184320"/>
            <a:ext cx="86086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Угарный г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39640" y="950760"/>
            <a:ext cx="860904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7ff"/>
                </a:solidFill>
                <a:latin typeface="Times New Roman"/>
                <a:ea typeface="MS Gothic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-603360" y="-22068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Группа рис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0" y="922320"/>
            <a:ext cx="918036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c5000b"/>
                </a:solidFill>
                <a:uFillTx/>
                <a:latin typeface="Times New Roman"/>
                <a:ea typeface="MS Gothic"/>
              </a:rPr>
              <a:t>Отравление возмож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пожарах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F:\6058.jpg"/>
          <p:cNvPicPr/>
          <p:nvPr/>
        </p:nvPicPr>
        <p:blipFill>
          <a:blip r:embed="rId1"/>
          <a:stretch/>
        </p:blipFill>
        <p:spPr>
          <a:xfrm>
            <a:off x="6508800" y="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754200" y="0"/>
            <a:ext cx="86090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должение(о группе риск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82520" y="1279440"/>
            <a:ext cx="907596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MS Gothic"/>
              </a:rPr>
              <a:t>СО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евышает порог отравления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использовании некачественного воздуха в дыхательных аппарат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F:\12635409589019.jpg"/>
          <p:cNvPicPr/>
          <p:nvPr/>
        </p:nvPicPr>
        <p:blipFill>
          <a:blip r:embed="rId1"/>
          <a:stretch/>
        </p:blipFill>
        <p:spPr>
          <a:xfrm>
            <a:off x="7008840" y="5345280"/>
            <a:ext cx="3071880" cy="2214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504720" y="-360360"/>
            <a:ext cx="907596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импто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60360" y="360360"/>
            <a:ext cx="882000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лёгком отравлении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являются головная боль, стук в висках, головокружение, боли в груди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79280" y="4319640"/>
            <a:ext cx="9945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отравлении средней тяже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онливость, возможен двигательный паралич при сохраненном сознании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50960" y="1079640"/>
            <a:ext cx="8609040" cy="63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440000" y="179280"/>
            <a:ext cx="85248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684360"/>
            <a:ext cx="99252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тяжёлом отравлении: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179280" y="17928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слож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84040" y="1401840"/>
            <a:ext cx="90759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  <a:ea typeface="MS Gothic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субарахноидальные кровоизлия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олиневриты -явления отека мозг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 нарушение зрения,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1"/>
          <a:stretch/>
        </p:blipFill>
        <p:spPr>
          <a:xfrm>
            <a:off x="7380360" y="5400720"/>
            <a:ext cx="2700360" cy="2160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2"/>
          <p:cNvSpPr/>
          <p:nvPr/>
        </p:nvSpPr>
        <p:spPr>
          <a:xfrm>
            <a:off x="647640" y="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ервая помощ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-4319640" y="-179280"/>
            <a:ext cx="13032000" cy="68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16000" y="1187280"/>
            <a:ext cx="900108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dc2300"/>
                </a:solidFill>
                <a:uFillTx/>
                <a:latin typeface="Arial"/>
                <a:ea typeface="MS Gothic"/>
              </a:rPr>
              <a:t>Для оказания первой помощи необходи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вызвать «скорую помощь»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MS Gothic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быстро вынести пострадавшег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дать пострадавшему подышать кислоро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на голову и грудь положить холодный компресс или пузырь со ль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MS Gothic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40:54Z</dcterms:created>
  <dc:creator/>
  <dc:description/>
  <dc:language>en-US</dc:language>
  <cp:lastModifiedBy>LEGION</cp:lastModifiedBy>
  <dcterms:modified xsi:type="dcterms:W3CDTF">2015-05-12T08:57:11Z</dcterms:modified>
  <cp:revision>18</cp:revision>
  <dc:subject/>
  <dc:title>Первая помощь при отравлении угарным газом</dc:title>
</cp:coreProperties>
</file>