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544760" y="106848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420e"/>
                </a:solidFill>
                <a:latin typeface="Tahoma"/>
                <a:ea typeface="Tahoma"/>
              </a:rPr>
              <a:t>Первая помощь при отравлении угарным 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Работы осуществлять в хорошо проветриваемых помещения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оверять открытие заслонок при использовании в домах печей и каминов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3deb3d"/>
                </a:solidFill>
                <a:latin typeface="Arial Blac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47ff"/>
                </a:solidFill>
                <a:latin typeface="Times New Roman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а ри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5000b"/>
                </a:solidFill>
                <a:uFillTx/>
                <a:latin typeface="Times New Roman"/>
              </a:rPr>
              <a:t>Отравление возмож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пожара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ение(о группе рис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ревышает порог отравления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использовании некачественного воздуха в дыхательных аппара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лёгком отравле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являются головная боль, стук в висках, головокружение, боли в груди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отравлении средней тяж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нливость, возможен двигательный паралич при сохраненном сознании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при тяжёлом отравлении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убарахноидальные кровоизлия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олиневриты -явления отека моз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нарушение зрения, слух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dc2300"/>
                </a:solidFill>
                <a:uFillTx/>
                <a:latin typeface="Arial"/>
              </a:rPr>
              <a:t>Для оказания первой помощи необходим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звать «скорую помощь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стро вынести пострадавшего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дать пострадавшему подышать кислоро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на голову и грудь положить холодный компресс или пузырь со ль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251E-7F04-4354-B579-A944BFB70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D59F-E826-4DC6-BD35-709CB3FE0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7612-0575-4907-BEEF-FA8B4FCD5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E3AD-EDBD-448C-96A0-149150141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EB52-AF00-4AC5-8ADA-CF03472AE8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778F-7C4F-494B-955E-5262E9A3A8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9234-7AE2-468F-94E4-E966887E33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1F96-5226-4CD1-AE9F-D7BB9D4779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33CB-2206-48D1-928B-90210ED165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2132-5AFA-40AF-8440-0C5DF7F497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E027-1838-4C55-ABEA-8A3E1FE180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8A07-D4A2-4D5C-B8DB-96F5E45A7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283B-8DE8-4E44-816F-A14A326E2F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2885-46FF-4E0A-8432-50FCB359A2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1EF4-9008-439D-A886-F4278F93CA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3F74-0A42-4BC9-96FF-0E036D7E9B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D12D-AD37-4CAD-938C-08CF69349D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88E-AD38-4390-B993-9E268AF123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9B4-CF7E-4A69-BB40-9C947BF3E5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8E5-A371-4331-88C3-961E46C322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9C7-CA3D-4EBC-9A3D-4DA885B2F7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14A-98A3-46F7-8767-B0BE65A98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AF0A-2E5F-4165-B535-D4A5078932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D41-10DC-4984-B6F6-B44698A16F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0C9-0F00-4345-B2E5-A95FA09394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EDA-A7EF-4FF7-A0AB-479B61A127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4BC-A3A2-4579-8EDB-C2057EA30A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05E-E818-4CE0-8FEC-3BAEBAFA40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1FD-8028-479D-8062-BA46B5D222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DFE-91EF-4E0E-880C-1DFB09D1FF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793E6-3F33-4A2C-911F-DD386460CA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5CC05-14D7-49FB-9087-1D11FF935E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20E3A-DA95-42F0-9DCC-94C8B8AA9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75FA-F436-407A-823B-DD29027730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58743-F032-4F2B-A527-8053B443C5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7E496-AB6B-4EC8-A5FB-0CAB0E5056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12B42-E062-4D48-A7C2-A5C88A3C88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95DE7-E997-4278-8D65-C8A4ED40CD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57860-8F27-4C5B-8133-5E863610A6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E4268-796A-4C93-85FE-1014DCEDCC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E58CE-433D-4F3C-9240-DD12523C08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80E33-0DD4-471C-A4A4-FC05BEE71B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24814-6ED8-410B-80A7-2B08E7BEB2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A96A-A4C5-447C-AB13-6107622A31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AF72-1CDD-402E-9308-36916A0D01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745A-39C0-4E38-9F21-BE3D314F8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8D5B-7FFF-4980-B2ED-E12B9CDA2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3C56-E6C4-4CF3-8953-2D43072B1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CA0A1-55B7-4626-B872-C77C590BD2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CFAD5-54D4-4486-B88C-D6DED93D08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C60CF-6FCC-4CEF-9323-70BC15C3F76C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314280" y="3090960"/>
            <a:ext cx="3240" cy="3344760"/>
          </a:xfrm>
          <a:custGeom>
            <a:avLst/>
            <a:gdLst>
              <a:gd name="textAreaLeft" fmla="*/ 0 w 3240"/>
              <a:gd name="textAreaRight" fmla="*/ 3600 w 32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13179-42C1-4C72-A1F7-DC943AB7929A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0" y="230040"/>
            <a:ext cx="10080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Государственное образовательное учреждение средне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Комитета по  здравоохранению Администрации Волгоград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«Медицинский колледж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04720" y="1989000"/>
            <a:ext cx="907596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6000" y="1467000"/>
            <a:ext cx="9864720" cy="45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Tahoma"/>
              </a:rPr>
              <a:t>Первая помощь при отравлении угарным газ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4824360" y="6086520"/>
          <a:ext cx="6099120" cy="107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6086520"/>
                    <a:ext cx="6099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63680" y="-720720"/>
            <a:ext cx="9075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фила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82520" y="1494000"/>
            <a:ext cx="8609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Работы осуществлять в хорошо проветриваемых помещениях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оверять открытие заслонок при использовании в домах печей и каминов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:\73241668.jpg"/>
          <p:cNvPicPr/>
          <p:nvPr/>
        </p:nvPicPr>
        <p:blipFill>
          <a:blip r:embed="rId1"/>
          <a:stretch/>
        </p:blipFill>
        <p:spPr>
          <a:xfrm>
            <a:off x="5111640" y="4208400"/>
            <a:ext cx="4969080" cy="3351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2040" y="230976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1979640" y="2340000"/>
            <a:ext cx="59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30080" y="2100240"/>
            <a:ext cx="8609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4500720"/>
            <a:ext cx="10080720" cy="305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571680" y="-184320"/>
            <a:ext cx="8608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Угарный г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950760"/>
            <a:ext cx="86090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7ff"/>
                </a:solidFill>
                <a:latin typeface="Times New Roman"/>
                <a:ea typeface="MS Gothic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-603360" y="-22068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Группа 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0" y="922320"/>
            <a:ext cx="9180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5000b"/>
                </a:solidFill>
                <a:uFillTx/>
                <a:latin typeface="Times New Roman"/>
                <a:ea typeface="MS Gothic"/>
              </a:rPr>
              <a:t>Отравление возмож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пожарах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F:\6058.jpg"/>
          <p:cNvPicPr/>
          <p:nvPr/>
        </p:nvPicPr>
        <p:blipFill>
          <a:blip r:embed="rId1"/>
          <a:stretch/>
        </p:blipFill>
        <p:spPr>
          <a:xfrm>
            <a:off x="6508800" y="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754200" y="0"/>
            <a:ext cx="86090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должение(о группе риск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82520" y="1279440"/>
            <a:ext cx="90759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евышает порог отра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использовании некачественного воздуха в дыхательных аппара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F:\12635409589019.jpg"/>
          <p:cNvPicPr/>
          <p:nvPr/>
        </p:nvPicPr>
        <p:blipFill>
          <a:blip r:embed="rId1"/>
          <a:stretch/>
        </p:blipFill>
        <p:spPr>
          <a:xfrm>
            <a:off x="7008840" y="5345280"/>
            <a:ext cx="3071880" cy="221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04720" y="-360360"/>
            <a:ext cx="90759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60360" y="360360"/>
            <a:ext cx="88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лёгком отравлени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являются головная боль, стук в висках, головокружение, боли в груди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9280" y="4319640"/>
            <a:ext cx="9945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отравлении средней тяж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онливость, возможен двигательный паралич при сохраненном сознани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50960" y="1079640"/>
            <a:ext cx="86090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440000" y="179280"/>
            <a:ext cx="85248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684360"/>
            <a:ext cx="992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тяжёлом отравлении: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79280" y="17928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лож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84040" y="1401840"/>
            <a:ext cx="90759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  <a:ea typeface="MS Gothic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субарахноидальные кровоизлия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олиневриты -явления отека моз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 нарушение зрения,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380360" y="540072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647640" y="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рвая помощ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-4319640" y="-179280"/>
            <a:ext cx="13032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6000" y="1187280"/>
            <a:ext cx="90010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dc2300"/>
                </a:solidFill>
                <a:uFillTx/>
                <a:latin typeface="Arial"/>
                <a:ea typeface="MS Gothic"/>
              </a:rPr>
              <a:t>Для оказания первой помощи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вызвать «скорую помощь»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MS Gothic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быстро вынести пострадавшег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дать пострадавшему подышать кислоро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на голову и грудь положить холодный компресс или пузырь со ль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MS Gothi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40:54Z</dcterms:created>
  <dc:creator/>
  <dc:description/>
  <dc:language>en-US</dc:language>
  <cp:lastModifiedBy>LEGION</cp:lastModifiedBy>
  <dcterms:modified xsi:type="dcterms:W3CDTF">2015-05-12T08:57:11Z</dcterms:modified>
  <cp:revision>18</cp:revision>
  <dc:subject/>
  <dc:title>Первая помощь при отравлении угарным газом</dc:title>
</cp:coreProperties>
</file>