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4.png" ContentType="image/png"/>
  <Override PartName="/ppt/media/image1.png" ContentType="image/png"/>
  <Override PartName="/ppt/media/image3.jpeg" ContentType="image/jpeg"/>
  <Override PartName="/ppt/media/image11.jpeg" ContentType="image/jpeg"/>
  <Override PartName="/ppt/media/image9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move the slid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D33AC-2A96-4A6A-A732-3853FDF0CDB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ПОСЛЕДСТВ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В первую очередь наркотики влияют на психику, </a:t>
            </a: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она приводит к духовной деградации и полному физическому истощению организм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01871-11E9-4228-A561-E1A572E2B83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8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b0f0"/>
                </a:solidFill>
                <a:latin typeface="Calibri"/>
              </a:rPr>
              <a:t>Именно школы и места массового развлечения молодежи, в первую очередь дискотеки, являются сегодня основными местами распространения наркотиков. За </a:t>
            </a:r>
            <a:r>
              <a:rPr b="1" lang="ru-RU" sz="1200" spc="-1" strike="noStrike">
                <a:solidFill>
                  <a:srgbClr val="ff3300"/>
                </a:solidFill>
                <a:latin typeface="Calibri"/>
              </a:rPr>
              <a:t>три года</a:t>
            </a: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b0f0"/>
                </a:solidFill>
                <a:latin typeface="Calibri"/>
              </a:rPr>
              <a:t>наркомания среди детей и подростков выросла </a:t>
            </a:r>
            <a:r>
              <a:rPr b="1" lang="ru-RU" sz="1200" spc="-1" strike="noStrike">
                <a:solidFill>
                  <a:srgbClr val="ff3300"/>
                </a:solidFill>
                <a:latin typeface="Calibri"/>
              </a:rPr>
              <a:t>почти в 6 раз</a:t>
            </a: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32DBF-7A94-4E56-8C8E-26C991C6CF7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Arial"/>
              </a:rPr>
              <a:t>Средняя продолжительность жизни активного наркомана составляет 3 года. Дети, рождённые от наркоманов, умирают очень быстро, доживая максимум до            4 месяцев. Наркотик губит наше будущее поколение, наших детей, а значит, и будущее всей стра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A6E55-AA42-49F8-9C2C-69EA7F2BCC2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c2403"/>
                </a:solidFill>
                <a:latin typeface="Calibri"/>
              </a:rPr>
              <a:t>ПОМНИТЕ!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 людей, принимающих наркотики, рождаются дети-уроды или нежизнеспособные дети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1996E-1CDA-4638-B2B6-1626AAB0B05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аблуждения наркоман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Это не болезнь, лечиться не от чего</a:t>
            </a:r>
            <a:r>
              <a:rPr b="0" lang="ru-RU" sz="1000" spc="-1" strike="noStrike" u="sng">
                <a:solidFill>
                  <a:srgbClr val="000000"/>
                </a:solidFill>
                <a:uFillTx/>
                <a:latin typeface="Calibri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Я могу расстаться со своей привычкой в любой моме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Я самостоятельно буду снижать дозы или уже с завтрашнего  дня сменю наркотик, чтобы не привыкнуть , на слабый, а к врачам обращаться не обязатель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Это помогает мне жить на пределе возможностей. Становлюсь умнее, раскованнее, в голову приходят блестящие идеи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087F6-7119-4226-BD54-58688EC9FA8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00" spc="-1" strike="noStrike">
                <a:solidFill>
                  <a:srgbClr val="4c2403"/>
                </a:solidFill>
                <a:latin typeface="Times New Roman"/>
                <a:ea typeface="Times New Roman"/>
              </a:rPr>
              <a:t>Закончите предложение: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Я не употребляю наркотик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тому что…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E0369-32C5-4F1C-A190-25E15A03B53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ТАБАК</a:t>
            </a:r>
            <a:r>
              <a:rPr b="1" lang="ru-RU" sz="1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-</a:t>
            </a: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ПАСНЫЙ ПУ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20AF9-C005-4539-BF36-332F78CFE3F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ТАБАЧНЫЙ ДЫ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КОТ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РИД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ИЛ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ПР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НЗОПИР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ИАКТИВНЫЙ ПОЛО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ШЬЯ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СМУ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МИА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ИНЕ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РАВЬИНАЯ КИСЛ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ИЛЬНАЯ КИСЛ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ДОВИТЫЕ ГАЗ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C5AD9-07A2-4BF8-A6FC-B2C55BE8BC6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КОГОЛИЗМ- </a:t>
            </a:r>
            <a:r>
              <a:rPr b="1" lang="ru-RU" sz="1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ЗАБОЛЕВАНИ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КОТОРОЕ ОСОЗНАЮ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НЕ СРАЗУ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И НАША ЗАДАЧА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РЕДУПРЕДИТЬ ЕГ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ОЯВ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B34CF-163A-40EB-B473-AE84400000A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верждения об алкогол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коголь богат калориями и отличается питательной ценность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лодный  душ помогает пьяному человеку быстрее протрезветь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действие алкоголя на человека зависит от его общего физического состояния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боль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малых дозах алкоголь ослабляет концентрацию и замедляет реакц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е количество алкоголя помогает человеку сосредоточить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чрезмерного употребления алкоголя можно умере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коголь переваривается организмом также, как и пища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продолжительного употребления алкоголя мозг человека уменьшает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B12BF-5C1A-4B4A-951F-E3494ABC7CB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c2403"/>
                </a:solidFill>
                <a:latin typeface="Times New Roman"/>
                <a:ea typeface="Times New Roman"/>
              </a:rPr>
              <a:t>Цель занятия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оделировать самостоятельно возможные меры предупреждения вредных привычек у подрост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c2403"/>
                </a:solidFill>
                <a:latin typeface="Times New Roman"/>
                <a:ea typeface="Times New Roman"/>
              </a:rPr>
              <a:t>Задачи занятия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ься оценивать с гражданских позиций современную ситуацию в обществ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накомить учащихся с факторами, вредящими нашему здоровь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D1A1D-0C74-46D0-ADAD-8D693A3A90C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Самый лучший день – сегодня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Самое лучшее место – там, где ты живёшь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Самый лучший отдых – труд души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Самая большая утрата – потеря надежды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Самое большое богатство – здоровье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c2403"/>
                </a:solidFill>
                <a:latin typeface="Times New Roman"/>
                <a:ea typeface="Calibri"/>
              </a:rPr>
              <a:t>                     </a:t>
            </a:r>
            <a:r>
              <a:rPr b="1" lang="ru-RU" sz="1200" spc="-1" strike="noStrike">
                <a:solidFill>
                  <a:srgbClr val="4c2403"/>
                </a:solidFill>
                <a:latin typeface="Times New Roman"/>
                <a:ea typeface="Calibri"/>
              </a:rPr>
              <a:t>Будьте здоровы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EDBCE-5592-43B5-B5B6-E29F44BDAA4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c2403"/>
                </a:solidFill>
                <a:latin typeface="Times New Roman"/>
                <a:ea typeface="Calibri"/>
              </a:rPr>
              <a:t>ВЫВОДЫ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обходима активная пропаганда проти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вредных привыче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Алкоголизм, курение, наркомания ухудшае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здоровье человека, обрекает на гибель ил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болезнь будущее поколения россия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Вредные привычки надо изгонять, а здоровы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раз жизни всем необходи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4F067-660D-4E14-8EFF-6BE84166FC2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c2403"/>
                </a:solidFill>
                <a:latin typeface="Times New Roman"/>
                <a:ea typeface="Times New Roman"/>
              </a:rPr>
              <a:t>ФАКТОРЫ, ВЛИЯЮЩИЕ НА УРОВЕНЬ ЗДОРОВ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 жизни, условия труда и проживани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ычки и поведение – 50%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нетика – 2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шняя среда, экология – 2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равоохранение – 1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246D5-2AC4-4970-A34A-DC0B8E7A51D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акто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лияющие на здоровь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начение для здоровья (удельный вес в %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руппы факторов здоров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дравоохра-н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эффективность профилактических мероприятий, низкое качество медицинской помощи, несвоевременность её оказ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BCAEA-ED3B-4515-A77F-CE1E7AD73E5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акто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лияющие на здоровь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начение для здоровья (удельный вес в %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руппы факторов здоров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шняя среда, эколог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грязнение воздуха, воды, почвы, резкая смена атмосферных явл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02791-F12F-4638-B9DD-30E005DA151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акто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лияющие на здоровь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начение для здоровья (удельный вес в %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руппы факторов здоров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нетика, биология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расположенность к наследственным болезня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D226C-9323-44C6-A376-76ECE7521BE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акто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лияющие на здоровь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начение для здоровья (удельный вес в %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руппы факторов здоров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з жизни, привычки и повед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рение, употребление алкоголя, несбалансированное,  неправильное питание, стрессовые ситуации, плохие материально-бытовые условия, употребление наркотиков, злоупотребление лекарствами, низкий образовательный и культурный уровен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936A6-38B5-4B9F-973C-FA5A26A97DE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РКОМ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АЯ СМЕР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21C9A-1987-4C47-94D7-0EE9E0D3205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РКОМ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 НАШЕЙ ДУШ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C07F2-229E-4694-A796-BD21E076056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0A23-C843-4016-883A-C1769B99B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9AD7-23DD-4C67-82AD-0CD4082C3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EBF7-A938-4B30-B970-1472E4C4A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6FB2-CFBE-4BD5-8AC8-0A3457C1E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85C5D-F616-4D9C-8CDA-E84F7EB82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EB896-6086-481F-A678-546DD655D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85BE4-3220-4927-96C8-89CAAE6C2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6E0E7-C509-46E0-AFC2-ECC4BACCD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4ED51-016B-46F3-BB24-7FBDD1999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26B5A-B5AE-41AD-97B8-5F0A23356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0B57A-73AF-4557-80EC-60A0C46AD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66B1-EF7D-4EB9-8047-C2CF8E25E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0A3E2-0A12-434D-9448-68DA8AD44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A21D3-3F1B-4CC4-97FD-E39269F50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86FD0-A166-412D-9B96-C4E0188A1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E942C-4AA5-4C4F-99FD-677F80684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0B8DD-E1A5-44AF-9E60-BB8118096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59AF8C-0D95-4371-BDD5-3D34AA148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CDB194-EB0B-4055-A900-A7B39C18C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E8C33A-12AC-4A70-97FD-74F3A89BA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484FB9-9C4A-4CB1-B0BF-E734D861D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373CD1-0A1A-433D-9DB4-62AE01462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2F80-A11B-4647-A4AF-707558A29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6BC1EA-0125-4ED9-A80F-46282275A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4E279B-6320-4B12-A073-73469EDFB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F1DC40-62AA-4F64-8E49-56D750359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3697A9-DD71-45B9-94E9-7D2761140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403C15-571A-4986-BCBD-0C39428C1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D4CE7F-D775-4D05-AED9-67550B084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823C45-00B1-4BDC-91F5-6E51B4795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92629B-5E5A-4989-BBBF-C6BEF5266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29D833-FEBA-447D-8D18-3EEDA6808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E9711D-E56B-4DF6-A9AF-1F4584217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1FC6-9B22-416D-ADA1-12941F7DB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BEF3B7-9F58-4AC1-AFEA-65F764760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FFFC2E-4281-439A-87A4-12AB894D9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CF8098-36A0-4C53-9D7D-007104E8F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343F2B-74E7-45C2-9D44-9D3CBF20E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3A681F-0A4B-48E1-9596-70EE341CD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2B1D0C-027B-4650-90C8-0247D7587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4CBDCE-6D03-4079-B994-3A4956948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BD0E07-7088-4900-9247-87A8B0A4F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13B347-020A-43C9-A1DB-A0F60191D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2CC37D-4E6A-43A9-A8FF-4276D5835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7A8B-612F-470D-9BB7-2699FFD66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AB8B8C-4797-4512-9B2E-736130EFE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C9D8CC-4B87-438A-9EFB-AC1EBD857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DACB40-21C3-4A28-98E4-2ABD4A100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D4856D-EA02-41E9-8D2F-9F2662DE4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D2CFF0-9BDF-491F-92B7-A399104EA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223B8F-E160-4186-A4A0-0B0176CD3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E01D33-72A5-4965-BD41-2EA18D6AA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D5770B-47F0-42E8-8DA9-F07F5E493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5B0CC4-1FA3-41BD-A32C-23E89D1B1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356B3F-E2DD-4A32-B3F1-50746A44E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E283-BD79-4B71-BDCE-CAB218110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E1407E-6276-40ED-8531-C8976196B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B6162BF-CCB0-4AA0-B283-DEFFEF957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0B89ED3-CDA7-4CDA-B14C-357B2199F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CA382D-F77A-4701-A3B6-EE3F900CD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1AABF8B-2578-417D-9B4E-F7F35AD03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2F1CFE-F963-45F1-A8FE-EC9F7A3FB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2B23C9C-2390-4677-87B7-FFB6F4FE8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5423245-9BF1-4329-A352-606C6B6BB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51AC6B5-5908-474E-A6AE-6BD7FDEE1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CDECC0A-D435-43EE-BDBF-635402460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5473-97D7-4412-A772-59C78370D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400E999-620A-4542-9BD7-A87CA93F3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CFBEEAF-4411-4B7E-A9D0-F175B0305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E95FFC3-E26B-4C9B-8916-82BAEBE71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ECFD-CAC5-4022-B648-B1B29F53E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3DE4-0664-4C3E-93DC-3C678BD89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a8cd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676a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eaebde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b0ccb0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b0ccb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eaebd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87D48-F5A9-48FC-ACF6-78993E7A5DB3}" type="datetime">
              <a:rPr b="0" lang="ru-RU" sz="1100" spc="-1" strike="noStrike">
                <a:solidFill>
                  <a:srgbClr val="eaebde"/>
                </a:solidFill>
                <a:latin typeface="Arial"/>
              </a:rPr>
              <a:t>29.07.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eaebd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eaebde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bd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F7C6E-E755-4C69-9153-AAB2E7AEF378}" type="slidenum">
              <a:rPr b="0" lang="ru-RU" sz="1200" spc="-1" strike="noStrike">
                <a:solidFill>
                  <a:srgbClr val="eaebd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a8cd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676a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Прямоугольник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Прямоугольник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Прямоугольник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Прямоугольник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Прямоугольник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Прямоугольник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Прямоугольник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a8cd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Прямоугольник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676a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Прямоугольник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eaebde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b0ccb0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b0ccb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eaebd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C1275-6A76-485F-AF50-2F4BC19DCFA7}" type="datetime">
              <a:rPr b="0" lang="ru-RU" sz="1100" spc="-1" strike="noStrike">
                <a:solidFill>
                  <a:srgbClr val="eaebde"/>
                </a:solidFill>
                <a:latin typeface="Arial"/>
              </a:rPr>
              <a:t>29.07.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eaebd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eaebde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bd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A37E2-EFE7-444D-856F-457C75B7555E}" type="slidenum">
              <a:rPr b="0" lang="ru-RU" sz="1200" spc="-1" strike="noStrike">
                <a:solidFill>
                  <a:srgbClr val="eaebd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a8cd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676a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Полилиния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0" y="3648"/>
                </a:lnTo>
                <a:close/>
              </a:path>
            </a:pathLst>
          </a:custGeom>
          <a:noFill/>
          <a:ln w="3240">
            <a:solidFill>
              <a:srgbClr val="b0ccb0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Полилиния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b0ccb0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Полилиния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7a7e61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Полилиния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7b805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Полилиния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7b805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Полилиния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7b805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Полилиния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7b805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Полилиния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7b805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Полилиния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7b805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Полилиния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7b805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олилиния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7b805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Полилиния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7b805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Полилиния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7b805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Полилиния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7b805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Полилиния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7a7e61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Прямоугольник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7a7e6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Прямоугольник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Прямоугольник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оугольник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Прямоугольник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Прямоугольник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eaebde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b0ccb0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b0ccb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eaebd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9C230-DBB6-4D7F-B38D-24456F586754}" type="datetime">
              <a:rPr b="0" lang="ru-RU" sz="1100" spc="-1" strike="noStrike">
                <a:solidFill>
                  <a:srgbClr val="eaebde"/>
                </a:solidFill>
                <a:latin typeface="Arial"/>
              </a:rPr>
              <a:t>29.07.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eaebd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eaebde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bd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FD786-2D21-400C-AF27-F832057D8B8B}" type="slidenum">
              <a:rPr b="0" lang="ru-RU" sz="1200" spc="-1" strike="noStrike">
                <a:solidFill>
                  <a:srgbClr val="eaebd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a8cd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676a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Прямоугольник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7a7e6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Прямоугольник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676a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Прямоугольник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676a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Прямоугольник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676a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Прямоугольник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676a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Прямоугольник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676a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Прямоугольник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676a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Прямоугольник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676a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Прямоугольник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676a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Прямоугольник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676a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eaebde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b0ccb0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b0ccb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eaebd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D01D8-725D-46B9-B9F2-05D01D2D1912}" type="datetime">
              <a:rPr b="0" lang="ru-RU" sz="1100" spc="-1" strike="noStrike">
                <a:solidFill>
                  <a:srgbClr val="eaebde"/>
                </a:solidFill>
                <a:latin typeface="Arial"/>
              </a:rPr>
              <a:t>29.07.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eaebd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eaebde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bd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DEC7E-F65E-4307-8F7D-BE77C234C2E0}" type="slidenum">
              <a:rPr b="0" lang="ru-RU" sz="1200" spc="-1" strike="noStrike">
                <a:solidFill>
                  <a:srgbClr val="eaebd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a8cd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676a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Прямоугольник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Прямая соединительная линия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1" name="Группа 19"/>
          <p:cNvGrpSpPr/>
          <p:nvPr/>
        </p:nvGrpSpPr>
        <p:grpSpPr>
          <a:xfrm>
            <a:off x="8516520" y="1217520"/>
            <a:ext cx="128880" cy="131400"/>
            <a:chOff x="8516520" y="1217520"/>
            <a:chExt cx="128880" cy="131400"/>
          </a:xfrm>
        </p:grpSpPr>
        <p:sp>
          <p:nvSpPr>
            <p:cNvPr id="252" name="Прямая соединительная линия 20"/>
            <p:cNvSpPr/>
            <p:nvPr/>
          </p:nvSpPr>
          <p:spPr>
            <a:xfrm>
              <a:off x="8578080" y="1217520"/>
              <a:ext cx="6732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Прямая соединительная линия 23"/>
            <p:cNvSpPr/>
            <p:nvPr/>
          </p:nvSpPr>
          <p:spPr>
            <a:xfrm>
              <a:off x="8516520" y="1282680"/>
              <a:ext cx="9504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Прямая соединительная линия 24"/>
            <p:cNvSpPr/>
            <p:nvPr/>
          </p:nvSpPr>
          <p:spPr>
            <a:xfrm flipV="1">
              <a:off x="8578080" y="1282320"/>
              <a:ext cx="6732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5" name="Группа 25"/>
          <p:cNvGrpSpPr/>
          <p:nvPr/>
        </p:nvGrpSpPr>
        <p:grpSpPr>
          <a:xfrm>
            <a:off x="8669520" y="1370160"/>
            <a:ext cx="128880" cy="131400"/>
            <a:chOff x="8669520" y="1370160"/>
            <a:chExt cx="128880" cy="131400"/>
          </a:xfrm>
        </p:grpSpPr>
        <p:sp>
          <p:nvSpPr>
            <p:cNvPr id="256" name="Прямая соединительная линия 26"/>
            <p:cNvSpPr/>
            <p:nvPr/>
          </p:nvSpPr>
          <p:spPr>
            <a:xfrm>
              <a:off x="8731080" y="1370160"/>
              <a:ext cx="6732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Прямая соединительная линия 27"/>
            <p:cNvSpPr/>
            <p:nvPr/>
          </p:nvSpPr>
          <p:spPr>
            <a:xfrm>
              <a:off x="8669520" y="1435320"/>
              <a:ext cx="9540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Прямая соединительная линия 28"/>
            <p:cNvSpPr/>
            <p:nvPr/>
          </p:nvSpPr>
          <p:spPr>
            <a:xfrm flipV="1">
              <a:off x="8731080" y="1434960"/>
              <a:ext cx="6732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9" name="Группа 29"/>
          <p:cNvGrpSpPr/>
          <p:nvPr/>
        </p:nvGrpSpPr>
        <p:grpSpPr>
          <a:xfrm>
            <a:off x="8321400" y="1473120"/>
            <a:ext cx="128880" cy="131400"/>
            <a:chOff x="8321400" y="1473120"/>
            <a:chExt cx="128880" cy="131400"/>
          </a:xfrm>
        </p:grpSpPr>
        <p:sp>
          <p:nvSpPr>
            <p:cNvPr id="260" name="Прямая соединительная линия 30"/>
            <p:cNvSpPr/>
            <p:nvPr/>
          </p:nvSpPr>
          <p:spPr>
            <a:xfrm>
              <a:off x="8382960" y="1473120"/>
              <a:ext cx="6732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Прямая соединительная линия 31"/>
            <p:cNvSpPr/>
            <p:nvPr/>
          </p:nvSpPr>
          <p:spPr>
            <a:xfrm>
              <a:off x="8321400" y="1538280"/>
              <a:ext cx="9504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Прямая соединительная линия 32"/>
            <p:cNvSpPr/>
            <p:nvPr/>
          </p:nvSpPr>
          <p:spPr>
            <a:xfrm flipV="1">
              <a:off x="8382960" y="1537920"/>
              <a:ext cx="6732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eaebde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b0ccb0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b0ccb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3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eaebd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5DAC7-EB6C-47FF-8DBB-9AAF0F4FDE46}" type="datetime">
              <a:rPr b="0" lang="ru-RU" sz="1100" spc="-1" strike="noStrike">
                <a:solidFill>
                  <a:srgbClr val="eaebde"/>
                </a:solidFill>
                <a:latin typeface="Arial"/>
              </a:rPr>
              <a:t>29.07.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4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eaebd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eaebde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5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bd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1A5D1-24D1-4EA4-9EFC-9B52291FAE5B}" type="slidenum">
              <a:rPr b="0" lang="ru-RU" sz="1200" spc="-1" strike="noStrike">
                <a:solidFill>
                  <a:srgbClr val="eaebd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a8cd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676a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eaebde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b0ccb0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b0ccb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dt" idx="16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eaebd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6D2BB-57C5-4C37-A32D-A3B5E1688E5A}" type="datetime">
              <a:rPr b="0" lang="ru-RU" sz="1100" spc="-1" strike="noStrike">
                <a:solidFill>
                  <a:srgbClr val="eaebde"/>
                </a:solidFill>
                <a:latin typeface="Arial"/>
              </a:rPr>
              <a:t>29.07.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bd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0CFB9-C34F-4F3A-8B7F-0742A7D631C6}" type="slidenum">
              <a:rPr b="0" lang="ru-RU" sz="1200" spc="-1" strike="noStrike">
                <a:solidFill>
                  <a:srgbClr val="eaebd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 type="ftr" idx="1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eaebd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eaebde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6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5" descr=""/>
          <p:cNvPicPr/>
          <p:nvPr/>
        </p:nvPicPr>
        <p:blipFill>
          <a:blip r:embed="rId1"/>
          <a:stretch/>
        </p:blipFill>
        <p:spPr>
          <a:xfrm>
            <a:off x="-49320" y="0"/>
            <a:ext cx="9193320" cy="6875640"/>
          </a:xfrm>
          <a:prstGeom prst="rect">
            <a:avLst/>
          </a:prstGeom>
          <a:ln w="0">
            <a:noFill/>
          </a:ln>
        </p:spPr>
      </p:pic>
      <p:sp>
        <p:nvSpPr>
          <p:cNvPr id="362" name="Місце для нижнього колонтитула 1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eaebde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4546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rbel"/>
              </a:rPr>
              <a:t>         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89" name="Picture 14" descr="i5"/>
          <p:cNvPicPr/>
          <p:nvPr/>
        </p:nvPicPr>
        <p:blipFill>
          <a:blip r:embed="rId1"/>
          <a:stretch/>
        </p:blipFill>
        <p:spPr>
          <a:xfrm>
            <a:off x="3492360" y="1341360"/>
            <a:ext cx="1800360" cy="1440000"/>
          </a:xfrm>
          <a:prstGeom prst="rect">
            <a:avLst/>
          </a:prstGeom>
          <a:ln w="0">
            <a:noFill/>
          </a:ln>
        </p:spPr>
      </p:pic>
      <p:sp>
        <p:nvSpPr>
          <p:cNvPr id="390" name="WordArt 4"/>
          <p:cNvSpPr txBox="1"/>
          <p:nvPr/>
        </p:nvSpPr>
        <p:spPr>
          <a:xfrm>
            <a:off x="1979640" y="333360"/>
            <a:ext cx="53290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db5353"/>
                  </a:solidFill>
                  <a:miter/>
                </a:ln>
                <a:gradFill rotWithShape="0">
                  <a:gsLst>
                    <a:gs pos="0">
                      <a:srgbClr val="db5353"/>
                    </a:gs>
                    <a:gs pos="100000">
                      <a:srgbClr val="996633"/>
                    </a:gs>
                  </a:gsLst>
                  <a:lin ang="5400000"/>
                </a:gradFill>
                <a:latin typeface="Arial"/>
              </a:rPr>
              <a:t>ПОСЛЕДСТВИЯ</a:t>
            </a:r>
            <a:endParaRPr b="1" lang="en-US" sz="2000" spc="1" strike="noStrike">
              <a:ln w="9360">
                <a:solidFill>
                  <a:srgbClr val="db5353"/>
                </a:solidFill>
                <a:miter/>
              </a:ln>
              <a:gradFill rotWithShape="0">
                <a:gsLst>
                  <a:gs pos="0">
                    <a:srgbClr val="db5353"/>
                  </a:gs>
                  <a:gs pos="100000">
                    <a:srgbClr val="996633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391" name="Rectangle 19"/>
          <p:cNvSpPr/>
          <p:nvPr/>
        </p:nvSpPr>
        <p:spPr>
          <a:xfrm>
            <a:off x="539640" y="4869000"/>
            <a:ext cx="8280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03638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903638"/>
                </a:solidFill>
                <a:latin typeface="Arial"/>
              </a:rPr>
              <a:t>В первую очередь наркотики влияют на психику, </a:t>
            </a:r>
            <a:r>
              <a:rPr b="1" lang="ru-RU" sz="2800" spc="-1" strike="noStrike">
                <a:solidFill>
                  <a:srgbClr val="903638"/>
                </a:solidFill>
                <a:latin typeface="Arial"/>
              </a:rPr>
              <a:t>она приводит к духовной деградации и полному физическому истощению организм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Rectangle 20"/>
          <p:cNvSpPr/>
          <p:nvPr/>
        </p:nvSpPr>
        <p:spPr>
          <a:xfrm>
            <a:off x="4500720" y="2637000"/>
            <a:ext cx="450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Rectangle 21"/>
          <p:cNvSpPr/>
          <p:nvPr/>
        </p:nvSpPr>
        <p:spPr>
          <a:xfrm>
            <a:off x="3995640" y="4653000"/>
            <a:ext cx="42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03638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4" name="Picture 22" descr="21"/>
          <p:cNvPicPr/>
          <p:nvPr/>
        </p:nvPicPr>
        <p:blipFill>
          <a:blip r:embed="rId2"/>
          <a:stretch/>
        </p:blipFill>
        <p:spPr>
          <a:xfrm>
            <a:off x="3564000" y="2997360"/>
            <a:ext cx="1800000" cy="152712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25" descr="16"/>
          <p:cNvPicPr/>
          <p:nvPr/>
        </p:nvPicPr>
        <p:blipFill>
          <a:blip r:embed="rId3"/>
          <a:stretch/>
        </p:blipFill>
        <p:spPr>
          <a:xfrm>
            <a:off x="1332000" y="1341360"/>
            <a:ext cx="1636560" cy="324000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27" descr="19"/>
          <p:cNvPicPr/>
          <p:nvPr/>
        </p:nvPicPr>
        <p:blipFill>
          <a:blip r:embed="rId4"/>
          <a:stretch/>
        </p:blipFill>
        <p:spPr>
          <a:xfrm>
            <a:off x="5891040" y="1341360"/>
            <a:ext cx="2171880" cy="3240000"/>
          </a:xfrm>
          <a:prstGeom prst="rect">
            <a:avLst/>
          </a:prstGeom>
          <a:ln w="0">
            <a:noFill/>
          </a:ln>
        </p:spPr>
      </p:pic>
      <p:sp>
        <p:nvSpPr>
          <p:cNvPr id="397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eaebde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0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3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7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9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1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3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3" presetSubtype="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8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10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2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Text Box 4"/>
          <p:cNvSpPr/>
          <p:nvPr/>
        </p:nvSpPr>
        <p:spPr>
          <a:xfrm>
            <a:off x="250920" y="4365720"/>
            <a:ext cx="860400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03638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b0f0"/>
                </a:solidFill>
                <a:latin typeface="Arial"/>
              </a:rPr>
              <a:t>Именно школы и места массового развлечения молодежи, в первую очередь дискотеки, являются сегодня основными местами распространения наркотиков. За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три года</a:t>
            </a:r>
            <a:r>
              <a:rPr b="1" lang="ru-RU" sz="2400" spc="-1" strike="noStrike">
                <a:solidFill>
                  <a:srgbClr val="903638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b0f0"/>
                </a:solidFill>
                <a:latin typeface="Arial"/>
              </a:rPr>
              <a:t>наркомания среди детей и подростков выросла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почти в 6 раз</a:t>
            </a:r>
            <a:r>
              <a:rPr b="1" lang="ru-RU" sz="2400" spc="-1" strike="noStrike">
                <a:solidFill>
                  <a:srgbClr val="903638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9" name="Picture 5" descr="120040713204739_1-narkotiki[1]"/>
          <p:cNvPicPr/>
          <p:nvPr/>
        </p:nvPicPr>
        <p:blipFill>
          <a:blip r:embed="rId1"/>
          <a:stretch/>
        </p:blipFill>
        <p:spPr>
          <a:xfrm>
            <a:off x="2124000" y="260280"/>
            <a:ext cx="5184720" cy="3889440"/>
          </a:xfrm>
          <a:prstGeom prst="rect">
            <a:avLst/>
          </a:prstGeom>
          <a:ln w="0">
            <a:noFill/>
          </a:ln>
        </p:spPr>
      </p:pic>
      <p:sp>
        <p:nvSpPr>
          <p:cNvPr id="400" name="Місце для нижнього колонтитула 1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eaebde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9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Picture 4" descr="23"/>
          <p:cNvPicPr/>
          <p:nvPr/>
        </p:nvPicPr>
        <p:blipFill>
          <a:blip r:embed="rId1"/>
          <a:stretch/>
        </p:blipFill>
        <p:spPr>
          <a:xfrm>
            <a:off x="0" y="0"/>
            <a:ext cx="5337000" cy="685800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6"/>
          <p:cNvSpPr/>
          <p:nvPr/>
        </p:nvSpPr>
        <p:spPr>
          <a:xfrm>
            <a:off x="5508720" y="476280"/>
            <a:ext cx="33130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03638"/>
                </a:solidFill>
                <a:latin typeface="Arial"/>
              </a:rPr>
              <a:t>Средняя продолжительность жизни активного наркомана составляет 3 года. Дети, рождённые от наркоманов, умирают очень быстро, доживая максимум до            4 месяцев. Наркотик губит наше будущее поколение, наших детей, а значит, и будущее всей стран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Місце для нижнього колонтитула 1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eaebde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35" dur="3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Picture 2" descr="удод2"/>
          <p:cNvPicPr/>
          <p:nvPr/>
        </p:nvPicPr>
        <p:blipFill>
          <a:blip r:embed="rId1"/>
          <a:stretch/>
        </p:blipFill>
        <p:spPr>
          <a:xfrm>
            <a:off x="4572000" y="3549600"/>
            <a:ext cx="4032360" cy="268776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3" descr="урод1"/>
          <p:cNvPicPr/>
          <p:nvPr/>
        </p:nvPicPr>
        <p:blipFill>
          <a:blip r:embed="rId2"/>
          <a:stretch/>
        </p:blipFill>
        <p:spPr>
          <a:xfrm>
            <a:off x="395280" y="981000"/>
            <a:ext cx="3343320" cy="5112000"/>
          </a:xfrm>
          <a:prstGeom prst="rect">
            <a:avLst/>
          </a:prstGeom>
          <a:ln w="0">
            <a:noFill/>
          </a:ln>
        </p:spPr>
      </p:pic>
      <p:sp>
        <p:nvSpPr>
          <p:cNvPr id="406" name="Text Box 4"/>
          <p:cNvSpPr/>
          <p:nvPr/>
        </p:nvSpPr>
        <p:spPr>
          <a:xfrm>
            <a:off x="4067280" y="404640"/>
            <a:ext cx="4535280" cy="29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1919"/>
                </a:solidFill>
                <a:latin typeface="Arial"/>
              </a:rPr>
              <a:t>ПОМНИТЕ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У людей, принимающих наркотики, рождаются дети-уроды или нежизнеспособные дети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Місце для нижнього колонтитула 1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eaebde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0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2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8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46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51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extBox 1"/>
          <p:cNvSpPr/>
          <p:nvPr/>
        </p:nvSpPr>
        <p:spPr>
          <a:xfrm>
            <a:off x="870840" y="714240"/>
            <a:ext cx="48776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Заблуждения наркома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Это не болезнь, лечиться не от чего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Calibri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TextBox 2"/>
          <p:cNvSpPr/>
          <p:nvPr/>
        </p:nvSpPr>
        <p:spPr>
          <a:xfrm>
            <a:off x="865800" y="1500120"/>
            <a:ext cx="74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Я могу расстаться со своей привычкой в любой момен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Прямоугольник 3"/>
          <p:cNvSpPr/>
          <p:nvPr/>
        </p:nvSpPr>
        <p:spPr>
          <a:xfrm>
            <a:off x="928800" y="2428920"/>
            <a:ext cx="7429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Calibri"/>
              </a:rPr>
              <a:t>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Я самостоятельно буду снижать дозы или уже с завтрашнего  дня сменю наркотик, чтобы не привыкнуть , на слабый, а к врачам обращаться не обязательн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Прямоугольник 4"/>
          <p:cNvSpPr/>
          <p:nvPr/>
        </p:nvSpPr>
        <p:spPr>
          <a:xfrm>
            <a:off x="928800" y="4357800"/>
            <a:ext cx="721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Это помогает мне жить на пределе возможностей. Становлюсь умнее, раскованнее, в голову приходят блестящие идеи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Місце для нижнього колонтитула 1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eaebde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Прямоугольник 1"/>
          <p:cNvSpPr/>
          <p:nvPr/>
        </p:nvSpPr>
        <p:spPr>
          <a:xfrm>
            <a:off x="214200" y="1357200"/>
            <a:ext cx="84297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4f1919"/>
                </a:solidFill>
                <a:latin typeface="Times New Roman"/>
                <a:ea typeface="Times New Roman"/>
              </a:rPr>
              <a:t>Закончите предложение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Я не употребляю наркотики,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потому что….</a:t>
            </a:r>
            <a:r>
              <a:rPr b="0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Місце для нижнього колонтитула 1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eaebde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TextBox 1"/>
          <p:cNvSpPr/>
          <p:nvPr/>
        </p:nvSpPr>
        <p:spPr>
          <a:xfrm>
            <a:off x="642960" y="500040"/>
            <a:ext cx="77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АБАК</a:t>
            </a:r>
            <a:r>
              <a:rPr b="1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-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ПАСНЫЙ ПУТ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6" name="Рисунок 2" descr=""/>
          <p:cNvPicPr/>
          <p:nvPr/>
        </p:nvPicPr>
        <p:blipFill>
          <a:blip r:embed="rId1"/>
          <a:stretch/>
        </p:blipFill>
        <p:spPr>
          <a:xfrm>
            <a:off x="1428840" y="1652760"/>
            <a:ext cx="5940360" cy="5205240"/>
          </a:xfrm>
          <a:prstGeom prst="rect">
            <a:avLst/>
          </a:prstGeom>
          <a:ln w="0">
            <a:noFill/>
          </a:ln>
        </p:spPr>
      </p:pic>
      <p:sp>
        <p:nvSpPr>
          <p:cNvPr id="417" name="Місце для нижнього колонтитула 3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eaebde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0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TextBox 1"/>
          <p:cNvSpPr/>
          <p:nvPr/>
        </p:nvSpPr>
        <p:spPr>
          <a:xfrm>
            <a:off x="2428920" y="1071720"/>
            <a:ext cx="46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ТАБАЧНЫЙ ДЫМ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TextBox 2"/>
          <p:cNvSpPr/>
          <p:nvPr/>
        </p:nvSpPr>
        <p:spPr>
          <a:xfrm>
            <a:off x="2641320" y="1857240"/>
            <a:ext cx="38091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ИКОТИ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ИРИДИ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ТИЛЕ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ОПРЕ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ЕНЗОПИРЕ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ДИАКТИВНЫЙ ПОЛОН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ЫШЬЯ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СМУ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ММИА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ВИНЕ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УРАВЬИНАЯ КИСЛО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ИНИЛЬНАЯ КИСЛО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ЯДОВИТЫЕ ГАЗ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Т.Д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Місце для нижнього колонтитула 1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eaebde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TextBox 1"/>
          <p:cNvSpPr/>
          <p:nvPr/>
        </p:nvSpPr>
        <p:spPr>
          <a:xfrm>
            <a:off x="-357120" y="1500120"/>
            <a:ext cx="642924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ЛКОГОЛИЗМ- </a:t>
            </a:r>
            <a:r>
              <a:rPr b="1" lang="ru-RU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ЗАБОЛЕВАНИЕ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КОТОРОЕ ОСОЗНАЮТ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НЕ СРАЗУ,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И НАША ЗАДАЧА-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РЕДУПРЕДИТЬ ЕГО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ОЯВЛЕН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2" name="Picture 4" descr="3"/>
          <p:cNvPicPr/>
          <p:nvPr/>
        </p:nvPicPr>
        <p:blipFill>
          <a:blip r:embed="rId1"/>
          <a:stretch/>
        </p:blipFill>
        <p:spPr>
          <a:xfrm>
            <a:off x="5894280" y="0"/>
            <a:ext cx="3249720" cy="4713120"/>
          </a:xfrm>
          <a:prstGeom prst="rect">
            <a:avLst/>
          </a:prstGeom>
          <a:ln w="0">
            <a:noFill/>
          </a:ln>
        </p:spPr>
      </p:pic>
      <p:sp>
        <p:nvSpPr>
          <p:cNvPr id="423" name="Місце для нижнього колонтитула 1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eaebde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0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TextBox 1"/>
          <p:cNvSpPr/>
          <p:nvPr/>
        </p:nvSpPr>
        <p:spPr>
          <a:xfrm>
            <a:off x="214200" y="785880"/>
            <a:ext cx="739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тверждения об алкогол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лкоголь богат калориями и отличается питательной ценностью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TextBox 2"/>
          <p:cNvSpPr/>
          <p:nvPr/>
        </p:nvSpPr>
        <p:spPr>
          <a:xfrm>
            <a:off x="214200" y="1428840"/>
            <a:ext cx="7383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олодный  душ помогает пьяному человеку быстрее протрезветь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TextBox 3"/>
          <p:cNvSpPr/>
          <p:nvPr/>
        </p:nvSpPr>
        <p:spPr>
          <a:xfrm>
            <a:off x="81720" y="2000160"/>
            <a:ext cx="9051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здействие алкоголя на человека зависит от его общего физического состояни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TextBox 4"/>
          <p:cNvSpPr/>
          <p:nvPr/>
        </p:nvSpPr>
        <p:spPr>
          <a:xfrm>
            <a:off x="214200" y="3214800"/>
            <a:ext cx="8196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малых дозах алкоголь ослабляет концентрацию и замедляет реакцию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TextBox 5"/>
          <p:cNvSpPr/>
          <p:nvPr/>
        </p:nvSpPr>
        <p:spPr>
          <a:xfrm>
            <a:off x="0" y="2643120"/>
            <a:ext cx="8007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большое количество алкоголя помогает человеку сосредоточитьс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TextBox 6"/>
          <p:cNvSpPr/>
          <p:nvPr/>
        </p:nvSpPr>
        <p:spPr>
          <a:xfrm>
            <a:off x="214200" y="3857760"/>
            <a:ext cx="6494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 чрезмерного употребления алкоголя можно умере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TextBox 7"/>
          <p:cNvSpPr/>
          <p:nvPr/>
        </p:nvSpPr>
        <p:spPr>
          <a:xfrm>
            <a:off x="214200" y="4572000"/>
            <a:ext cx="6502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лкоголь переваривается организмом также, как и пищ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TextBox 8"/>
          <p:cNvSpPr/>
          <p:nvPr/>
        </p:nvSpPr>
        <p:spPr>
          <a:xfrm>
            <a:off x="214200" y="5286240"/>
            <a:ext cx="8410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 продолжительного употребления алкоголя мозг человека уменьшаетс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Місце для нижнього колонтитула 9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eaebde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TextBox 1"/>
          <p:cNvSpPr/>
          <p:nvPr/>
        </p:nvSpPr>
        <p:spPr>
          <a:xfrm>
            <a:off x="571680" y="500040"/>
            <a:ext cx="7786440" cy="548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f1919"/>
                </a:solidFill>
                <a:latin typeface="Times New Roman"/>
                <a:ea typeface="Times New Roman"/>
              </a:rPr>
              <a:t>Цель занятия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моделировать самостоятельно возможные меры предупреждения вредных привычек у подростк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f1919"/>
                </a:solidFill>
                <a:latin typeface="Times New Roman"/>
                <a:ea typeface="Times New Roman"/>
              </a:rPr>
              <a:t>Задачи занятия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иться оценивать с гражданских позиций современную ситуацию в обществ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знакомить учащихся с факторами, вредящими нашему здоровью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Місце для нижнього колонтитула 1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eaebde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1"/>
          <p:cNvSpPr/>
          <p:nvPr/>
        </p:nvSpPr>
        <p:spPr>
          <a:xfrm>
            <a:off x="500040" y="140040"/>
            <a:ext cx="81439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Самый лучший день – сегодня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Самое лучшее место – там, где ты живёшь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Самый лучший отдых – труд души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Самая большая утрата – потеря надежды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Самое большое богатство – здоровье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1919"/>
                </a:solidFill>
                <a:latin typeface="Times New Roman"/>
                <a:ea typeface="Calibri"/>
              </a:rPr>
              <a:t>                     </a:t>
            </a:r>
            <a:r>
              <a:rPr b="1" lang="ru-RU" sz="3200" spc="-1" strike="noStrike">
                <a:solidFill>
                  <a:srgbClr val="4f1919"/>
                </a:solidFill>
                <a:latin typeface="Times New Roman"/>
                <a:ea typeface="Calibri"/>
              </a:rPr>
              <a:t>Будьте здоровы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Місце для нижнього колонтитула 1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eaebde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4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4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4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4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4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4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4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4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1"/>
          <p:cNvSpPr/>
          <p:nvPr/>
        </p:nvSpPr>
        <p:spPr>
          <a:xfrm>
            <a:off x="235080" y="597960"/>
            <a:ext cx="87577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1919"/>
                </a:solidFill>
                <a:latin typeface="Times New Roman"/>
                <a:ea typeface="Calibri"/>
              </a:rPr>
              <a:t>ВЫВОДЫ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Необходима активная пропаганда против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вредных привычек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Алкоголизм, курение, наркомания ухудшае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здоровье человека, обрекает на гибель ил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болезнь будущее поколения россиян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Вредные привычки надо изгонять, а здоровый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образ жизни всем необходи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Місце для нижнього колонтитула 1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eaebde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TextBox 3"/>
          <p:cNvSpPr/>
          <p:nvPr/>
        </p:nvSpPr>
        <p:spPr>
          <a:xfrm>
            <a:off x="785880" y="571680"/>
            <a:ext cx="7715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f1919"/>
                </a:solidFill>
                <a:latin typeface="Times New Roman"/>
                <a:ea typeface="Times New Roman"/>
              </a:rPr>
              <a:t>МЫ ВЫБИРАЕМ ЖИЗНЬ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8" name="Рисунок 6" descr=""/>
          <p:cNvPicPr/>
          <p:nvPr/>
        </p:nvPicPr>
        <p:blipFill>
          <a:blip r:embed="rId1"/>
          <a:stretch/>
        </p:blipFill>
        <p:spPr>
          <a:xfrm>
            <a:off x="2071800" y="2000160"/>
            <a:ext cx="4786200" cy="4572000"/>
          </a:xfrm>
          <a:prstGeom prst="rect">
            <a:avLst/>
          </a:prstGeom>
          <a:ln w="0">
            <a:noFill/>
          </a:ln>
        </p:spPr>
      </p:pic>
      <p:sp>
        <p:nvSpPr>
          <p:cNvPr id="439" name="Місце для нижнього колонтитула 1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eaebde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0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TextBox 1"/>
          <p:cNvSpPr/>
          <p:nvPr/>
        </p:nvSpPr>
        <p:spPr>
          <a:xfrm>
            <a:off x="500040" y="357120"/>
            <a:ext cx="7858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f1919"/>
                </a:solidFill>
                <a:latin typeface="Times New Roman"/>
                <a:ea typeface="Times New Roman"/>
              </a:rPr>
              <a:t>ФАКТОРЫ, ВЛИЯЮЩИЕ НА УРОВЕНЬ ЗДОРОВЬ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TextBox 2"/>
          <p:cNvSpPr/>
          <p:nvPr/>
        </p:nvSpPr>
        <p:spPr>
          <a:xfrm>
            <a:off x="642960" y="2071800"/>
            <a:ext cx="7429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раз жизни, условия труда и проживания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вычки и поведение – 50%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TextBox 3"/>
          <p:cNvSpPr/>
          <p:nvPr/>
        </p:nvSpPr>
        <p:spPr>
          <a:xfrm>
            <a:off x="642960" y="3143160"/>
            <a:ext cx="4000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енетика – 20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TextBox 4"/>
          <p:cNvSpPr/>
          <p:nvPr/>
        </p:nvSpPr>
        <p:spPr>
          <a:xfrm>
            <a:off x="642960" y="4071960"/>
            <a:ext cx="59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нешняя среда, экология – 20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TextBox 5"/>
          <p:cNvSpPr/>
          <p:nvPr/>
        </p:nvSpPr>
        <p:spPr>
          <a:xfrm>
            <a:off x="642960" y="5072040"/>
            <a:ext cx="507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дравоохранение – 10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Місце для нижнього колонтитула 1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eaebde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" dur="500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6" dur="500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1" name=""/>
          <p:cNvGraphicFramePr/>
          <p:nvPr/>
        </p:nvGraphicFramePr>
        <p:xfrm>
          <a:off x="142920" y="1071720"/>
          <a:ext cx="8786880" cy="5047920"/>
        </p:xfrm>
        <a:graphic>
          <a:graphicData uri="http://schemas.openxmlformats.org/drawingml/2006/table">
            <a:tbl>
              <a:tblPr/>
              <a:tblGrid>
                <a:gridCol w="2428920"/>
                <a:gridCol w="2286000"/>
                <a:gridCol w="4071960"/>
              </a:tblGrid>
              <a:tr h="2103120">
                <a:tc>
                  <a:txBody>
                    <a:bodyPr lIns="64080" rIns="6408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f1919"/>
                          </a:solidFill>
                          <a:latin typeface="Times New Roman"/>
                          <a:ea typeface="Calibri"/>
                        </a:rPr>
                        <a:t>Фактор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f1919"/>
                          </a:solidFill>
                          <a:latin typeface="Times New Roman"/>
                          <a:ea typeface="Calibri"/>
                        </a:rPr>
                        <a:t>влияющие на здоровье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f1919"/>
                          </a:solidFill>
                          <a:latin typeface="Times New Roman"/>
                          <a:ea typeface="Calibri"/>
                        </a:rPr>
                        <a:t>Значение для здоровья (удельный вес в %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f1919"/>
                          </a:solidFill>
                          <a:latin typeface="Times New Roman"/>
                          <a:ea typeface="Calibri"/>
                        </a:rPr>
                        <a:t>Группы факторов здоровь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44800">
                <a:tc>
                  <a:txBody>
                    <a:bodyPr lIns="64080" rIns="6408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Здравоохра-нен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10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Неэффективность профилактических мероприятий, низкое качество медицинской помощи, несвоевременность её оказания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2" name="Місце для нижнього колонтитула 2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eaebde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3" name=""/>
          <p:cNvGraphicFramePr/>
          <p:nvPr/>
        </p:nvGraphicFramePr>
        <p:xfrm>
          <a:off x="142920" y="928800"/>
          <a:ext cx="8786880" cy="5440320"/>
        </p:xfrm>
        <a:graphic>
          <a:graphicData uri="http://schemas.openxmlformats.org/drawingml/2006/table">
            <a:tbl>
              <a:tblPr/>
              <a:tblGrid>
                <a:gridCol w="2571840"/>
                <a:gridCol w="2571480"/>
                <a:gridCol w="3643560"/>
              </a:tblGrid>
              <a:tr h="2985840">
                <a:tc>
                  <a:txBody>
                    <a:bodyPr lIns="64080" rIns="6408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4f1919"/>
                          </a:solidFill>
                          <a:latin typeface="Times New Roman"/>
                          <a:ea typeface="Calibri"/>
                        </a:rPr>
                        <a:t>Фактор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4f1919"/>
                          </a:solidFill>
                          <a:latin typeface="Times New Roman"/>
                          <a:ea typeface="Calibri"/>
                        </a:rPr>
                        <a:t>влияющие на здоровье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4f1919"/>
                          </a:solidFill>
                          <a:latin typeface="Times New Roman"/>
                          <a:ea typeface="Calibri"/>
                        </a:rPr>
                        <a:t>Значение для здоровья (удельный вес в %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4f1919"/>
                          </a:solidFill>
                          <a:latin typeface="Times New Roman"/>
                          <a:ea typeface="Calibri"/>
                        </a:rPr>
                        <a:t>Группы факторов здоровь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4480">
                <a:tc>
                  <a:txBody>
                    <a:bodyPr lIns="64080" rIns="6408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нешняя среда, экология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грязнение воздуха, воды, почвы, резкая смена атмосферных явлений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4" name="Місце для нижнього колонтитула 2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eaebde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5" name=""/>
          <p:cNvGraphicFramePr/>
          <p:nvPr/>
        </p:nvGraphicFramePr>
        <p:xfrm>
          <a:off x="142920" y="642960"/>
          <a:ext cx="8786880" cy="5519880"/>
        </p:xfrm>
        <a:graphic>
          <a:graphicData uri="http://schemas.openxmlformats.org/drawingml/2006/table">
            <a:tbl>
              <a:tblPr/>
              <a:tblGrid>
                <a:gridCol w="2571840"/>
                <a:gridCol w="2500200"/>
                <a:gridCol w="3714840"/>
              </a:tblGrid>
              <a:tr h="3065400">
                <a:tc>
                  <a:txBody>
                    <a:bodyPr lIns="64080" rIns="6408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4f1919"/>
                          </a:solidFill>
                          <a:latin typeface="Times New Roman"/>
                          <a:ea typeface="Calibri"/>
                        </a:rPr>
                        <a:t>Фактор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4f1919"/>
                          </a:solidFill>
                          <a:latin typeface="Times New Roman"/>
                          <a:ea typeface="Calibri"/>
                        </a:rPr>
                        <a:t>влияющие на здоровье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4f1919"/>
                          </a:solidFill>
                          <a:latin typeface="Times New Roman"/>
                          <a:ea typeface="Calibri"/>
                        </a:rPr>
                        <a:t>Значение для здоровья (удельный вес в %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4f1919"/>
                          </a:solidFill>
                          <a:latin typeface="Times New Roman"/>
                          <a:ea typeface="Calibri"/>
                        </a:rPr>
                        <a:t>Группы факторов здоровь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4480">
                <a:tc>
                  <a:txBody>
                    <a:bodyPr lIns="64080" rIns="6408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енетика, биология человека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едрасположенность к наследственным болезням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6" name="Місце для нижнього колонтитула 2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eaebde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7" name=""/>
          <p:cNvGraphicFramePr/>
          <p:nvPr/>
        </p:nvGraphicFramePr>
        <p:xfrm>
          <a:off x="357120" y="0"/>
          <a:ext cx="8786880" cy="6215040"/>
        </p:xfrm>
        <a:graphic>
          <a:graphicData uri="http://schemas.openxmlformats.org/drawingml/2006/table">
            <a:tbl>
              <a:tblPr/>
              <a:tblGrid>
                <a:gridCol w="2357640"/>
                <a:gridCol w="1785960"/>
                <a:gridCol w="4643280"/>
              </a:tblGrid>
              <a:tr h="2071800">
                <a:tc>
                  <a:txBody>
                    <a:bodyPr lIns="64080" rIns="6408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4f1919"/>
                          </a:solidFill>
                          <a:latin typeface="Times New Roman"/>
                          <a:ea typeface="Calibri"/>
                        </a:rPr>
                        <a:t>Фактор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4f1919"/>
                          </a:solidFill>
                          <a:latin typeface="Times New Roman"/>
                          <a:ea typeface="Calibri"/>
                        </a:rPr>
                        <a:t>влияющие на здоровье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4f1919"/>
                          </a:solidFill>
                          <a:latin typeface="Times New Roman"/>
                          <a:ea typeface="Calibri"/>
                        </a:rPr>
                        <a:t>Значение для здоровья (удельный вес в %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4f1919"/>
                          </a:solidFill>
                          <a:latin typeface="Times New Roman"/>
                          <a:ea typeface="Calibri"/>
                        </a:rPr>
                        <a:t>Группы факторов здоровь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240">
                <a:tc>
                  <a:txBody>
                    <a:bodyPr lIns="64080" rIns="6408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браз жизни, привычки и поведение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урение, употребление алкоголя, несбалансированное,  неправильное питание, стрессовые ситуации, плохие материально-бытовые условия, употребление наркотиков, злоупотребление лекарствами, низкий образовательный и культурный уровень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8" name="Місце для нижнього колонтитула 2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eaebde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TextBox 2"/>
          <p:cNvSpPr/>
          <p:nvPr/>
        </p:nvSpPr>
        <p:spPr>
          <a:xfrm>
            <a:off x="2071800" y="5500800"/>
            <a:ext cx="4857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0" name="Picture 12" descr="НАРКОТИКИ1"/>
          <p:cNvPicPr/>
          <p:nvPr/>
        </p:nvPicPr>
        <p:blipFill>
          <a:blip r:embed="rId1"/>
          <a:stretch/>
        </p:blipFill>
        <p:spPr>
          <a:xfrm>
            <a:off x="1143000" y="0"/>
            <a:ext cx="6434280" cy="6858000"/>
          </a:xfrm>
          <a:prstGeom prst="rect">
            <a:avLst/>
          </a:prstGeom>
          <a:ln w="0">
            <a:noFill/>
          </a:ln>
        </p:spPr>
      </p:pic>
      <p:sp>
        <p:nvSpPr>
          <p:cNvPr id="381" name="Прямоугольник 4"/>
          <p:cNvSpPr/>
          <p:nvPr/>
        </p:nvSpPr>
        <p:spPr>
          <a:xfrm>
            <a:off x="357120" y="3244680"/>
            <a:ext cx="792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r>
              <a:rPr b="1" lang="ru-RU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РКОМАНИЯ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Прямоугольник 5"/>
          <p:cNvSpPr/>
          <p:nvPr/>
        </p:nvSpPr>
        <p:spPr>
          <a:xfrm>
            <a:off x="1357200" y="4857840"/>
            <a:ext cx="542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ЕЛАЯ СМЕРТЬ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Місце для нижнього колонтитула 1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eaebde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Picture 11" descr="13"/>
          <p:cNvPicPr/>
          <p:nvPr/>
        </p:nvPicPr>
        <p:blipFill>
          <a:blip r:embed="rId1"/>
          <a:stretch/>
        </p:blipFill>
        <p:spPr>
          <a:xfrm>
            <a:off x="857160" y="-219240"/>
            <a:ext cx="6858000" cy="7105680"/>
          </a:xfrm>
          <a:prstGeom prst="rect">
            <a:avLst/>
          </a:prstGeom>
          <a:ln w="0">
            <a:noFill/>
          </a:ln>
        </p:spPr>
      </p:pic>
      <p:sp>
        <p:nvSpPr>
          <p:cNvPr id="385" name="Прямоугольник 4"/>
          <p:cNvSpPr/>
          <p:nvPr/>
        </p:nvSpPr>
        <p:spPr>
          <a:xfrm>
            <a:off x="810000" y="1428840"/>
            <a:ext cx="709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КОМАНИЯ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TextBox 5"/>
          <p:cNvSpPr/>
          <p:nvPr/>
        </p:nvSpPr>
        <p:spPr>
          <a:xfrm>
            <a:off x="1093680" y="3929040"/>
            <a:ext cx="6692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ЛЬ НАШЕЙ ДУШИ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Місце для нижнього колонтитула 1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eaebde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6T12:16:45Z</dcterms:created>
  <dc:creator>COMP11</dc:creator>
  <dc:description/>
  <dc:language>en-US</dc:language>
  <cp:lastModifiedBy>LEGION</cp:lastModifiedBy>
  <dcterms:modified xsi:type="dcterms:W3CDTF">2015-05-12T09:00:37Z</dcterms:modified>
  <cp:revision>32</cp:revision>
  <dc:subject/>
  <dc:title>Цель занятия: Смоделировать самостоятельно возможные меры предупреждения вредных привычек у подростков</dc:title>
</cp:coreProperties>
</file>