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E99-45CC-4566-8ECB-DC3F360AF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первую очередь наркотики влияют на психику,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на приводит к духовной деградации и полному физическому истощению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4065-0834-4947-B6BD-F1938E63AB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ри года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наркомания среди детей и подростков выросла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очти в 6 раз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0C6-6D13-4EBE-87C6-9D238508DB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508-2A1E-4C50-A16B-70CDDC3FE3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2403"/>
                </a:solidFill>
                <a:latin typeface="Calibri"/>
              </a:rPr>
              <a:t>ПОМНИТ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людей, принимающих наркотики, рождаются дети-уроды или нежизнеспособные дет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67D-91EF-4E13-A263-575832261F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185D-E2DF-4D12-8DAA-E9B971BAA9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C9B-0FE4-4302-9A78-70540270F0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D3BF-109D-4A4C-902B-7C14B04EC5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П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М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DF0-0C14-4EA2-9BB4-28B858E122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D031-A00D-4927-9380-A5DE7E8F92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е количество алкоголя помогает человеку сосредоточ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1AE5-A256-47B0-9147-F7B49CF28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188-B00E-4317-A056-A34BEC538E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Будьте здоро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CB5-4178-4B36-88FD-A79BCE6D9C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Calibri"/>
              </a:rPr>
              <a:t>ВЫВОД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BAE-BF56-4310-A41C-27B40254F8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2403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6B2-0CAA-4D12-9F4C-43BE0C6886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оохра-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профилактических мероприятий, низкое качество медицинской помощи, несвоевременность её о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39BD-8C79-4F5B-913C-A1C9472CE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среда,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воздуха, воды, почвы, резкая смена атмосферн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FA46-22DD-4EF3-9C44-48BF9C3B1D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ка, биолог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расположенность к наследственным болез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8737-7E39-4663-A13C-C7DD011CF0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ющие на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для здоровья (удельный вес в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ы факторов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жизни, привычки и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AC04-13A0-4D70-BF11-3899E7E4E7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074-79FA-4A6C-955B-8966ECD780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F6A-5BD0-432F-81E8-13EB190172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669-15FF-450C-9059-7E7AAAEB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BDC-48C3-4D8F-8CBE-B050417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8FC-373E-43D9-AF6D-EEDB89AE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C3F-37B4-4345-B788-29D3DD3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169-4899-4159-B232-579B91EA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59A1-AD48-41CD-B5E4-C13E8AE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DB9B-EA63-4737-AF52-B90DB45A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1124-1AEA-44B0-B0B5-9A072D0B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3219-C284-46B2-A4C0-E55CB067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E0E-6921-44C2-A250-02950595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3498-1344-45AE-8639-EFD5DAC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025-B931-444C-A297-A9D139DF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BBEC-D485-4106-ADF6-96FA50D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EFF-D2AE-424A-BDBD-43F2A07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EB39-D9DD-4C20-B08D-A8F0D2CA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B43-CC66-4A04-BFD2-454CD8D6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AEB-B3B6-479B-AE3C-DAB216D7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A152-8A50-4DAD-A3B7-3326E0BD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018C-1BBB-42C9-9ED6-D89F30D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36F6-F597-418B-8015-6E27746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A2F0-44FA-43D7-9D9C-3703039C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4094-96CD-44C6-8CC1-EBE7860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B32-7A3E-4B30-88A0-EB52C248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7EA9-02B2-4DEC-80E4-E5635886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E804-40A4-4E06-A456-CA6C562D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94DF-8F0A-48ED-A1A0-48987D5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683E-4077-46A2-89C3-B257449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754D-9471-406F-9100-200BA1AB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726E-60DA-4136-9175-C4D96551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F941-71F0-47E8-A0DD-D4863EA3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1D42-6389-4DA8-A3D2-29F3E369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D7DF-505F-4BE7-9A66-05E828FF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D427-E02A-4EFC-A253-530D2D1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BA3-A3FA-43D5-9FAC-FF5D21B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8D21-B395-4541-A0D3-CB022BF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E5C4-029A-4319-8585-20FDB64C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F866-B2B4-44FB-B822-7BB4ED54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2B48-0F1C-4CFE-A33A-4188116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B740-1967-48B5-BB7F-FAF5A07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90E6-5EF4-4714-B85E-0FFE7F0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8690-BC74-4E1A-A5D0-DCD43F4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B588-DF34-465D-A009-1B577BDF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F8E9-0668-4CEE-A69C-67348D24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2C6A-6071-41AE-8661-6542E17E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F58-37E7-49C1-942F-EBEAA26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7E8D-6FF5-4C3F-8927-AF1E795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CA07-2765-4AC6-A8AC-22EC6957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7E16-4826-45E0-BC6F-2B432B08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24C4-6740-41FA-A8D5-BFDB733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6E58-E6DD-41A7-8233-3813047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94FF-9DE1-4A6B-A243-0A7E8CC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7208-E825-4EC0-BF22-356F94D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62CB-95AC-4AD3-852F-A8CC38EA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779A-C74A-4ADB-A925-EA68AA3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961A-476A-4EEB-B790-6BA13BD2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93F-61EE-40DF-9074-05ACB3C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8E94-7B6A-4BB9-8C4B-B6F499E9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89AF2-3AEC-46C1-9CA7-E48A1372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AAD09-9F54-4155-A956-9360040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215F7-059F-4B3B-9B37-01E99D7B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F29AF-F6E3-4EEE-ADBB-2D43D82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009C1-AC7B-47D2-ABA6-1485048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33326-6369-4B78-A1B6-7948B66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04729-E208-487A-AE9A-0A1067F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8EF94-3CE7-4181-BA2F-829ADE4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1741E-F887-4B02-8931-5934F79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1FD-241B-4E5A-A9B5-1C8BCAB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1122E-7D5F-4BE2-A701-3BC0DF2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AB8FB-F64E-4DD0-9387-E2DB14F1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D44AA-2536-441D-B079-62D41EBD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81A-DC4C-4837-9A4D-4027DB4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F65-2E43-4767-B4F6-2242717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FDC2-32A2-481D-88F7-B087C9C4EE40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FDC-1323-49B7-B389-C1F2851075E1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88C-2B6B-4ED5-AFD9-4F324EC07BD1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CCD-D18F-460C-9E0C-2CF7226215BF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0ccb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b805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a7e6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6917-8A80-4FBF-97CF-76F2FC079525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5C76-245C-474D-9FC2-0C3A6BF0EE1C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a7e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0F6-486B-4B35-9487-7786B7896068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A4EA-9A08-433E-A222-2636A6FDBEE4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252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256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260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A9D-378C-4081-A4FE-4D849603E2DD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861-D839-4763-BFA9-6452423F7CD2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8c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aebde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0ccb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0ccb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CA05-4AFC-4F31-876A-4577A20BB12A}" type="datetime">
              <a:rPr b="0" lang="ru-RU" sz="1100" spc="-1" strike="noStrike">
                <a:solidFill>
                  <a:srgbClr val="eaebde"/>
                </a:solidFill>
                <a:latin typeface="Arial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768B-3D16-4FA8-A81B-0DC869391DA8}" type="slidenum">
              <a:rPr b="0" lang="ru-RU" sz="1200" spc="-1" strike="noStrike">
                <a:solidFill>
                  <a:srgbClr val="eaebd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eaebd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-49320" y="0"/>
            <a:ext cx="9193320" cy="687564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14" descr="i5"/>
          <p:cNvPicPr/>
          <p:nvPr/>
        </p:nvPicPr>
        <p:blipFill>
          <a:blip r:embed="rId1"/>
          <a:stretch/>
        </p:blipFill>
        <p:spPr>
          <a:xfrm>
            <a:off x="3492360" y="1341360"/>
            <a:ext cx="1800360" cy="1440000"/>
          </a:xfrm>
          <a:prstGeom prst="rect">
            <a:avLst/>
          </a:prstGeom>
          <a:ln w="0">
            <a:noFill/>
          </a:ln>
        </p:spPr>
      </p:pic>
      <p:sp>
        <p:nvSpPr>
          <p:cNvPr id="390" name="WordArt 4"/>
          <p:cNvSpPr txBox="1"/>
          <p:nvPr/>
        </p:nvSpPr>
        <p:spPr>
          <a:xfrm>
            <a:off x="1979640" y="33336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db5353"/>
                  </a:solidFill>
                  <a:miter/>
                </a:ln>
                <a:gradFill rotWithShape="0">
                  <a:gsLst>
                    <a:gs pos="0">
                      <a:srgbClr val="db5353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Arial"/>
              </a:rPr>
              <a:t>ПОСЛЕДСТВИЯ</a:t>
            </a:r>
            <a:endParaRPr b="1" lang="en-US" sz="2000" spc="1" strike="noStrike">
              <a:ln w="9360">
                <a:solidFill>
                  <a:srgbClr val="db5353"/>
                </a:solidFill>
                <a:miter/>
              </a:ln>
              <a:gradFill rotWithShape="0">
                <a:gsLst>
                  <a:gs pos="0">
                    <a:srgbClr val="db5353"/>
                  </a:gs>
                  <a:gs pos="100000">
                    <a:srgbClr val="9966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539640" y="486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В первую очередь наркотики влияют на психику, </a:t>
            </a: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она приводит к духовной деградации и полному физическому истощению организ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4500720" y="2637000"/>
            <a:ext cx="45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3995640" y="4653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03638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2" descr="21"/>
          <p:cNvPicPr/>
          <p:nvPr/>
        </p:nvPicPr>
        <p:blipFill>
          <a:blip r:embed="rId2"/>
          <a:stretch/>
        </p:blipFill>
        <p:spPr>
          <a:xfrm>
            <a:off x="3564000" y="2997360"/>
            <a:ext cx="1800000" cy="152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16"/>
          <p:cNvPicPr/>
          <p:nvPr/>
        </p:nvPicPr>
        <p:blipFill>
          <a:blip r:embed="rId3"/>
          <a:stretch/>
        </p:blipFill>
        <p:spPr>
          <a:xfrm>
            <a:off x="1332000" y="1341360"/>
            <a:ext cx="1636560" cy="32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7" descr="19"/>
          <p:cNvPicPr/>
          <p:nvPr/>
        </p:nvPicPr>
        <p:blipFill>
          <a:blip r:embed="rId4"/>
          <a:stretch/>
        </p:blipFill>
        <p:spPr>
          <a:xfrm>
            <a:off x="5891040" y="1341360"/>
            <a:ext cx="2171880" cy="3240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4"/>
          <p:cNvSpPr/>
          <p:nvPr/>
        </p:nvSpPr>
        <p:spPr>
          <a:xfrm>
            <a:off x="250920" y="4365720"/>
            <a:ext cx="860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03638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менно школы и места массового развлечения молодежи, в первую очередь дискотеки, являются сегодня основными местами распространения наркотиков. З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ри года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наркомания среди детей и подростков выросла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чти в 6 раз</a:t>
            </a: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120040713204739_1-narkotiki[1]"/>
          <p:cNvPicPr/>
          <p:nvPr/>
        </p:nvPicPr>
        <p:blipFill>
          <a:blip r:embed="rId1"/>
          <a:stretch/>
        </p:blipFill>
        <p:spPr>
          <a:xfrm>
            <a:off x="2124000" y="260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5508720" y="476280"/>
            <a:ext cx="331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3638"/>
                </a:solidFill>
                <a:latin typeface="Arial"/>
              </a:rPr>
              <a:t>Средняя продолжительность жизни активного наркомана составляет 3 года. Дети, рождённые от наркоманов, умирают очень быстро, доживая максимум до            4 месяцев. Наркотик губит наше будущее поколение, наших детей, а значит, и будущее вс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удод2"/>
          <p:cNvPicPr/>
          <p:nvPr/>
        </p:nvPicPr>
        <p:blipFill>
          <a:blip r:embed="rId1"/>
          <a:stretch/>
        </p:blipFill>
        <p:spPr>
          <a:xfrm>
            <a:off x="4572000" y="35496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урод1"/>
          <p:cNvPicPr/>
          <p:nvPr/>
        </p:nvPicPr>
        <p:blipFill>
          <a:blip r:embed="rId2"/>
          <a:stretch/>
        </p:blipFill>
        <p:spPr>
          <a:xfrm>
            <a:off x="395280" y="981000"/>
            <a:ext cx="3343320" cy="51120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4067280" y="404640"/>
            <a:ext cx="4535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Arial"/>
              </a:rPr>
              <a:t>ПОМНИТ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людей, принимающих наркотики, рождаются дети-уроды или нежизнеспособные де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870840" y="714240"/>
            <a:ext cx="487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блуждения нарком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не болезнь, лечиться не от чег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865800" y="15001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могу расстаться со своей привычкой в любой мо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28800" y="242892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самостоятельно буду снижать дозы или уже с завтрашнего  дня сменю наркотик, чтобы не привыкнуть , на слабый, а к врачам обращаться не обя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2880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Это помогает мне жить на пределе возможностей. Становлюсь умнее, раскованнее, в голову приходят блестящие иде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214200" y="135720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кончите предлож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Я не употребляю наркотик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тому что….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642960" y="500040"/>
            <a:ext cx="77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АК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НЫЙ ПУ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Рисунок 2" descr=""/>
          <p:cNvPicPr/>
          <p:nvPr/>
        </p:nvPicPr>
        <p:blipFill>
          <a:blip r:embed="rId1"/>
          <a:stretch/>
        </p:blipFill>
        <p:spPr>
          <a:xfrm>
            <a:off x="1428840" y="1652760"/>
            <a:ext cx="5940360" cy="520524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428920" y="1071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БАЧНЫЙ ДЫ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2641320" y="1857240"/>
            <a:ext cx="3809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Т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РИД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Л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П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ОПИР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АКТИВНЫЙ ПОЛО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ЬЯ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М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МИ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АВЬИ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ЛЬ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 ГА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-357120" y="1500120"/>
            <a:ext cx="6429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ИЗМ-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БОЛЕВ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ТОРОЕ ОСОЗНАЮ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РАЗУ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НАША ЗАДАЧА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УПРЕДИТЬ 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Я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3"/>
          <p:cNvPicPr/>
          <p:nvPr/>
        </p:nvPicPr>
        <p:blipFill>
          <a:blip r:embed="rId1"/>
          <a:stretch/>
        </p:blipFill>
        <p:spPr>
          <a:xfrm>
            <a:off x="5894280" y="0"/>
            <a:ext cx="3249720" cy="471312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214200" y="78588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ения об алког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богат калориями и отличается питательной цен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"/>
          <p:cNvSpPr/>
          <p:nvPr/>
        </p:nvSpPr>
        <p:spPr>
          <a:xfrm>
            <a:off x="214200" y="142884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одный  душ помогает пьяному человеку быстрее протрезве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81720" y="2000160"/>
            <a:ext cx="90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действие алкоголя на человека зависит от его общего физ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214200" y="3214800"/>
            <a:ext cx="819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лых дозах алкоголь ослабляет концентрацию и замедляет реа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0" y="2643120"/>
            <a:ext cx="80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льшое количество алкоголя помогает человеку сосредоточ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14200" y="385776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чрезмерного употребления алкоголя можно умер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14200" y="4572000"/>
            <a:ext cx="65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голь переваривается организмом также, как и пищ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214200" y="5286240"/>
            <a:ext cx="84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продолжительного употребления алкоголя мозг человека умень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ісце для нижнього колонтитула 9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571680" y="500040"/>
            <a:ext cx="7786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Цель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делировать самостоятельно возможные меры предупреждения вредных привычек у подро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ся оценивать с гражданских позиций современную ситуа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учащихся с факторами, вредящими наш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500040" y="14004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день – сегод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лучшее место – там, где ты живёш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ый лучший отдых – труд душ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ая большая утрата – потеря надежд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е большое богатство – здоровь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                     </a:t>
            </a: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Будьте здоров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235080" y="597960"/>
            <a:ext cx="875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1919"/>
                </a:solidFill>
                <a:latin typeface="Times New Roman"/>
                <a:ea typeface="Calibri"/>
              </a:rPr>
              <a:t>ВЫВОД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бходима активная пропаганда проти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х привы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лкоголизм, курение, наркомания ухудш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доровье человека, обрекает на гибель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болезнь будущее поколения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дные привычки надо изгонять, а здор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з жизни всем необход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785880" y="57168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МЫ ВЫБИРАЕМ ЖИЗН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Рисунок 6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4786200" cy="45720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50004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1919"/>
                </a:solidFill>
                <a:latin typeface="Times New Roman"/>
                <a:ea typeface="Times New Roman"/>
              </a:rPr>
              <a:t>ФАКТОРЫ, ВЛИЯЮЩИЕ НА УРОВЕНЬ ЗДОРОВ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642960" y="207180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 жизни, условия труда и прожива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ычки и поведение – 5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642960" y="3143160"/>
            <a:ext cx="400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тика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642960" y="40719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яя среда, экология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5072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оохранение –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42920" y="1071720"/>
          <a:ext cx="8786880" cy="504792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4071960"/>
              </a:tblGrid>
              <a:tr h="210312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дравоохра-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эффективность профилактических мероприятий, низкое качество медицинской помощи, несвоевременность её оказа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42920" y="928800"/>
          <a:ext cx="8786880" cy="5440320"/>
        </p:xfrm>
        <a:graphic>
          <a:graphicData uri="http://schemas.openxmlformats.org/drawingml/2006/table">
            <a:tbl>
              <a:tblPr/>
              <a:tblGrid>
                <a:gridCol w="2571840"/>
                <a:gridCol w="2571480"/>
                <a:gridCol w="3643560"/>
              </a:tblGrid>
              <a:tr h="29858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яя среда, эколог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язнение воздуха, воды, почвы, резкая смена атмосферных явлени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42920" y="642960"/>
          <a:ext cx="8786880" cy="5519880"/>
        </p:xfrm>
        <a:graphic>
          <a:graphicData uri="http://schemas.openxmlformats.org/drawingml/2006/table">
            <a:tbl>
              <a:tblPr/>
              <a:tblGrid>
                <a:gridCol w="2571840"/>
                <a:gridCol w="2500200"/>
                <a:gridCol w="3714840"/>
              </a:tblGrid>
              <a:tr h="30654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448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нетика, биология человек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расположенность к наследственным болезня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57120" y="0"/>
          <a:ext cx="8786880" cy="6215040"/>
        </p:xfrm>
        <a:graphic>
          <a:graphicData uri="http://schemas.openxmlformats.org/drawingml/2006/table">
            <a:tbl>
              <a:tblPr/>
              <a:tblGrid>
                <a:gridCol w="2357640"/>
                <a:gridCol w="1785960"/>
                <a:gridCol w="4643280"/>
              </a:tblGrid>
              <a:tr h="207180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Факт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влияющие на здоровь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Значение для здоровья (удельный вес в 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1919"/>
                          </a:solidFill>
                          <a:latin typeface="Times New Roman"/>
                          <a:ea typeface="Calibri"/>
                        </a:rPr>
                        <a:t>Группы факторов здоров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240"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 жизни, привычки и поведе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рение, употребление алкоголя, несбалансированное,  неправильное питание, стрессовые ситуации, плохие материально-бытовые условия, употребление наркотиков, злоупотребление лекарствами, низкий образовательный и культурный уровен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"/>
          <p:cNvSpPr/>
          <p:nvPr/>
        </p:nvSpPr>
        <p:spPr>
          <a:xfrm>
            <a:off x="2071800" y="550080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2" descr="НАРКОТИКИ1"/>
          <p:cNvPicPr/>
          <p:nvPr/>
        </p:nvPicPr>
        <p:blipFill>
          <a:blip r:embed="rId1"/>
          <a:stretch/>
        </p:blipFill>
        <p:spPr>
          <a:xfrm>
            <a:off x="1143000" y="0"/>
            <a:ext cx="643428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357120" y="32446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1357200" y="485784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АЯ СМЕ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1" descr="13"/>
          <p:cNvPicPr/>
          <p:nvPr/>
        </p:nvPicPr>
        <p:blipFill>
          <a:blip r:embed="rId1"/>
          <a:stretch/>
        </p:blipFill>
        <p:spPr>
          <a:xfrm>
            <a:off x="857160" y="-219240"/>
            <a:ext cx="6858000" cy="71056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810000" y="1428840"/>
            <a:ext cx="70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1093680" y="3929040"/>
            <a:ext cx="66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 НАШЕЙ ДУШ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eaebde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16:45Z</dcterms:created>
  <dc:creator>COMP11</dc:creator>
  <dc:description/>
  <dc:language>en-US</dc:language>
  <cp:lastModifiedBy>LEGION</cp:lastModifiedBy>
  <dcterms:modified xsi:type="dcterms:W3CDTF">2015-05-12T09:00:37Z</dcterms:modified>
  <cp:revision>32</cp:revision>
  <dc:subject/>
  <dc:title>Цель занятия: Смоделировать самостоятельно возможные меры предупреждения вредных привычек у подростков</dc:title>
</cp:coreProperties>
</file>