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44D2-9478-4217-8F87-89E886235A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Тепловые и солнечные уд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рзамасцева Лариса Алексеевна- преподаватель-организатор ОБЖ МБОУСОШ №55 им.А.В.Чернова г.Т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32CF-C0CD-4479-A9F5-72F619CB89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C3E9-D8A9-412C-B08F-8D5FF0EF31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олезненное состояние, расстройство работы головного мозга вследствие продолжительного воздействия солнечного света на непокрытую поверхность головы. Это особая фор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ового уда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AA3B-C762-4082-BA80-4EBC17C9F8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мптомы солнечного уда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00"/>
                </a:solidFill>
                <a:uFillTx/>
                <a:latin typeface="Calibri"/>
              </a:rPr>
              <a:t>Легкая степень: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общая слабост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головная бол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тошнот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учащения пульса и дыха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расширение зрач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00"/>
                </a:solidFill>
                <a:uFillTx/>
                <a:latin typeface="Calibri"/>
              </a:rPr>
              <a:t>При средней степени: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резкая адинам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сильная головная боль с тошнотой и рвотой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оглушенност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неуверенность движений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шаткая походк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временами обморочные состоя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учащение пульса и дыха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кровотечение из нос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повышение температуры тела до 39 — 40 °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0F83-C03A-4107-8E3B-F764D9C8DF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ая помощь при солнечном удар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228C-CBB6-44BD-800D-C90B5211D5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филактика солнечного удар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у защищайте легким светлым головным убор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длительного пребывания на солнце, на пляж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нахождения на открытых пространствах с прямыми солнечными луч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горать лучше не лежа, а в движении, солнечные ванны принимать в утренние и вечерние часы и не ранее чем через час после еды. Полезно сочетать их с куп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сите легкую, светлую одежду, из натуральных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жаркое время не ешьте слишком плотно. Отдавайте предпочтение кисломолочным продуктам и овощ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ддерживайте водный баланс в организме (лучше с помощью прохладной воды; 3-х литров в ден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льзуйтесь зонтом от солнца (светлых оттенк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ремя от времени протирайте лицо платком, смоченным в прохладной в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ощущении недомогания обратиться за помощью и предпринять самому возможные 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182F-D0F6-41A2-AA02-B4F1D40B3D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удьте внимательны и аккуратны при нахождении на прямых солнечных лучах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7DCD-4B71-47A7-8515-18E723FE3E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00"/>
                </a:solidFill>
                <a:latin typeface="Calibri"/>
              </a:rPr>
              <a:t>Тепловой удар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это опасное для жизни состояние, которое возникает при воздействии на тело человека повышенной температуры, в условиях повышенной влажности, обезвоживания и нарушения процесса терморегуляции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6FBF-5DE1-4980-BC4D-86F9614278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ричины возникновения теплового уда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температуры в условиях высокой влажности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ая и синтетическая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аркая по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яжелая физическая нагру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которые лекарствен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3213-5863-494F-9CA3-67C6761F77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имптомы и признаки теплового уда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температура тела (40 С и выш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аж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сутствие потоотд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тепловом ударе кожа зачастую красн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ащенное дых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зкое повышение частоты сердечных сокращ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дороги, галлюцинации, потеря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FA48-9B75-4D58-B5FD-3177C60BD1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Первая помощь при тепловом ударе в домашних условиях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медленно зайдите в прохладное кондиционированное поме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нимите тесную одежду, развяжите галстук, снимите обу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случае теплового удара обернитесь влажной простыней или включите вентиля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есть возможность, примите прохладный душ или ван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комендуется выпить 1 литр воды с добавлением 2 чайных ложек с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ак же для снижения температуры тела можно приложить к области шеи, спины, подмышек и паха мешочки со ль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51F2-A8B3-4A8A-BF32-68D652C5FD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офилактика теплового уда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сите лёгкую одежду из натуральных материалов (лён, хлопок), это позволит избежать развитие теплового уд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возможности, установите в доме кондицион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йте больше жидкости, особенно в теплое время года, это снизит риск развития теплового уд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икогда не оставляйте машину на солнце. Если всё же это случилось, не сидите в раскаленной машине больше 1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тяжелой физической нагрузки в жаркое время года. Во время выполнения работы время от времени делайте перерывы на отдых, пейте больше жид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4FA0-97CA-4DC6-907B-CF60BF7A4C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601C-932E-42D4-80D4-FA262DE609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знаки солнечного ожо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ол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красн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пухлость, а иногда и пузыри на кож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ная бол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хорадка (повышение температуры до 38 С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лаб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ED19-C657-48A2-B218-8F02971D99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рвая помощь при солнечных ожог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ите прохладную ванну или душ с добавлением в воду ½ чашки крахмала, овсянки или пищевой соды, это снимет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носите лосьон Алоэ Вера на поражённую кожу несколько раз в день, при солнечных ожог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при солнечных ожогах на коже появляются волдыри или сыпь, немедленно обратитесь к врачу. Не вскрывайте волды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60B6-4AAC-4FF9-8768-450768E818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AE4-E9EA-41E5-A044-4571624E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0DC0-AF6E-4F9F-8525-EF7F1DCC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11AA-5D35-43B8-B9FB-2E371BF0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A0B-1374-4D11-9E1C-161B6454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6896-B560-4D2E-9196-B56A6345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0072-A589-464F-BE0E-C8213311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2C3-DF76-4CEB-B4D5-7B60E152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FF7A-2136-454B-B769-7D09BBCA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124-8D67-4D00-92C8-A6ABBA80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5EA-FFCF-44EC-9C73-8F86500B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A14C-DFF5-4082-BE5C-951BC3D2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A71-4FF3-475A-B26D-FDDCA0EC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3329-8EC8-46BD-813A-2B110BAE75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?id=58300681-41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рзамасцева Лариса Алексеевна- преподаватель-организатор ОБЖ МБОУСОШ №55 им.А.В.Чернова г.Т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Тепловые и солнечные уд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i?id=491294559-24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олезненное состояние, расстройство работы головного мозга вследствие продолжительного воздействия солнечного света на непокрытую поверхность головы. Это особая фор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плового удар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Солнечный удар. Описание, симптомы, профилактика и первая помощь при солнечном ударе"/>
          <p:cNvPicPr/>
          <p:nvPr/>
        </p:nvPicPr>
        <p:blipFill>
          <a:blip r:embed="rId2"/>
          <a:stretch/>
        </p:blipFill>
        <p:spPr>
          <a:xfrm>
            <a:off x="900000" y="1268280"/>
            <a:ext cx="3962520" cy="46706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птомы солнечного уд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Легкая степень: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общая слабост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головная бол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тошнот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учащения пульса и дыха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расширение зрач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При средней степени: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резкая адинам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сильная головная боль с тошнотой и рвотой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оглушенност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неуверенность движений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шаткая походк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временами обморочные состоя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учащение пульса и дыха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кровотечение из нос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повышение температуры тела до 39 — 40 °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?id=324258498-08-72&amp;n=21"/>
          <p:cNvPicPr/>
          <p:nvPr/>
        </p:nvPicPr>
        <p:blipFill>
          <a:blip r:embed="rId2"/>
          <a:stretch/>
        </p:blipFill>
        <p:spPr>
          <a:xfrm>
            <a:off x="5435640" y="836640"/>
            <a:ext cx="2892240" cy="28922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помощь при солнечном уда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-L-UDGSlE"/>
          <p:cNvPicPr/>
          <p:nvPr/>
        </p:nvPicPr>
        <p:blipFill>
          <a:blip r:embed="rId1"/>
          <a:stretch/>
        </p:blipFill>
        <p:spPr>
          <a:xfrm>
            <a:off x="1258920" y="1197000"/>
            <a:ext cx="6600960" cy="5229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филактика солнечного уд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олову защищайте легким светлым головным убор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бегайте длительного пребывания на солнце, на пляж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бегайте нахождения на открытых пространствах с прямыми солнечными луч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горать лучше не лежа, а в движении, солнечные ванны принимать в утренние и вечерние часы и не ранее чем через час после еды. Полезно сочетать их с купа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осите легкую, светлую одежду, из натуральных тка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жаркое время не ешьте слишком плотно. Отдавайте предпочтение кисломолочным продуктам и овощ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ддерживайте водный баланс в организме (лучше с помощью прохладной воды; 3-х литров в ден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льзуйтесь зонтом от солнца (светлых оттенков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ремя от времени протирайте лицо платком, смоченным в прохладной вод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 ощущении недомогания обратиться за помощью и предпринять самому возможные м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i?id=326405896-04-72&amp;n=21"/>
          <p:cNvPicPr/>
          <p:nvPr/>
        </p:nvPicPr>
        <p:blipFill>
          <a:blip r:embed="rId1"/>
          <a:stretch/>
        </p:blipFill>
        <p:spPr>
          <a:xfrm>
            <a:off x="-34920" y="-255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Будьте внимательны и аккуратны при нахождении на прямых солнечных лучах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48000" y="620280"/>
            <a:ext cx="5338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еплово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Тепловой удар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это опасное для жизни состояние, которое возникает при воздействии на тело человека повышенной температуры, в условиях повышенной влажности, обезвоживания и нарушения процесса терморегуляции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i?id=447937039-43-72&amp;n=21"/>
          <p:cNvPicPr/>
          <p:nvPr/>
        </p:nvPicPr>
        <p:blipFill>
          <a:blip r:embed="rId2"/>
          <a:stretch/>
        </p:blipFill>
        <p:spPr>
          <a:xfrm>
            <a:off x="1116000" y="404640"/>
            <a:ext cx="1944720" cy="17780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40360" y="4759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ичины возникновения теплового уд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сокая температуры в условиях высокой влажности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плая и синтетическая одеж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Жаркая по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яжелая физическая нагру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которые лекарственные 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?id=489795115-65-72&amp;n=21"/>
          <p:cNvPicPr/>
          <p:nvPr/>
        </p:nvPicPr>
        <p:blipFill>
          <a:blip r:embed="rId2"/>
          <a:stretch/>
        </p:blipFill>
        <p:spPr>
          <a:xfrm>
            <a:off x="971640" y="0"/>
            <a:ext cx="3184560" cy="2124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94232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имптомы и признаки теплового уд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сокая температура тела (40 С и выш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аж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сутствие потоот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тепловом ударе кожа зачастую красн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ащенное д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зкое повышение частоты сердечных сокращ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ловная б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удороги, галлюцинации, потеря со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Первая помощь при тепловом ударе в домашних условия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медленно зайдите в прохладное кондиционированное помещ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нимите тесную одежду, развяжите галстук, снимите обу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лучае теплового удара обернитесь влажной простыней или включите вентиля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есть возможность, примите прохладный душ или ван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комендуется выпить 1 литр воды с добавлением 2 чайных ложек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к же для снижения температуры тела можно приложить к области шеи, спины, подмышек и паха мешочки со ль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филактика теплового уд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сите лёгкую одежду из натуральных материалов (лён, хлопок), это позволит избежать развитие теплового уд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возможности, установите в доме кондицион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йте больше жидкости, особенно в теплое время года, это снизит риск развития теплового уд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икогда не оставляйте машину на солнце. Если всё же это случилось, не сидите в раскаленной машине больше 10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бегайте тяжелой физической нагрузки в жаркое время года. Во время выполнения работы время от времени делайте перерывы на отдых, пейте больше жид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i?id=63095669-42-72&amp;n=21"/>
          <p:cNvPicPr/>
          <p:nvPr/>
        </p:nvPicPr>
        <p:blipFill>
          <a:blip r:embed="rId1"/>
          <a:stretch/>
        </p:blipFill>
        <p:spPr>
          <a:xfrm>
            <a:off x="0" y="-93600"/>
            <a:ext cx="9144000" cy="6951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499920"/>
            <a:ext cx="8229600" cy="22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ечные ож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солнечного ож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красн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пухлость, а иногда и пузыри на кож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овная бо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хорадка (повышение температуры до 38 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лаб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i?id=615825154-10-72&amp;n=21"/>
          <p:cNvPicPr/>
          <p:nvPr/>
        </p:nvPicPr>
        <p:blipFill>
          <a:blip r:embed="rId2"/>
          <a:stretch/>
        </p:blipFill>
        <p:spPr>
          <a:xfrm>
            <a:off x="6372360" y="3573360"/>
            <a:ext cx="2028600" cy="28702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ервая помощь при солнечных ожога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мите прохладную ванну или душ с добавлением в воду ½ чашки крахмала, овсянки или пищевой соды, это снимет б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носите лосьон Алоэ Вера на поражённую кожу несколько раз в день, при солнечных ожог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при солнечных ожогах на коже появляются волдыри или сыпь, немедленно обратитесь к врачу. Не вскрывайте волды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3:43:24Z</dcterms:created>
  <dc:creator>Лариса</dc:creator>
  <dc:description/>
  <dc:language>en-US</dc:language>
  <cp:lastModifiedBy>LEGION</cp:lastModifiedBy>
  <dcterms:modified xsi:type="dcterms:W3CDTF">2015-05-12T09:01:44Z</dcterms:modified>
  <cp:revision>6</cp:revision>
  <dc:subject/>
  <dc:title>Тепловые и солнечные удары</dc:title>
</cp:coreProperties>
</file>