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3EAE-3964-477C-9EB2-76A47004D1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932F-9C6A-4C3C-9A7C-3F68063F47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5D65-2F5E-4A26-9540-73BF4F773F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го уд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1C22-A964-4828-8BD7-90C4A094C6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птомы солнечного уда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Легкая степен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бщая слаб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головная бол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тошнот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я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асширение зрач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При средней степени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езкая адинам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сильная головная боль с тошнотой и рвото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глушенн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неуверенность движени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шаткая походк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временами обморочные состоя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е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кровотечение из нос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повышение температуры тела до 39 — 40 °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31AA-5138-46ED-AF00-0A604459B5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олнечном удар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138-69E5-4842-968C-7210F3F4F6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илактика солнечного уда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у защищайте легким светлым головным убо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длительного пребывания на солнце, на пляж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нахождения на открытых пространствах с прямыми солнечными луч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егкую, светлую одежду, из натуральных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ьзуйтесь зонтом от солнца (светлых отт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ремя от времени протирайте лицо платком, смоченным в прохладной в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ощущении недомогания обратиться за помощью и предпринять самому возможные 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AD82-CF0D-42CF-B265-0AFC6120B8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внимательны и аккуратны при нахождении на прямых солнечных лучах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A835-C531-45DF-898F-FF624B5650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00"/>
                </a:solidFill>
                <a:latin typeface="Calibri"/>
              </a:rPr>
              <a:t>Тепловой уд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12F2-BD9D-46C3-A0E8-D3F0A99C35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ичины возникновения теплового у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ы в условиях высокой влажности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ая и синтетическая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ркая по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яжелая физическая нагру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529D-F69D-4DE9-AC5F-9B82C65ADF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имптомы и признаки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а тела (40 С и выш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сутствие потоотд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тепловом ударе кожа зачастую красн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щен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кое повышение частоты сердечных сок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дороги, галлюцинации, 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8B3D-F8FD-4CDF-8A5F-6A5D91420D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дленно зайдите в прохладное кондиционированное поме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нимите тесную одежду, развяжите галстук, снимите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лучае теплового удара обернитесь влажной простыней или включите вентиля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примите прохладный душ или ван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омендуется выпить 1 литр воды с добавлением 2 чайных ложек с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65F0-8FF7-4593-9D9D-7F56E965B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филактика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озможности, установите в доме кондицио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178-D91B-457C-B50E-E08DB30A8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79B3-5F0F-4126-B706-6EFFD44F88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ки солнечного ож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рас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пухлость, а иногда и пузыри на кож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хорадка (повышение температуры до 38 С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аб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4B23-46D9-4350-BF30-EED48E5EC0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помощь при солнечных ожог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3B28-3173-484E-AB46-7762EEE1A1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E0B-2489-4F88-843D-44038D24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3A4-AB00-459D-B25F-CBBF225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FEA-F7CF-49DF-A63C-4F2F8DED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A25-4D90-4F81-AFFC-504F9592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123-3A8E-4490-94F6-8C136545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196-81A7-428C-8F8B-B4615F63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294-0563-492B-B2CB-E3BED72C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FCE-6B48-4F32-BA51-83155C49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74E-170F-4618-831D-5A7A05D0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4CD-B7C8-43B2-9875-E2C8700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E96-214D-46FB-A0A3-E041E451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61E-8D45-4AA4-A79D-EF8B243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97F0-A789-46FD-BAF7-A4F5187A9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?id=58300681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?id=491294559-24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ового уд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олнечный удар. Описание, симптомы, профилактика и первая помощь при солнечном ударе"/>
          <p:cNvPicPr/>
          <p:nvPr/>
        </p:nvPicPr>
        <p:blipFill>
          <a:blip r:embed="rId2"/>
          <a:stretch/>
        </p:blipFill>
        <p:spPr>
          <a:xfrm>
            <a:off x="900000" y="1268280"/>
            <a:ext cx="3962520" cy="4670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птомы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Легкая степень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бщая слаб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головная бол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тошнот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я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асширение зра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При средней степени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езкая адинам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сильная головная боль с тошнотой и рвото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глушенн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неуверенность движ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шаткая поход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временами обморочные состоя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е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кровотечение из н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повышение температуры тела до 39 — 40 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?id=324258498-08-72&amp;n=21"/>
          <p:cNvPicPr/>
          <p:nvPr/>
        </p:nvPicPr>
        <p:blipFill>
          <a:blip r:embed="rId2"/>
          <a:stretch/>
        </p:blipFill>
        <p:spPr>
          <a:xfrm>
            <a:off x="5435640" y="836640"/>
            <a:ext cx="2892240" cy="28922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ом у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-L-UDGSlE"/>
          <p:cNvPicPr/>
          <p:nvPr/>
        </p:nvPicPr>
        <p:blipFill>
          <a:blip r:embed="rId1"/>
          <a:stretch/>
        </p:blipFill>
        <p:spPr>
          <a:xfrm>
            <a:off x="1258920" y="1197000"/>
            <a:ext cx="6600960" cy="5229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у защищайте легким светлым головным уб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длительного пребывания на солнце, на пляж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нахождения на открытых пространствах с прямыми солнечными луч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сите легкую, светлую одежду, из натуральных тка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йтесь зонтом от солнца (светлых оттенк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ремя от времени протирайте лицо платком, смоченным в прохладной в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ощущении недомогания обратиться за помощью и предпринять самому возмож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?id=326405896-04-72&amp;n=21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удьте внимательны и аккуратны при нахождении на прямых солнечных лучах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620280"/>
            <a:ext cx="53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плово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Тепловой уда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?id=447937039-43-72&amp;n=21"/>
          <p:cNvPicPr/>
          <p:nvPr/>
        </p:nvPicPr>
        <p:blipFill>
          <a:blip r:embed="rId2"/>
          <a:stretch/>
        </p:blipFill>
        <p:spPr>
          <a:xfrm>
            <a:off x="1116000" y="404640"/>
            <a:ext cx="194472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36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чины возникновения теплового уд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ая температуры в условиях высокой влажност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плая и синтетическая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аркая по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яжел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лекарствен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?id=489795115-65-72&amp;n=21"/>
          <p:cNvPicPr/>
          <p:nvPr/>
        </p:nvPicPr>
        <p:blipFill>
          <a:blip r:embed="rId2"/>
          <a:stretch/>
        </p:blipFill>
        <p:spPr>
          <a:xfrm>
            <a:off x="971640" y="0"/>
            <a:ext cx="318456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9423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мптомы и признаки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 тела (40 С и вы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пото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тепловом ударе кожа зачастую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ен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частоты сердечных сокра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дороги, галлюцинации, потер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едленно зайдите в прохладное кондиционированное пом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имите тесную одежду, развяжите галстук, снимите обу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учае теплового удара обернитесь влажной простыней или включите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есть возможность, примите прохладный душ или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омендуется выпить 1 литр воды с добавлением 2 чайных ложек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возможности, установите в доме кондицио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?id=63095669-42-72&amp;n=21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992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е ож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солнечного ож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рас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пухлость, а иногда и пузыри на к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хорадка (повышение температуры до 38 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аб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?id=615825154-10-72&amp;n=21"/>
          <p:cNvPicPr/>
          <p:nvPr/>
        </p:nvPicPr>
        <p:blipFill>
          <a:blip r:embed="rId2"/>
          <a:stretch/>
        </p:blipFill>
        <p:spPr>
          <a:xfrm>
            <a:off x="6372360" y="3573360"/>
            <a:ext cx="2028600" cy="2870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ых ожог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43:24Z</dcterms:created>
  <dc:creator>Лариса</dc:creator>
  <dc:description/>
  <dc:language>en-US</dc:language>
  <cp:lastModifiedBy>LEGION</cp:lastModifiedBy>
  <dcterms:modified xsi:type="dcterms:W3CDTF">2015-05-12T09:01:44Z</dcterms:modified>
  <cp:revision>6</cp:revision>
  <dc:subject/>
  <dc:title>Тепловые и солнечные удары</dc:title>
</cp:coreProperties>
</file>