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97BF-6432-4432-A44C-6438AFF1EA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1586-C17D-4FBF-8D1B-E061F3DC5F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E935-C140-4BFF-8CB3-6E368C327C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го уд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2DFA-C553-489D-B931-78CDF058E7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мптомы солнечного уда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Легкая степен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бщая слаб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головная бол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тошнот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я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асширение зрач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При средней степени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езкая адинам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сильная головная боль с тошнотой и рвото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глушенн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неуверенность движени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шаткая походк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временами обморочные состоя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е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кровотечение из нос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повышение температуры тела до 39 — 40 °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EA12-110A-4CC8-9CC0-648E1BEEAA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олнечном удар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A449-80B9-4913-9047-5B1A16C3A1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илактика солнечного уда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у защищайте легким светлым головным убо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длительного пребывания на солнце, на пляж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нахождения на открытых пространствах с прямыми солнечными луч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егкую, светлую одежду, из натуральных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ьзуйтесь зонтом от солнца (светлых оттен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ремя от времени протирайте лицо платком, смоченным в прохладной в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ощущении недомогания обратиться за помощью и предпринять самому возможные 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2F1D-5E27-4400-9CA7-7F45DF6A4F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внимательны и аккуратны при нахождении на прямых солнечных лучах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E909-9E8E-46B2-BDB2-9BAC412CAB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00"/>
                </a:solidFill>
                <a:latin typeface="Calibri"/>
              </a:rPr>
              <a:t>Тепловой уд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1AC2-3544-489C-BF0F-6F89C4ED01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ичины возникновения теплового уда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ы в условиях высокой влажности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ая и синтетическая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ркая по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яжелая физическая нагру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891B-6286-4C2C-A6A6-35D1C73256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имптомы и признаки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а тела (40 С и выш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сутствие потоотд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тепловом ударе кожа зачастую красн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щен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кое повышение частоты сердечных сок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дороги, галлюцинации, 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A229-BDE4-4B51-82F2-66F361EE6D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дленно зайдите в прохладное кондиционированное поме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нимите тесную одежду, развяжите галстук, снимите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лучае теплового удара обернитесь влажной простыней или включите вентиля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примите прохладный душ или ван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омендуется выпить 1 литр воды с добавлением 2 чайных ложек с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59BD-6CE8-44D7-A6C6-7DDA990F7F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филактика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озможности, установите в доме кондицио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0914-39CF-481A-A5F8-DF16308EDE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1764-0A29-418E-88F7-1FBD143966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знаки солнечного ож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рас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пухлость, а иногда и пузыри на кож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хорадка (повышение температуры до 38 С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аб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6B80-7A86-4AA5-8E85-16A89F5C12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ая помощь при солнечных ожог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FE04-E4B4-4A0B-95FF-248B91994A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767-EED9-4D17-BF5D-32C19B48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48B-B592-4810-A9E3-8EE3DC05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3EB-5DB3-4720-8625-C9E22F95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DC6-D22A-4247-B1BE-6E982151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F03-E728-416C-9439-9860639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073-B58C-41ED-AE3F-5B0B52E8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AC5-5EA7-4E98-A6C3-436C019B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6F0-EDA9-46B6-AA02-5CC100FB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BBA-CFE8-4EC1-B858-502C74EE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898-DADC-4DD8-A532-E5BE30E5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7BA-2DB4-4477-8ED0-7B2A15EA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48B-BC0C-4B05-9478-E52309D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EB0F-C242-4013-8529-ABC676A64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?id=58300681-41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?id=491294559-24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плового уда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Солнечный удар. Описание, симптомы, профилактика и первая помощь при солнечном ударе"/>
          <p:cNvPicPr/>
          <p:nvPr/>
        </p:nvPicPr>
        <p:blipFill>
          <a:blip r:embed="rId2"/>
          <a:stretch/>
        </p:blipFill>
        <p:spPr>
          <a:xfrm>
            <a:off x="900000" y="1268280"/>
            <a:ext cx="3962520" cy="4670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птомы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Легкая степень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бщая слаб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головная бол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тошнот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я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асширение зрач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При средней степени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езкая адинам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сильная головная боль с тошнотой и рвото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глушенн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неуверенность движ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шаткая походк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временами обморочные состоя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е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кровотечение из но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повышение температуры тела до 39 — 40 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?id=324258498-08-72&amp;n=21"/>
          <p:cNvPicPr/>
          <p:nvPr/>
        </p:nvPicPr>
        <p:blipFill>
          <a:blip r:embed="rId2"/>
          <a:stretch/>
        </p:blipFill>
        <p:spPr>
          <a:xfrm>
            <a:off x="5435640" y="836640"/>
            <a:ext cx="2892240" cy="28922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ом уда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-L-UDGSlE"/>
          <p:cNvPicPr/>
          <p:nvPr/>
        </p:nvPicPr>
        <p:blipFill>
          <a:blip r:embed="rId1"/>
          <a:stretch/>
        </p:blipFill>
        <p:spPr>
          <a:xfrm>
            <a:off x="1258920" y="1197000"/>
            <a:ext cx="6600960" cy="5229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лову защищайте легким светлым головным убор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длительного пребывания на солнце, на пляж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нахождения на открытых пространствах с прямыми солнечными луч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сите легкую, светлую одежду, из натуральных тка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ьзуйтесь зонтом от солнца (светлых оттенк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ремя от времени протирайте лицо платком, смоченным в прохладной в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ощущении недомогания обратиться за помощью и предпринять самому возможны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?id=326405896-04-72&amp;n=21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удьте внимательны и аккуратны при нахождении на прямых солнечных лучах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48000" y="620280"/>
            <a:ext cx="533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плово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Тепловой уда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?id=447937039-43-72&amp;n=21"/>
          <p:cNvPicPr/>
          <p:nvPr/>
        </p:nvPicPr>
        <p:blipFill>
          <a:blip r:embed="rId2"/>
          <a:stretch/>
        </p:blipFill>
        <p:spPr>
          <a:xfrm>
            <a:off x="1116000" y="404640"/>
            <a:ext cx="194472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36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чины возникновения теплового уд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кая температуры в условиях высокой влажности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плая и синтетическая оде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аркая по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яжелая физическая нагру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лекарствен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?id=489795115-65-72&amp;n=21"/>
          <p:cNvPicPr/>
          <p:nvPr/>
        </p:nvPicPr>
        <p:blipFill>
          <a:blip r:embed="rId2"/>
          <a:stretch/>
        </p:blipFill>
        <p:spPr>
          <a:xfrm>
            <a:off x="971640" y="0"/>
            <a:ext cx="318456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9423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имптомы и признаки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ая температура тела (40 С и вы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а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сутствие потоот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тепловом ударе кожа зачастую крас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ащен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кое повышение частоты сердечных сокра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дороги, галлюцинации, потеря с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медленно зайдите в прохладное кондиционированное пом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имите тесную одежду, развяжите галстук, снимите обу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учае теплового удара обернитесь влажной простыней или включите вентиля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есть возможность, примите прохладный душ или ван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комендуется выпить 1 литр воды с добавлением 2 чайных ложек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возможности, установите в доме кондицио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?id=63095669-42-72&amp;n=21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992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е ож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солнечного ож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рас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пухлость, а иногда и пузыри на ко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овная б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хорадка (повышение температуры до 38 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аб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?id=615825154-10-72&amp;n=21"/>
          <p:cNvPicPr/>
          <p:nvPr/>
        </p:nvPicPr>
        <p:blipFill>
          <a:blip r:embed="rId2"/>
          <a:stretch/>
        </p:blipFill>
        <p:spPr>
          <a:xfrm>
            <a:off x="6372360" y="3573360"/>
            <a:ext cx="2028600" cy="2870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ых ожог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43:24Z</dcterms:created>
  <dc:creator>Лариса</dc:creator>
  <dc:description/>
  <dc:language>en-US</dc:language>
  <cp:lastModifiedBy>LEGION</cp:lastModifiedBy>
  <dcterms:modified xsi:type="dcterms:W3CDTF">2015-05-12T09:01:44Z</dcterms:modified>
  <cp:revision>6</cp:revision>
  <dc:subject/>
  <dc:title>Тепловые и солнечные удары</dc:title>
</cp:coreProperties>
</file>