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E9F5-F18B-4FF8-952E-6F5DA5985F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Афонькинская СО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8A82-4E50-4361-9D5A-4C9C19B09FE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66"/>
                </a:solidFill>
                <a:uFillTx/>
                <a:latin typeface="Calibri"/>
              </a:rPr>
              <a:t>Вредные привычки</a:t>
            </a:r>
            <a:r>
              <a:rPr b="0" lang="ru-RU" sz="1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– это ряд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привычек, которые человек может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начать приобретать еще в школьные 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годы и от которых потом не может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избавиться в течение всей жизн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редные привычки серьезно вредят здоровью. Они способствуют быстрому расходованию всего потенциала возможностей человека, преждевременному его старению и приобретению устойчивых заболеваний. К таким привычкам, прежде всего надо отнести курение, употребление алкоголя и наркот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5721-A5B8-4D67-B245-873EC6F0F0C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Пре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ь- это посягающее на правопорядок общественно опасное деяние, предусмотренное уголовным кодек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ыделения организованной преступности из общего противоправного поведения лежат характер и степень организованного взаимодействия нескольких преступников между собой при осуществлении своей пролонгированной криминаль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ая преступность представлена в виде специфической формы социальных связей в обществе, где наблюдается сочетание элементов иерархической структуры на высоких уровнях с более аморфной и гибкой сетевой системой взаимоотношений на более низких уровн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8EA7-1E8C-417C-A65A-220756D290E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Calibri"/>
              </a:rPr>
              <a:t>Алкогол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зм - хроническое заболевание, обусловленное систематическим употреблением спиртных напитков. Оно проявляется в физической и психической зависимости от алкоголя, ведущей к социальной и психической деградации личности. Пьянство и алкоголизм как массовые явления- серьезная социальная проблема. Следствием значительного роста потребления спиртных напитков стало заметное сокращение продолжительности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DD61-3CCD-4876-8F85-EC5382A00D9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Calibri"/>
              </a:rPr>
              <a:t>Нарком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мания- болезнь, характеризующаяся непреодолимым влечением к наркот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тики-это химические вещества синтетического или растительного происхождения, которые оказывают специфическое действие на нервную систему и весь организм человека, приводит к снятию болевых ощущений, изменению настроения, психического и физического тону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122D-2B04-4D02-92DA-82DEE70078B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Ку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ак в Европу попал после открытия Америки Христофором Колумбом в 1492 году. До этого Старый свет не знал такой  вредной привы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ыме одной сигареты содержится до двадцати ядовитых веществ (6 мкг никотина, 1,6 мкг аммиака, 0,03 мкг синильной кислоты, 25 мкг угарного газа).Никотин – сильный я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ть курить легко, а вот отвыкнуть от него очень трудно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EDC4-B077-4454-8E80-7E17C06EFE4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Любая вредная привычка негативно сказывается на здоровье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83F4-9E90-4B95-B495-B7C9915B99E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лоняющееся поведение и здоровье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 Рамазанова Айгу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:Горлова Вера Виктор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7088-C31E-4F19-88B2-FCF8007F2FF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ff"/>
                </a:solidFill>
                <a:uFillTx/>
                <a:latin typeface="Calibri"/>
              </a:rPr>
              <a:t>Влияние курения на здоровье </a:t>
            </a:r>
            <a:br>
              <a:rPr sz="1800"/>
            </a:br>
            <a:r>
              <a:rPr b="0" lang="ru-RU" sz="1800" spc="-1" strike="noStrike" u="sng">
                <a:solidFill>
                  <a:srgbClr val="ff00ff"/>
                </a:solidFill>
                <a:uFillTx/>
                <a:latin typeface="Calibri"/>
              </a:rPr>
              <a:t>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курящих людей уже к 50 годам сосуды становятся неэластичными, хрупкими, тогда как некурящих они бывают такими лишь к 70 годам. Курящие люди в 12 раз чаще заболевают стенокардией, в 3 раза – инфарктом миокарда, в 4 раза – язвой желудка, чем некурящие. Никотин способствует сужению кровеносных сосудов. При длительном курении сосуды приходят в состояние спазмов. В среднем у курящих кровяное давление на 10 мм.рт.ст. выше, чем у некурящих. Курящие люди чаще страдают хроническим бронхи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0E42-E850-471A-82FA-C993286F908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ачный дым оказывает вредное влияние на секрецию желез желудка. Никотин вреден для мозга, сердца и легких. Табачная смола поражает реснитчатый эпителий дыхательных путей, парализуя его защитную функц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ело в том, что в дыме табака есть такие ядовитые вещества, которые усиливают склонность к заболеваниям, хотя последствия курения проявляются спустя несколько лет. Самым вредным из них является бензпирен, который относится к числу веществ, стимулирующих образование раковых опухолей. На 100 тыс. населения заболеваемость раком легких у курящих в 5 раз больше, чем у некуря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EBC1-7FEC-4AFC-A9B1-743AB1FE2FB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f497d"/>
                </a:solidFill>
                <a:uFillTx/>
                <a:latin typeface="Calibri"/>
              </a:rPr>
              <a:t>Влияние алкоголя на здоровье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 угнетает продукцию тромбоцитов, а также белых и красных кровяных телец, замедляет циркуляцию крови в сосудах мозга, приводя к постоянному кислородному голоданию его клеток, в результате чего наступает ослабление памяти и медленная психическая деградация. В сосудах развиваются ранние склеротические изменения, и возрастает риск кровоизлияния в мозг. Злоупотребление алкоголем вызывает повышение уровня холестерина в крови, стойкую гипертонию и дистрофию миокарда. Развивается сердечнососудистая недостаточность, алкогольная миопатия. При алкогольной кардиомиопатии поражается сердечная мышца. Постоянное воздействие алкоголя на стенку тонкого кишечника приводит к изменению структуры клеток, и они теряют способность полноценно всасывать питательные вещества и минеральные компоненты, что заканчивается истощением организма алкогол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E318-29A9-407D-96B8-03132006838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воспаление желудка и позже кишечника вызывает язвы пищеварительных органов. Печень страдает от алкоголя больше всего: возникает воспалительный процесс- гепатит, а затем и рубцовое перерождение- цирроз. Печень перестает выполнять свою функцию по обеззараживанию токсических продуктов обмена, выработке белков крови и другие важные функции, что приводит к неизбежной смерти больного. Больные, страдающие алкоголизмом, в 10 раз больше подвержены вероятности заболеть диабетом, чем непьющие: алкоголь разрушает поджелудочную железу – орган, продуцирующий инсулин, и глубоко извращает обмен веществ. Пьющий человек почти всегда выглядит старше своих лет: его кожа очень скоро теряет свою эластичность и стареет раньше времени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DF61-839D-4E5F-A423-D0F7136112B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ff33"/>
                </a:solidFill>
                <a:uFillTx/>
                <a:latin typeface="Calibri"/>
              </a:rPr>
              <a:t>Влияние наркотиков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мания резко отрицательно влияет на здоровье человека. Дыхание наркомана, как одно из наиважнейших условий жизнеобеспечения, перестает нормально функционировать. Такой защитный механизм организма как кашель тоже отключается у наркомана. Кашель – это естественный способ очистить дыхательные пути человека от мокроты, слизи, гноя, грязи. Влияние наркотиков на сердечнососудистую систему наркомана проявляется все в том же отключении рецепторов, ответственных за давление крови в сосудах, снижая давление крови и замедляя пуль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81B7-2DA0-4E78-BE86-6840147F303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снижается количество полезных веществ, которыми должны насыщаться клетки организма. Кожа, кости, внутренние органы стареют сами собой. Пищеварительная система тоже подвержена влиянию наркотиков. Снижая вкусовые и обонятельные ощущения, наркотики угнетают аппетит наркомана. Тем самым снижая его вес. Сама пища, которую все же съели, усваивается и переваривается не полностью. Вызывая спазм гладких мышц сфинктеров кишечника, наркотики задерживают переход каловых масс из одного отдела кишечника в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641F-027C-47A9-9BBF-7127E9CA8A2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выявить виды отклоняющего поведения и охарактеризовать их влияние на здоровье челове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79F7-24FF-4E19-A29C-40990573C5D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конце своей работы мне бы хотелось сказать, что лучше быть здоровым, сильным и красивым, чем вести нездоровый образ жизни. Так что сделайте правильный выбор, ведь только от вашего решения зависит  ваша жизнь. Не портите ее себе и своим близ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Лично я за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29C1-A7C9-43F9-A8B9-36A0BB0764B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ю всем крепкого вам здоровь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BF1A-5704-435D-8DF5-7ECC43A2E25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СПАСИБО ЗА ВНИМАНИЕ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4132-23B8-4795-842A-596AF5782A0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ый образ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лоняющееся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тклоняющего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лияние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50C3-3D98-4B5D-AE7B-89E1B8F6F46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66ff"/>
                </a:solidFill>
                <a:uFillTx/>
                <a:latin typeface="Calibri"/>
              </a:rPr>
              <a:t>Здоровый образ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1AAC-8EAD-4C2E-A0D4-BBA3D19F2F3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dfd17"/>
                </a:solidFill>
                <a:uFillTx/>
                <a:latin typeface="Calibri"/>
              </a:rPr>
              <a:t>Отклоняющееся </a:t>
            </a:r>
            <a:r>
              <a:rPr b="0" lang="ru-RU" sz="1600" spc="-1" strike="noStrike" u="sng">
                <a:solidFill>
                  <a:srgbClr val="fdfd17"/>
                </a:solidFill>
                <a:uFillTx/>
                <a:latin typeface="Calibri"/>
              </a:rPr>
              <a:t>пове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лоняющееся поведение- поведение индивида или группы, которое не соответствует общепринятым нормам, в результате чего эти нормы ими наруш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CEDB-2161-43A0-B88C-8EA260AAC70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Группы поведенческих деви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1) в зависимости от масшта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2) по значению последств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3) по субъект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4) по объек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5) по дли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6) по типу нарушаемой нор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E117-02E8-4106-865A-AFE68A76DBA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дами отклоняющего поведения являются и вредные привычк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2D0C-6AA1-4E23-9358-02BA642CA69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B87-BD18-4DE5-BBB1-B515AE97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A818-E7EE-4DA4-A008-FC100FDA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A9E0-84A1-4F6E-AC73-A145F275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08A-935B-4525-B04E-D814A360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1744-23DC-489F-AAF8-BE3406B8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647C-0F7A-408C-A101-B5E45F91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B830-D979-4EC2-ACE3-ADF00358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7B53-20D9-4BA6-B4C5-4178BB70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5A2D-CE8B-41D9-8449-1FCF6DF3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5803-FDD5-4974-B4A0-570C1D0A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9804-2C06-4395-97EC-1EE864A5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A88-7CA8-4DF2-85F3-0C5F2A6E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AC83-61F4-4DCD-8496-16C2EDC5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4DD2-0370-48BC-8669-8FFCF22D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9D84-0D71-4BCA-9908-0F3FD31B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F520-559B-45CF-9342-3F8D76C3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E5C8-B3D8-4258-B7AA-D13BC32E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339-A79A-423E-98DA-7F51AFB6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FCB-A416-4D50-A520-24E33672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DDE-2908-438D-81C7-F43250CA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9BD-F47A-4335-A103-B4611256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B0B-CEDB-48D6-9A1C-6F8C9CA2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3EAE-7366-429A-96F8-4D15FE55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E84-B4B0-41C0-AD21-CB8D23DD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0D08-F084-4D79-BC99-825DE8AC55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2D60-4E86-4F18-8A8E-185E8908EE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У Афонькинская СО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941880" cy="2149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66"/>
                </a:solidFill>
                <a:uFillTx/>
                <a:latin typeface="Comic Sans MS"/>
              </a:rPr>
              <a:t>Вредные привычки</a:t>
            </a: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– это ряд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привычек, которые человек может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начать приобретать еще в школьные 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годы и от которых потом не может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избавиться в течение всей жизн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696080" cy="33130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Вредные привычки серьезно вредят здоровью. Они способствуют быстрому расходованию всего потенциала возможностей человека, преждевременному его старению и приобретению устойчивых заболеваний. К таким привычкам, прежде всего надо отнести курение, употребление алкоголя и наркоти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Преступн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6" descr="преступление"/>
          <p:cNvPicPr/>
          <p:nvPr/>
        </p:nvPicPr>
        <p:blipFill>
          <a:blip r:embed="rId1"/>
          <a:stretch/>
        </p:blipFill>
        <p:spPr>
          <a:xfrm>
            <a:off x="0" y="3716280"/>
            <a:ext cx="3203640" cy="3141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76720" y="1125360"/>
            <a:ext cx="5867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ступность- это посягающее на правопорядок общественно опасное деяние, предусмотренное уголовным кодекс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основе выделения организованной преступности из общего противоправного поведения лежат характер и степень организованного взаимодействия нескольких преступников между собой при осуществлении своей пролонгированной криминальной деятельност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ганизованная преступность представлена в виде специфической формы социальных связей в обществе, где наблюдается сочетание элементов иерархической структуры на высоких уровнях с более аморфной и гибкой сетевой системой взаимоотношений на более низких уровнях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66"/>
                </a:solidFill>
                <a:uFillTx/>
                <a:latin typeface="Comic Sans MS"/>
              </a:rPr>
              <a:t>Алкоголизм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59280" y="980640"/>
            <a:ext cx="608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коголизм - хроническое заболевание, обусловленное систематическим употреблением спиртных напитков. Оно проявляется в физической и психической зависимости от алкоголя, ведущей к социальной и психической деградации личности. Пьянство и алкоголизм как массовые явления- серьезная социальная проблема. Следствием значительного роста потребления спиртных напитков стало заметное сокращение продолжительности жи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9" descr="обрезка алкоголь"/>
          <p:cNvPicPr/>
          <p:nvPr/>
        </p:nvPicPr>
        <p:blipFill>
          <a:blip r:embed="rId1"/>
          <a:stretch/>
        </p:blipFill>
        <p:spPr>
          <a:xfrm>
            <a:off x="0" y="3789360"/>
            <a:ext cx="3419640" cy="30686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9" descr="папа не пе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66ff"/>
                </a:solidFill>
                <a:uFillTx/>
                <a:latin typeface="Comic Sans MS"/>
              </a:rPr>
              <a:t>Наркоман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03280" y="1196640"/>
            <a:ext cx="5940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комания- болезнь, характеризующаяся непреодолимым влечением к наркотик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котики-это химические вещества синтетического или растительного происхождения, которые оказывают специфическое действие на нервную систему и весь организм человека, приводит к снятию болевых ощущений, изменению настроения, психического и физического тону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Object 9"/>
          <p:cNvGraphicFramePr/>
          <p:nvPr/>
        </p:nvGraphicFramePr>
        <p:xfrm>
          <a:off x="8999640" y="4071960"/>
          <a:ext cx="14436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99640" y="4071960"/>
                    <a:ext cx="1443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Picture 15" descr="обрезка наркотики"/>
          <p:cNvPicPr/>
          <p:nvPr/>
        </p:nvPicPr>
        <p:blipFill>
          <a:blip r:embed="rId3"/>
          <a:stretch/>
        </p:blipFill>
        <p:spPr>
          <a:xfrm>
            <a:off x="0" y="3789360"/>
            <a:ext cx="3492360" cy="30686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drug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Comic Sans MS"/>
              </a:rPr>
              <a:t>Куре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64000" y="1412640"/>
            <a:ext cx="5580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бак в Европу попал после открытия Америки Христофором Колумбом в 1492 году. До этого Старый свет не знал такой  вредной привыч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дыме одной сигареты содержится до двадцати ядовитых веществ (6 мкг никотина, 1,6 мкг аммиака, 0,03 мкг синильной кислоты, 25 мкг угарного газа).Никотин – сильный яд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ать курить легко, а вот отвыкнуть от него очень трудно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14" descr="обрезка сигареты"/>
          <p:cNvPicPr/>
          <p:nvPr/>
        </p:nvPicPr>
        <p:blipFill>
          <a:blip r:embed="rId1"/>
          <a:stretch/>
        </p:blipFill>
        <p:spPr>
          <a:xfrm>
            <a:off x="0" y="3716280"/>
            <a:ext cx="3492360" cy="31417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1227071771_cigaret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2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6728040" cy="17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Любая вредная привычка негативно сказывается на здоровье человек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61" descr="-4"/>
          <p:cNvPicPr/>
          <p:nvPr/>
        </p:nvPicPr>
        <p:blipFill>
          <a:blip r:embed="rId1"/>
          <a:stretch/>
        </p:blipFill>
        <p:spPr>
          <a:xfrm>
            <a:off x="0" y="2205000"/>
            <a:ext cx="327672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22" name="Picture 62" descr="8"/>
          <p:cNvPicPr/>
          <p:nvPr/>
        </p:nvPicPr>
        <p:blipFill>
          <a:blip r:embed="rId2"/>
          <a:stretch/>
        </p:blipFill>
        <p:spPr>
          <a:xfrm>
            <a:off x="3276720" y="2205000"/>
            <a:ext cx="287964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23" name="Picture 64" descr="обж"/>
          <p:cNvPicPr/>
          <p:nvPr/>
        </p:nvPicPr>
        <p:blipFill>
          <a:blip r:embed="rId3"/>
          <a:stretch/>
        </p:blipFill>
        <p:spPr>
          <a:xfrm>
            <a:off x="6156360" y="2205000"/>
            <a:ext cx="298764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3280" y="2349360"/>
            <a:ext cx="6400800" cy="2232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Отклоняющееся поведение и здоровье челове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547280" y="4868640"/>
            <a:ext cx="6032520" cy="11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ила Рамазанова Айгул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уководитель:Горлова Вера Викторов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556400" cy="14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ff"/>
                </a:solidFill>
                <a:uFillTx/>
                <a:latin typeface="Comic Sans MS"/>
              </a:rPr>
              <a:t>Влияние курения на здоровье </a:t>
            </a:r>
            <a:br>
              <a:rPr sz="4000"/>
            </a:br>
            <a:r>
              <a:rPr b="0" lang="ru-RU" sz="4000" spc="-1" strike="noStrike" u="sng">
                <a:solidFill>
                  <a:srgbClr val="ff00ff"/>
                </a:solidFill>
                <a:uFillTx/>
                <a:latin typeface="Comic Sans MS"/>
              </a:rPr>
              <a:t>челове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2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курящих людей уже к 50 годам сосуды становятся неэластичными, хрупкими, тогда как некурящих они бывают такими лишь к 70 годам. Курящие люди в 12 раз чаще заболевают стенокардией, в 3 раза – инфарктом миокарда, в 4 раза – язвой желудка, чем некурящие. Никотин способствует сужению кровеносных сосудов. При длительном курении сосуды приходят в состояние спазмов. В среднем у курящих кровяное давление на 10 мм.рт.ст. выше, чем у некурящих. Курящие люди чаще страдают хроническим бронхит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бачный дым оказывает вредное влияние на секрецию желез желудка. Никотин вреден для мозга, сердца и легких. Табачная смола поражает реснитчатый эпителий дыхательных путей, парализуя его защитную функц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дело в том, что в дыме табака есть такие ядовитые вещества, которые усиливают склонность к заболеваниям, хотя последствия курения проявляются спустя несколько лет. Самым вредным из них является бензпирен, который относится к числу веществ, стимулирующих образование раковых опухолей. На 100 тыс. населения заболеваемость раком легких у курящих в 5 раз больше, чем у некурящ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1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7" descr="1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755676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лияние алкоголя на здоровье челове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лкоголь угнетает продукцию тромбоцитов, а также белых и красных кровяных телец, замедляет циркуляцию крови в сосудах мозга, приводя к постоянному кислородному голоданию его клеток, в результате чего наступает ослабление памяти и медленная психическая деградация. В сосудах развиваются ранние склеротические изменения, и возрастает риск кровоизлияния в мозг. Злоупотребление алкоголем вызывает повышение уровня холестерина в крови, стойкую гипертонию и дистрофию миокарда. Развивается сердечнососудистая недостаточность, алкогольная миопатия. При алкогольной кардиомиопатии поражается сердечная мышца. Постоянное воздействие алкоголя на стенку тонкого кишечника приводит к изменению структуры клеток, и они теряют способность полноценно всасывать питательные вещества и минеральные компоненты, что заканчивается истощением организма алкоголика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тоянное воспаление желудка и позже кишечника вызывает язвы пищеварительных органов. Печень страдает от алкоголя больше всего: возникает воспалительный процесс- гепатит, а затем и рубцовое перерождение- цирроз. Печень перестает выполнять свою функцию по обеззараживанию токсических продуктов обмена, выработке белков крови и другие важные функции, что приводит к неизбежной смерти больного. Больные, страдающие алкоголизмом, в 10 раз больше подвержены вероятности заболеть диабетом, чем непьющие: алкоголь разрушает поджелудочную железу – орган, продуцирующий инсулин, и глубоко извращает обмен веществ. Пьющий человек почти всегда выглядит старше своих лет: его кожа очень скоро теряет свою эластичность и стареет раньше времени. 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x_52678af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imag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353440" cy="14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ff33"/>
                </a:solidFill>
                <a:uFillTx/>
                <a:latin typeface="Comic Sans MS"/>
              </a:rPr>
              <a:t>Влияние наркотиков на здоровье челов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solidFill>
            <a:srgbClr val="99ff33"/>
          </a:solidFill>
          <a:ln w="9360">
            <a:solidFill>
              <a:srgbClr val="005400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ркомания резко отрицательно влияет на здоровье человека. Дыхание наркомана, как одно из наиважнейших условий жизнеобеспечения, перестает нормально функционировать. Такой защитный механизм организма как кашель тоже отключается у наркомана. Кашель – это естественный способ очистить дыхательные пути человека от мокроты, слизи, гноя, грязи. Влияние наркотиков на сердечнососудистую систему наркомана проявляется все в том же отключении рецепторов, ответственных за давление крови в сосудах, снижая давление крови и замедляя пульс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ким образом, снижается количество полезных веществ, которыми должны насыщаться клетки организма. Кожа, кости, внутренние органы стареют сами собой. Пищеварительная система тоже подвержена влиянию наркотиков. Снижая вкусовые и обонятельные ощущения, наркотики угнетают аппетит наркомана. Тем самым снижая его вес. Сама пища, которую все же съели, усваивается и переваривается не полностью. Вызывая спазм гладких мышц сфинктеров кишечника, наркотики задерживают переход каловых масс из одного отдела кишечника в друг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265800" cy="525780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Цель: выявить виды отклоняющего поведения и охарактеризовать их влияние на здоровье челове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image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869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 конце своей работы мне бы хотелось сказать, что лучше быть здоровым, сильным и красивым, чем вести нездоровый образ жизни. Так что сделайте правильный выбор, ведь только от вашего решения зависит  ваша жизнь. Не портите ее себе и своим близки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Лично я за здоров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11" descr="я за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270828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beregite-zdoro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2204640"/>
            <a:ext cx="6913800" cy="3529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Желаю всем крепкого вам здоровья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5856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440400" cy="287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</a:t>
            </a:r>
            <a:r>
              <a:rPr b="1" lang="ru-RU" sz="6000" spc="-1" strike="noStrike" u="sng">
                <a:solidFill>
                  <a:srgbClr val="703dff"/>
                </a:solidFill>
                <a:uFillTx/>
                <a:latin typeface="Comic Sans MS"/>
              </a:rPr>
              <a:t>СПАСИБО ЗА ВНИМАНИЕ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</a:rPr>
              <a:t>Содержа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7201080" cy="511200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тклоняющееся повед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иды отклоняющего повед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х влияние на здоровье челов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66ff"/>
                </a:solidFill>
                <a:uFillTx/>
                <a:latin typeface="Comic Sans MS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7" descr="ris_2"/>
          <p:cNvPicPr/>
          <p:nvPr/>
        </p:nvPicPr>
        <p:blipFill>
          <a:blip r:embed="rId1"/>
          <a:stretch/>
        </p:blipFill>
        <p:spPr>
          <a:xfrm>
            <a:off x="0" y="1268280"/>
            <a:ext cx="8244000" cy="55897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dfd17"/>
                </a:solidFill>
                <a:uFillTx/>
                <a:latin typeface="Comic Sans MS"/>
              </a:rPr>
              <a:t>Отклоняющееся </a:t>
            </a:r>
            <a:r>
              <a:rPr b="0" lang="ru-RU" sz="4800" spc="-1" strike="noStrike" u="sng">
                <a:solidFill>
                  <a:srgbClr val="fdfd17"/>
                </a:solidFill>
                <a:uFillTx/>
                <a:latin typeface="Comic Sans MS"/>
              </a:rPr>
              <a:t>поведе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623000" cy="4176720"/>
          </a:xfrm>
          <a:prstGeom prst="rect">
            <a:avLst/>
          </a:prstGeom>
          <a:solidFill>
            <a:srgbClr val="fdfd17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тклоняющееся поведение- поведение индивида или группы, которое не соответствует общепринятым нормам, в результате чего эти нормы ими нарушают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" name="Organization Chart 7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77" name="_s1028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15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029"/>
            <p:cNvCxnSpPr>
              <a:stCxn id="181" idx="0"/>
              <a:endCxn id="179" idx="2"/>
            </p:cNvCxnSpPr>
            <p:nvPr/>
          </p:nvCxnSpPr>
          <p:spPr>
            <a:xfrm flipV="1">
              <a:off x="4571280" y="2741760"/>
              <a:ext cx="396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030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15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Факторы,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пособствующи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девиации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Би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Псих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оци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Группы поведенческих девиац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337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1) в зависимости от масштаб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2) по значению последств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3) по субъекту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4) по объект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5) по длительност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6) по типу нарушаемой норм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2000" y="2637000"/>
            <a:ext cx="6400800" cy="3379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omic Sans MS"/>
              </a:rPr>
              <a:t>Видами отклоняющего поведения являются и вредные привычки челове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83492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5:41:36Z</dcterms:created>
  <dc:creator>User</dc:creator>
  <dc:description/>
  <dc:language>en-US</dc:language>
  <cp:lastModifiedBy>LEGION</cp:lastModifiedBy>
  <dcterms:modified xsi:type="dcterms:W3CDTF">2015-05-12T09:03:12Z</dcterms:modified>
  <cp:revision>33</cp:revision>
  <dc:subject/>
  <dc:title>МОУ Афонькинская СОШ</dc:title>
</cp:coreProperties>
</file>