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C03A-A48E-499F-85D5-B894A9EFAB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Афоньк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3EC3-D989-4081-A902-03EBDB30CF5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alibri"/>
              </a:rPr>
              <a:t>Вредные привычки</a:t>
            </a:r>
            <a:r>
              <a:rPr b="0" lang="ru-RU" sz="1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– это ряд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привычек, которые человек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начать приобретать еще в школьные 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годы и от которых потом не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избавиться в течение всей жиз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3BEC-5F9B-42FF-9EB3-1F9F79FEE94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Пре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54B3-0DC9-48EE-B4BD-B3C310DABDB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46C4-AC16-4C24-B955-B807855B547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alibri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- болезнь, характеризующаяся непреодолимым влечением к нарко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8E9-F313-4BEB-B98B-E8C4B025B9D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курить легко, а вот отвыкнуть от него очень трудн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5EBB-7BA7-48C7-8F6F-463D1BEF82C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Любая вредная привычка негативно сказывается на здоровь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4A4-1D0D-4B02-B483-C10CBC99F20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яющееся повед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Рамазанова Айгу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Горлова Вера Виктор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B67C-F0AF-471A-8501-3E5A7EEBD6F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Влияние курения на здоровье </a:t>
            </a:r>
            <a:br>
              <a:rPr sz="1800"/>
            </a:b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7726-A65C-4C53-8D92-1613DFBA39A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9E4A-851E-4EEE-818F-7982002D19B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Влияние алкоголя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8BA6-2E11-4C48-87E9-1294CE9BBC4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BAE8-EA93-4E8C-B257-31282D0A927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ff33"/>
                </a:solidFill>
                <a:uFillTx/>
                <a:latin typeface="Calibri"/>
              </a:rPr>
              <a:t>Влияние наркотиков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43D-EADD-480D-8F6D-3F24282F271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1428-C010-49EB-A7B8-7BA676D56B9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96E5-2EA0-45CC-9AC9-7DA2A16B4AD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Лично я за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3649-D7FB-49CB-AF62-A2D9DDE836D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всем крепкого вам здоровь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3EA0-B08C-4249-9223-F36EA699996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969-FAEC-41C4-AAF0-8C0CF89C0C8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тклоняющего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лияние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8C22-2BD1-4977-A8FC-07BCFD95404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ff"/>
                </a:solidFill>
                <a:uFillTx/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EF85-FA66-48E1-B15C-1CBF7CF647D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dfd17"/>
                </a:solidFill>
                <a:uFillTx/>
                <a:latin typeface="Calibri"/>
              </a:rPr>
              <a:t>Отклоняющееся </a:t>
            </a:r>
            <a:r>
              <a:rPr b="0" lang="ru-RU" sz="1600" spc="-1" strike="noStrike" u="sng">
                <a:solidFill>
                  <a:srgbClr val="fdfd17"/>
                </a:solidFill>
                <a:uFillTx/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8405-9E18-4245-93A4-2909C537E92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Группы поведенческих деви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1) в зависимости от масшта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2) по значению последств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3) по субъек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4) по объ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5) по дли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6) по типу нарушаемой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47AE-6095-4C5D-8B10-36D25FD82A5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ами отклоняющего поведения являются и вредные привычк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A45E-2BD9-4755-A0C8-F092D9B46E8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831-2801-4816-B15D-05A03754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407-0331-4AC2-8E8E-6F77526E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9BA-62E0-4193-8C19-9BF6F005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AD3-0B7C-47C8-8884-CE1A0918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3E54-D094-4BE7-BF01-544B3AB9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6AC3-A1E5-4886-9B17-31F861AA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117F-C812-417A-9F54-BA7AC4E8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48CD-0071-4B8D-8AE5-43F53247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CF49-52EC-4247-BCB3-0A82BF89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5110-9ACC-4B82-93B8-F11BB858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A2B0-9CF1-4380-9462-219B9B1D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85C-ADCE-4854-A2C1-C83ADEF1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D6F9-9347-4D6C-B894-C678992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D9AB-A64D-4A0F-8F2C-1344B1C0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A73B-A2AB-47AA-9A94-6401F89D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2B0E-B923-4109-BEA1-121D0F30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9D65-A3A1-4F11-9B7C-6957B3A2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C12-F195-43E0-ACAF-7053FD04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4DC-21B2-47C6-BC85-1681C803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3F0-9DFB-413F-B3AE-3D28B155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37C-AAF7-4AA2-ADF5-27FD0720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492-E72D-4391-A6C4-2CFF3791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C25-7BAD-46C2-AC4E-3F6852B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D85-B336-4FE2-9C20-2A536FC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FEAC-1459-4146-950E-00ABEFD494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A8DE-C95D-4AD6-8E17-EA48295E6F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У Афонькин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941880" cy="21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Вредные привычки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– это ряд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привычек, которые человек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начать приобретать еще в школьные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годы и от которых потом не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збавиться в течение всей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313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еступ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преступление"/>
          <p:cNvPicPr/>
          <p:nvPr/>
        </p:nvPicPr>
        <p:blipFill>
          <a:blip r:embed="rId1"/>
          <a:stretch/>
        </p:blipFill>
        <p:spPr>
          <a:xfrm>
            <a:off x="0" y="3716280"/>
            <a:ext cx="3203640" cy="31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Comic Sans MS"/>
              </a:rPr>
              <a:t>Алкоголиз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обрезка алкоголь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папа не 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ff"/>
                </a:solidFill>
                <a:uFillTx/>
                <a:latin typeface="Comic Sans MS"/>
              </a:rPr>
              <a:t>Нарком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0328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мания- болезнь, характеризующаяся непреодолимым влечением к наркот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8999640" y="4071960"/>
          <a:ext cx="14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99640" y="4071960"/>
                    <a:ext cx="14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5" descr="обрезка наркотики"/>
          <p:cNvPicPr/>
          <p:nvPr/>
        </p:nvPicPr>
        <p:blipFill>
          <a:blip r:embed="rId3"/>
          <a:stretch/>
        </p:blipFill>
        <p:spPr>
          <a:xfrm>
            <a:off x="0" y="3789360"/>
            <a:ext cx="349236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dru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64000" y="1412640"/>
            <a:ext cx="558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ть курить легко, а вот отвыкнуть от него очень трудн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4" descr="обрезка сигареты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1227071771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2804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юбая вредная привычка негативно сказывается на здоровь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61" descr="-4"/>
          <p:cNvPicPr/>
          <p:nvPr/>
        </p:nvPicPr>
        <p:blipFill>
          <a:blip r:embed="rId1"/>
          <a:stretch/>
        </p:blipFill>
        <p:spPr>
          <a:xfrm>
            <a:off x="0" y="2205000"/>
            <a:ext cx="327672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2" name="Picture 62" descr="8"/>
          <p:cNvPicPr/>
          <p:nvPr/>
        </p:nvPicPr>
        <p:blipFill>
          <a:blip r:embed="rId2"/>
          <a:stretch/>
        </p:blipFill>
        <p:spPr>
          <a:xfrm>
            <a:off x="3276720" y="2205000"/>
            <a:ext cx="2879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3" name="Picture 64" descr="обж"/>
          <p:cNvPicPr/>
          <p:nvPr/>
        </p:nvPicPr>
        <p:blipFill>
          <a:blip r:embed="rId3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234936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тклоняющееся поведение и здоровье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60325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ла Рамазанова Айгу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Горлова Вер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5564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Влияние курения на здоровье </a:t>
            </a:r>
            <a:br>
              <a:rPr sz="4000"/>
            </a:b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56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лияние алкоголя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x_52678af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5344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ff33"/>
                </a:solidFill>
                <a:uFillTx/>
                <a:latin typeface="Comic Sans MS"/>
              </a:rPr>
              <a:t>Влияние наркотиков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54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5800" cy="52578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ag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о я за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1" descr="я з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beregite-zdor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913800" cy="3529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Желаю всем крепкого вам здоровь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585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440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</a:t>
            </a:r>
            <a:r>
              <a:rPr b="1" lang="ru-RU" sz="6000" spc="-1" strike="noStrike" u="sng">
                <a:solidFill>
                  <a:srgbClr val="703dff"/>
                </a:solidFill>
                <a:uFillTx/>
                <a:latin typeface="Comic Sans MS"/>
              </a:rPr>
              <a:t>СПАСИБО ЗА ВНИМАНИЕ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201080" cy="5112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клоняющееся п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отклоняющего повед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х влияние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ff"/>
                </a:solidFill>
                <a:uFillTx/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7" descr="ris_2"/>
          <p:cNvPicPr/>
          <p:nvPr/>
        </p:nvPicPr>
        <p:blipFill>
          <a:blip r:embed="rId1"/>
          <a:stretch/>
        </p:blipFill>
        <p:spPr>
          <a:xfrm>
            <a:off x="0" y="1268280"/>
            <a:ext cx="824400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dfd17"/>
                </a:solidFill>
                <a:uFillTx/>
                <a:latin typeface="Comic Sans MS"/>
              </a:rPr>
              <a:t>Отклоняющееся </a:t>
            </a:r>
            <a:r>
              <a:rPr b="0" lang="ru-RU" sz="4800" spc="-1" strike="noStrike" u="sng">
                <a:solidFill>
                  <a:srgbClr val="fdfd17"/>
                </a:solidFill>
                <a:uFillTx/>
                <a:latin typeface="Comic Sans MS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23000" cy="4176720"/>
          </a:xfrm>
          <a:prstGeom prst="rect">
            <a:avLst/>
          </a:prstGeom>
          <a:solidFill>
            <a:srgbClr val="fdfd17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77" name="_s102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29"/>
            <p:cNvCxnSpPr>
              <a:stCxn id="181" idx="0"/>
              <a:endCxn id="17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3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Факторы,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особствующ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девиаци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сих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Группы поведенческих деви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33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) в зависимости от масштаб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) по значению последств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3) по субъект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4) по объек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5) по дли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6) по типу нарушаемой нор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337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Видами отклоняющего поведения являются и вредные привычк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8349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41:36Z</dcterms:created>
  <dc:creator>User</dc:creator>
  <dc:description/>
  <dc:language>en-US</dc:language>
  <cp:lastModifiedBy>LEGION</cp:lastModifiedBy>
  <dcterms:modified xsi:type="dcterms:W3CDTF">2015-05-12T09:03:12Z</dcterms:modified>
  <cp:revision>33</cp:revision>
  <dc:subject/>
  <dc:title>МОУ Афонькинская СОШ</dc:title>
</cp:coreProperties>
</file>