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38B8-8A36-4FC5-84A2-B4062A4B42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Афонькинская СО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D428-6E92-4DAA-AB44-F7A38914193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Calibri"/>
              </a:rPr>
              <a:t>Вредные привычки</a:t>
            </a:r>
            <a:r>
              <a:rPr b="0" lang="ru-RU" sz="1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– это ряд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привычек, которые человек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начать приобретать еще в школьные 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годы и от которых потом не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избавиться в течение всей жизн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6E07-EDDB-4FFC-9997-F1B5073C735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Пре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7B03-9295-478F-A6F8-E3F24B667C0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C25E-80DF-4F99-AA12-7E66AC983F1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alibri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- болезнь, характеризующаяся непреодолимым влечением к нарко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03D8-3C50-43BE-A093-7A8D4696440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ть курить легко, а вот отвыкнуть от него очень трудн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5431-F94D-4C58-AF77-F2AE17526B4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Любая вредная привычка негативно сказывается на здоровь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22A9-0971-4AD9-BE08-F765CB3E5A4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лоняющееся поведе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Рамазанова Айгу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:Горлова Вера Виктор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9C4A-CC56-4975-8C8A-3B3AA9ED898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Влияние курения на здоровье </a:t>
            </a:r>
            <a:br>
              <a:rPr sz="1800"/>
            </a:b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2CAB-CE78-4409-A8F3-A8436762EB1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4B2E-0031-47A2-A451-E90F59F7BD1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Calibri"/>
              </a:rPr>
              <a:t>Влияние алкоголя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E09F-DD33-45EA-8188-5EE60901584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5615-FA58-4FEA-9538-99167CE70D4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ff33"/>
                </a:solidFill>
                <a:uFillTx/>
                <a:latin typeface="Calibri"/>
              </a:rPr>
              <a:t>Влияние наркотиков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F909-7C85-45A0-8540-25C6BFF3EF5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9A3B-CD0F-4FFB-B007-63B43058D08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E2FA-0645-4132-8E15-8E939DB1EF1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Лично я за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9D06-12FD-4611-93EC-B19B75E6F7B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ю всем крепкого вам здоровь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F425-AFC8-4DC3-94EB-684855803C3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EBBE-7695-4DE4-B43C-1413E578DCC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тклоняющего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лияние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CAD0-CFE5-4A10-812F-BF253AB78C1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ff"/>
                </a:solidFill>
                <a:uFillTx/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58F5-E5F9-4B50-9470-21CE983A31B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dfd17"/>
                </a:solidFill>
                <a:uFillTx/>
                <a:latin typeface="Calibri"/>
              </a:rPr>
              <a:t>Отклоняющееся </a:t>
            </a:r>
            <a:r>
              <a:rPr b="0" lang="ru-RU" sz="1600" spc="-1" strike="noStrike" u="sng">
                <a:solidFill>
                  <a:srgbClr val="fdfd17"/>
                </a:solidFill>
                <a:uFillTx/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401E-01EF-489D-A835-C016523E196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Группы поведенческих деви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1) в зависимости от масшта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2) по значению последств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3) по субъек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4) по объек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5) по дли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6) по типу нарушаемой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6189-F672-48B7-9DCD-2812A08CC29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ами отклоняющего поведения являются и вредные привычк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783E-0EC7-416C-97C1-B4E196BFD80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9BD-D7FD-412D-88C2-E71BD7DC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69C-481A-45F7-9173-2EE17E9E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A02-5587-44BC-9CCE-D43FF80A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558-4F56-423D-A9FE-2DFE1949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0CC4-5C51-4399-80E2-CD13B9D4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4563-25A2-4E59-9BFF-FF26B717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AE3D-68E6-4E12-B62A-978D156F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190E-5298-4081-8163-9F51F124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0029-7AD8-466C-8071-D6111D4C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3239-92B4-4D8E-8547-EE07B026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59A9-84A2-4DE3-9120-7E3F3D12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E49-9B18-4C64-92F1-CB76D5A5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944E-3995-4E3D-AF7E-34C3B316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75DA-8B0D-4AF7-A1E7-BBDF879D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B1EA-71C3-4FDB-A53A-63EF37A4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B9AA-5EF7-4FB9-AD09-51E9E89B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82AA-4763-4F82-8CC4-43954C0B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563-69B9-4C6F-BE86-C58BDC6D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E25-5F88-4640-9FB6-38E045FC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282-E2A7-4176-BF66-D4BB3FBF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481-502D-48BE-8400-5322DB7F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003-85C8-47F7-BA80-64C17E08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697-8A0A-48E4-848E-E2DF366C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BB5-64F5-4B83-B4D6-B53D72D6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6DFE-9DD0-4B4E-9C09-90F21F9B02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DC2C-9B39-4304-82EB-E2B372987A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У Афонькинская СО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941880" cy="214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Вредные привычки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– это ряд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привычек, которые человек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начать приобретать еще в школьные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годы и от которых потом не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избавиться в течение всей жиз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696080" cy="3313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реступ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6" descr="преступление"/>
          <p:cNvPicPr/>
          <p:nvPr/>
        </p:nvPicPr>
        <p:blipFill>
          <a:blip r:embed="rId1"/>
          <a:stretch/>
        </p:blipFill>
        <p:spPr>
          <a:xfrm>
            <a:off x="0" y="3716280"/>
            <a:ext cx="3203640" cy="3141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76720" y="1125360"/>
            <a:ext cx="58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Comic Sans MS"/>
              </a:rPr>
              <a:t>Алкоголиз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59280" y="980640"/>
            <a:ext cx="608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обрезка алкоголь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папа не п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ff"/>
                </a:solidFill>
                <a:uFillTx/>
                <a:latin typeface="Comic Sans MS"/>
              </a:rPr>
              <a:t>Нарком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03280" y="1196640"/>
            <a:ext cx="59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мания- болезнь, характеризующаяся непреодолимым влечением к наркот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8999640" y="4071960"/>
          <a:ext cx="144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99640" y="4071960"/>
                    <a:ext cx="144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15" descr="обрезка наркотики"/>
          <p:cNvPicPr/>
          <p:nvPr/>
        </p:nvPicPr>
        <p:blipFill>
          <a:blip r:embed="rId3"/>
          <a:stretch/>
        </p:blipFill>
        <p:spPr>
          <a:xfrm>
            <a:off x="0" y="3789360"/>
            <a:ext cx="3492360" cy="30686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dru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Кур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64000" y="1412640"/>
            <a:ext cx="558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ать курить легко, а вот отвыкнуть от него очень трудно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4" descr="обрезка сигареты"/>
          <p:cNvPicPr/>
          <p:nvPr/>
        </p:nvPicPr>
        <p:blipFill>
          <a:blip r:embed="rId1"/>
          <a:stretch/>
        </p:blipFill>
        <p:spPr>
          <a:xfrm>
            <a:off x="0" y="3716280"/>
            <a:ext cx="3492360" cy="3141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1227071771_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728040" cy="17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Любая вредная привычка негативно сказывается на здоровь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61" descr="-4"/>
          <p:cNvPicPr/>
          <p:nvPr/>
        </p:nvPicPr>
        <p:blipFill>
          <a:blip r:embed="rId1"/>
          <a:stretch/>
        </p:blipFill>
        <p:spPr>
          <a:xfrm>
            <a:off x="0" y="2205000"/>
            <a:ext cx="327672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2" name="Picture 62" descr="8"/>
          <p:cNvPicPr/>
          <p:nvPr/>
        </p:nvPicPr>
        <p:blipFill>
          <a:blip r:embed="rId2"/>
          <a:stretch/>
        </p:blipFill>
        <p:spPr>
          <a:xfrm>
            <a:off x="3276720" y="2205000"/>
            <a:ext cx="2879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3" name="Picture 64" descr="обж"/>
          <p:cNvPicPr/>
          <p:nvPr/>
        </p:nvPicPr>
        <p:blipFill>
          <a:blip r:embed="rId3"/>
          <a:stretch/>
        </p:blipFill>
        <p:spPr>
          <a:xfrm>
            <a:off x="6156360" y="2205000"/>
            <a:ext cx="2987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2349360"/>
            <a:ext cx="6400800" cy="2232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Отклоняющееся поведение и здоровье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7280" y="4868640"/>
            <a:ext cx="603252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ла Рамазанова Айгу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ководитель:Горлова Вера Викторов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55640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Влияние курения на здоровье </a:t>
            </a:r>
            <a:br>
              <a:rPr sz="4000"/>
            </a:b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556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лияние алкоголя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x_52678af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35344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ff33"/>
                </a:solidFill>
                <a:uFillTx/>
                <a:latin typeface="Comic Sans MS"/>
              </a:rPr>
              <a:t>Влияние наркотиков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99ff33"/>
          </a:solidFill>
          <a:ln w="9360">
            <a:solidFill>
              <a:srgbClr val="0054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5800" cy="52578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image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869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ично я за здоров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11" descr="я з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beregite-zdor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6913800" cy="3529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Желаю всем крепкого вам здоровь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5856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440400" cy="287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</a:t>
            </a:r>
            <a:r>
              <a:rPr b="1" lang="ru-RU" sz="6000" spc="-1" strike="noStrike" u="sng">
                <a:solidFill>
                  <a:srgbClr val="703dff"/>
                </a:solidFill>
                <a:uFillTx/>
                <a:latin typeface="Comic Sans MS"/>
              </a:rPr>
              <a:t>СПАСИБО ЗА ВНИМАНИЕ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7201080" cy="51120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клоняющееся по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отклоняющего повед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х влияние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ff"/>
                </a:solidFill>
                <a:uFillTx/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7" descr="ris_2"/>
          <p:cNvPicPr/>
          <p:nvPr/>
        </p:nvPicPr>
        <p:blipFill>
          <a:blip r:embed="rId1"/>
          <a:stretch/>
        </p:blipFill>
        <p:spPr>
          <a:xfrm>
            <a:off x="0" y="1268280"/>
            <a:ext cx="8244000" cy="55897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dfd17"/>
                </a:solidFill>
                <a:uFillTx/>
                <a:latin typeface="Comic Sans MS"/>
              </a:rPr>
              <a:t>Отклоняющееся </a:t>
            </a:r>
            <a:r>
              <a:rPr b="0" lang="ru-RU" sz="4800" spc="-1" strike="noStrike" u="sng">
                <a:solidFill>
                  <a:srgbClr val="fdfd17"/>
                </a:solidFill>
                <a:uFillTx/>
                <a:latin typeface="Comic Sans MS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623000" cy="4176720"/>
          </a:xfrm>
          <a:prstGeom prst="rect">
            <a:avLst/>
          </a:prstGeom>
          <a:solidFill>
            <a:srgbClr val="fdfd17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Organization Chart 7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77" name="_s1028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29"/>
            <p:cNvCxnSpPr>
              <a:stCxn id="181" idx="0"/>
              <a:endCxn id="179" idx="2"/>
            </p:cNvCxnSpPr>
            <p:nvPr/>
          </p:nvCxnSpPr>
          <p:spPr>
            <a:xfrm flipV="1">
              <a:off x="4571280" y="2741760"/>
              <a:ext cx="396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3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Факторы,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пособствующ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девиации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Б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Псих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оц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Группы поведенческих девиац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33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1) в зависимости от масштаб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2) по значению последств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3) по субъект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4) по объект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5) по длитель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6) по типу нарушаемой норм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2637000"/>
            <a:ext cx="6400800" cy="337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Видами отклоняющего поведения являются и вредные привычки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83492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5:41:36Z</dcterms:created>
  <dc:creator>User</dc:creator>
  <dc:description/>
  <dc:language>en-US</dc:language>
  <cp:lastModifiedBy>LEGION</cp:lastModifiedBy>
  <dcterms:modified xsi:type="dcterms:W3CDTF">2015-05-12T09:03:12Z</dcterms:modified>
  <cp:revision>33</cp:revision>
  <dc:subject/>
  <dc:title>МОУ Афонькинская СОШ</dc:title>
</cp:coreProperties>
</file>