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42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1CB5-7C0D-4426-8AD1-45024CF9DD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е и плохи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E61A-8729-4653-AA19-4C9EA4DF6995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AC35-E364-45FB-B82B-9368594FC24A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чему сохраняют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вычки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88C-E7D6-4E04-9826-63252C93BCE6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5D20-D7F4-4EDB-B553-1F86E01CEE85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 подачи родителе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или в компании сверс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 не стоит недооценивать вред алкоголя для молодого организма, даже если он пока ограничивается только пивом или баночными коктей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8FC2-D987-44F1-9F5E-89B914D417F1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C76B-BE78-4D7F-9143-03780C6973D7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жив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коголь приводит к жировому перерождению клеток печени и нарушению синте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тамино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ферментов, белкового и углевод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 сладкие слабоалкогольные коктейли в баночках, очень популярные в подростковой среде — настоящая гремучая смесь из сахара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кофеин, негативно влияющий на нервную и сердечно-сосудистую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F304-E083-4C3F-B14F-F8A3F7665DE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дар по будущ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ксуальные контакты без контрацепции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AE79-74BF-49C4-AB1F-9E8D6956773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учиться формировать 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бя хорошие привыч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ставь режим дня и строго выполняй е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когда не приходи на занятия, не подготовивши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учи себя доводить начатое дело до конц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C7BF-D50B-409D-A6A0-FD7F848E1B04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я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54B8-1809-43A6-876F-CF289D2B87F6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2B38-FE26-4490-974B-039685D4903E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а — вторая натура (Аристотель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8FB7-0699-4FCC-B70D-2537EF3882FC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бывают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0FAA-DCAF-4F1A-A41D-CA768A9C4E7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к чтен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е выполнение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ное отношение к школьным принадлежност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класть вещи на свои ме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дорового образа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866D-FB23-4082-85B9-E078802C286B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7DF-D4A6-46D1-BA35-6C51E8CD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E14-6B9B-4725-A57A-FA40B72C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303-A5D8-4A00-A069-BEB3FB60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D4E-EFA6-4A66-BD5F-52114336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2209-AA1A-4FAE-94BB-F47F3A66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3F2E-39F6-4AA0-AC9D-94E3683F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B4F3-BFA1-4560-9144-11FCCC35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DE92-15C4-4824-9496-6D8CE954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69E9-8000-47CC-BA71-5426C65E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043-23B6-4C66-B06F-CBB7F763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5741-6B3A-486D-886E-C9F4D123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BDD-71BC-4A3F-8A47-286F6214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C532-4EAF-43E9-8426-0155462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DB3A-6C9A-4DE6-AEDF-8BFE7B8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BB2-66FB-4908-B8C9-4B4F25BD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5852-CBD3-47F3-A4A0-BA4474EA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52A0-8B31-4822-BDB1-7E920AFF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114-3EF7-4405-90C3-8E54FBEF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17E-A475-4A18-B51A-4A73271C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D9B-0E28-4059-AC19-E54C409E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6C1-2C2A-4F6A-B7F5-CCA18D90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29B-E516-471B-B13E-F2CBD7F6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9FE-19F5-4160-9212-B9BC1D2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EF2-F178-4AEB-A3D4-EB6A651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1A22-0E03-4957-B2D6-9CE4F31859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B405-E616-431B-88E7-27851E7A077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61&amp;is=0&amp;type=al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hyperlink" Target="http://www.takzdorovo.ru/privychki/glavnoe/kak-alkogol-vliyaet-na-organizm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80&amp;cf=80&amp;is=0&amp;type=al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glavnoe/kogda-gazirovka-ne-bezobidna" TargetMode="External"/><Relationship Id="rId2" Type="http://schemas.openxmlformats.org/officeDocument/2006/relationships/hyperlink" Target="http://www.takzdorovo.ru/pitanie/zhidkij-sahar" TargetMode="External"/><Relationship Id="rId3" Type="http://schemas.openxmlformats.org/officeDocument/2006/relationships/hyperlink" Target="http://www.takzdorovo.ru/pitanie/amerikanskie-vlasti-vzyalis-za-energetiki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yanye-podrostki-zabyvaut-predohranyatsya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180&amp;cf=187&amp;is=0&amp;type=al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0&amp;cf=1&amp;is=0&amp;type=a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go.mail.ru/frame.html?q=%F5%EE%F0%EE%F8%E8%E5%20%E8%20%E2%F0%E5%E4%ED%FB%E5%20%EF%F0%E8%E2%FB%F7%EA%E8&amp;rch=e&amp;jsa=1&amp;sf=100&amp;cf=118&amp;is=0&amp;type=all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go.mail.ru/frame.html?q=%F5%EE%F0%EE%F8%E8%E5%20%E8%20%E2%F0%E5%E4%ED%FB%E5%20%EF%F0%E8%E2%FB%F7%EA%E8&amp;rch=e&amp;jsa=1&amp;sf=60&amp;cf=63&amp;is=0&amp;type=all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go.mail.ru/frame.html?q=%F5%EE%F0%EE%F8%E8%E5%20%E8%20%E2%F0%E5%E4%ED%FB%E5%20%EF%F0%E8%E2%FB%F7%EA%E8&amp;rch=e&amp;jsa=1&amp;sf=360&amp;cf=360&amp;is=0&amp;type=all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74&amp;is=0&amp;type=al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go.mail.ru/frame.html?q=%F5%EE%F0%EE%F8%E8%E5%20%E8%20%E2%F0%E5%E4%ED%FB%E5%20%EF%F0%E8%E2%FB%F7%EA%E8&amp;rch=e&amp;jsa=1&amp;sf=420&amp;cf=433&amp;is=0&amp;type=all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frame.html?q=%F5%EE%F0%EE%F8%E8%E5%20%E8%20%E2%F0%E5%E4%ED%FB%E5%20%EF%F0%E8%E2%FB%F7%EA%E8&amp;rch=e&amp;jsa=1&amp;sf=260&amp;cf=279&amp;is=0&amp;type=al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Хорошие и плохие привыч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852640"/>
            <a:ext cx="2306880" cy="180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scadeFoto"/>
          <p:cNvPicPr/>
          <p:nvPr/>
        </p:nvPicPr>
        <p:blipFill>
          <a:blip r:embed="rId3"/>
          <a:stretch/>
        </p:blipFill>
        <p:spPr>
          <a:xfrm>
            <a:off x="1476360" y="328464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Вредные привычки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4" descr="1236090889_Obama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797360"/>
            <a:ext cx="2011320" cy="1684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очему сохраняются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привычки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036880" cy="161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Куре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25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19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96920" cy="2995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с подачи родителей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или в компании сверстник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о не стоит недооценивать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вред алкоголя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для молодого организма, даже если он пока ограничивается только пивом или баночными коктейлям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5" descr="Вред алкоголя для  молодого организма"/>
          <p:cNvPicPr/>
          <p:nvPr/>
        </p:nvPicPr>
        <p:blipFill>
          <a:blip r:embed="rId3"/>
          <a:stretch/>
        </p:blipFill>
        <p:spPr>
          <a:xfrm>
            <a:off x="3780000" y="3789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Verdana"/>
              </a:rPr>
              <a:t>Удар в мозг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5" descr="16142179_12520464_yepikmo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5229360"/>
            <a:ext cx="20052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ffffff"/>
                </a:solidFill>
                <a:uFillTx/>
                <a:latin typeface="Verdana"/>
              </a:rPr>
              <a:t>Удар в живо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лкоголь приводит к жировому перерождению клеток печени и нарушению синтеза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итаминов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ферментов, белкового и углеводного обмена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 сладкие слабоалкогольные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коктейли в баночках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очень популярные в подростковой среде — настоящая гремучая смесь из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сахара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кофеин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негативно влияющий на нервную и сердечно-сосудистую системы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7596360" y="907920"/>
            <a:ext cx="1390320" cy="9334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дар по будущем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Сексуальные контакты </a:t>
            </a:r>
            <a:r>
              <a:rPr b="0" lang="ru-RU" sz="15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без контрацепции</a:t>
            </a: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Verdana"/>
              </a:rPr>
              <a:t>Все остальное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1428840" cy="100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93644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7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Как научиться формировать у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себя хорошие привычки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1. Составь режим дня и строго выполняй его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2. Никогда не приходи на занятия, не подготовившись к ним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3. Приучи себя доводить начатое дело до конца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9" descr="52079108_1260103944_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18900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60280"/>
            <a:ext cx="2346120" cy="18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2479680" cy="2049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Твоя жизнь…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2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2713320" cy="20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"/>
          <p:cNvPicPr/>
          <p:nvPr/>
        </p:nvPicPr>
        <p:blipFill>
          <a:blip r:embed="rId5"/>
          <a:stretch/>
        </p:blipFill>
        <p:spPr>
          <a:xfrm>
            <a:off x="3492360" y="1844640"/>
            <a:ext cx="2156040" cy="1625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6"/>
          <a:stretch/>
        </p:blipFill>
        <p:spPr>
          <a:xfrm>
            <a:off x="5651640" y="3645000"/>
            <a:ext cx="2587320" cy="2587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Что такое привычка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•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вычка — вторая натура (Аристотель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5" descr="pivichk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916280"/>
            <a:ext cx="1523880" cy="11905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Какие бывают привычки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210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2000520" cy="301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80008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673360" cy="201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533680" cy="190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6"/>
          <a:stretch/>
        </p:blipFill>
        <p:spPr>
          <a:xfrm>
            <a:off x="5724360" y="4437000"/>
            <a:ext cx="283212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001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юбовь к чтению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куратное выполнение домашнего задани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режное отношение к школьным принадлежностя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режима дн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ычка класть вещи на свои мес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здорового образа жизн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2451240" cy="169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Школьные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ривычки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1863720" cy="249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666800" cy="25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e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620640"/>
            <a:ext cx="2825640" cy="21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ojire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284640"/>
            <a:ext cx="20703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s000137_6744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3640" y="3429000"/>
            <a:ext cx="2227320" cy="1865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9"/>
          <a:stretch/>
        </p:blipFill>
        <p:spPr>
          <a:xfrm>
            <a:off x="5940360" y="4221000"/>
            <a:ext cx="27320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1908000" y="5229360"/>
            <a:ext cx="952560" cy="1409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76c894cd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2166840" cy="21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044-0771%5B159079%5D(209x220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981000"/>
            <a:ext cx="2019240" cy="21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2555640" cy="185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6"/>
          <a:stretch/>
        </p:blipFill>
        <p:spPr>
          <a:xfrm>
            <a:off x="3203640" y="404640"/>
            <a:ext cx="2814480" cy="210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7"/>
          <a:stretch/>
        </p:blipFill>
        <p:spPr>
          <a:xfrm>
            <a:off x="4788000" y="3716280"/>
            <a:ext cx="2828880" cy="21319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3124080" cy="166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243216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98288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2408400" cy="179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5867280" y="3141720"/>
            <a:ext cx="2678400" cy="183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2428920" cy="161928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34:28Z</dcterms:created>
  <dc:creator>User</dc:creator>
  <dc:description/>
  <dc:language>en-US</dc:language>
  <cp:lastModifiedBy>LEGION</cp:lastModifiedBy>
  <dcterms:modified xsi:type="dcterms:W3CDTF">2015-05-12T09:03:44Z</dcterms:modified>
  <cp:revision>8</cp:revision>
  <dc:subject/>
  <dc:title>Хорошие и плохие привычки</dc:title>
</cp:coreProperties>
</file>