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42.png" ContentType="image/png"/>
  <Override PartName="/ppt/media/image2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D7A1-C2F6-45DA-90F3-EAF325C3FB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е и плохи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EA6B-E7BA-4F19-AAFE-C5BECE3557D4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B09E-1515-4558-AF6C-19C0B82D46A9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чему сохраняют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ивычки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47E6-520D-4C7E-BDEA-35970CF95FC9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7604-4559-47AC-89CF-23A9F24ADEFB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 подачи родителе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или в компании сверс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 не стоит недооценивать вред алкоголя для молодого организма, даже если он пока ограничивается только пивом или баночными коктей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E1C1-004D-413F-90EC-B6691631C5BE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960F-665B-4B43-991E-22D3CD955D42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жив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лкоголь приводит к жировому перерождению клеток печени и нарушению синте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тамино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ферментов, белкового и углевод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 сладкие слабоалкогольные коктейли в баночках, очень популярные в подростковой среде — настоящая гремучая смесь из сахара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кофеин, негативно влияющий на нервную и сердечно-сосудистую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98E4-DCEC-4F89-BAD7-1B66B3BB8975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Удар по будуще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ксуальные контакты без контрацепции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17B8-7937-48FA-9DA7-6C079EABBC40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научиться формировать 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бя хорошие привычк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ставь режим дня и строго выполняй е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когда не приходи на занятия, не подготовившись к ни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учи себя доводить начатое дело до конц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A45B-C4EC-4B27-A2F2-EC469A64CF5C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я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FD79-81DD-427E-A36F-7D82283A3750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71FA-7D48-4D35-B075-160017E980C2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а — вторая натура (Аристотель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DBFF-5E8C-40C4-9AAB-2C76D4CD3200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бывают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42CB-7F89-4148-A30B-90FD9A5853DC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ьн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к чтен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е выполнение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ное отношение к школьным принадлежност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класть вещи на свои ме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дорового образа жи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243E-B8A3-4DDD-8858-801DDCCB9562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254-707F-4861-9049-48287B5C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B29-41C6-4632-985B-A578F6B7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11FA-D195-47CB-8D50-A010ED90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5DD-5459-47D7-A2BD-0B7F3C48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44E6-B75B-415C-BD54-E4077AE4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E3D7-A9D6-4555-A784-B6986552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D2E6-FF3A-4DCA-9F72-3E530D74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C057-BFD3-491F-9158-96380B19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997C-C86A-4F03-8F95-70ABCE9D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DD47-B814-4396-9E9C-20C5D0F5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133B-A90E-4073-A50D-DE7972D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A6A-0676-47F2-8DEC-5F8327F3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F43B-416A-4B8A-BFA4-7C607ADB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BAF1-C8C4-45A0-B86A-1EE6F75E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4DB3-AC9D-435C-B1F3-81CD138B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3EC0-102B-4AF7-802D-87D9EFC6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2B89-AC29-4A3B-A215-8564A541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15F-BE1A-45FA-B003-318278A7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874-8822-456D-97A1-82F2D545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562-D81D-453E-99F3-D98FD488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83B-56F1-4409-929F-A48F1579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1DE-962B-442C-BEF6-5C0334F7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534-8F53-46AE-AA08-EC9930DC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630-766C-4A1A-8768-EF4AF20E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BEB3-5245-4C78-8F08-A09C7E4072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7AFB-5CD4-4870-A21B-BA6F25BD9A7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61&amp;is=0&amp;type=all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hyperlink" Target="http://www.takzdorovo.ru/privychki/glavnoe/kak-alkogol-vliyaet-na-organizm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80&amp;cf=80&amp;is=0&amp;type=all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glavnoe/kogda-gazirovka-ne-bezobidna" TargetMode="External"/><Relationship Id="rId2" Type="http://schemas.openxmlformats.org/officeDocument/2006/relationships/hyperlink" Target="http://www.takzdorovo.ru/pitanie/zhidkij-sahar" TargetMode="External"/><Relationship Id="rId3" Type="http://schemas.openxmlformats.org/officeDocument/2006/relationships/hyperlink" Target="http://www.takzdorovo.ru/pitanie/amerikanskie-vlasti-vzyalis-za-energetiki" TargetMode="External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yanye-podrostki-zabyvaut-predohranyatsya" TargetMode="Externa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180&amp;cf=187&amp;is=0&amp;type=all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0&amp;cf=1&amp;is=0&amp;type=al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go.mail.ru/frame.html?q=%F5%EE%F0%EE%F8%E8%E5%20%E8%20%E2%F0%E5%E4%ED%FB%E5%20%EF%F0%E8%E2%FB%F7%EA%E8&amp;rch=e&amp;jsa=1&amp;sf=100&amp;cf=118&amp;is=0&amp;type=all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go.mail.ru/frame.html?q=%F5%EE%F0%EE%F8%E8%E5%20%E8%20%E2%F0%E5%E4%ED%FB%E5%20%EF%F0%E8%E2%FB%F7%EA%E8&amp;rch=e&amp;jsa=1&amp;sf=60&amp;cf=63&amp;is=0&amp;type=all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go.mail.ru/frame.html?q=%F5%EE%F0%EE%F8%E8%E5%20%E8%20%E2%F0%E5%E4%ED%FB%E5%20%EF%F0%E8%E2%FB%F7%EA%E8&amp;rch=e&amp;jsa=1&amp;sf=360&amp;cf=360&amp;is=0&amp;type=all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74&amp;is=0&amp;type=all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go.mail.ru/frame.html?q=%F5%EE%F0%EE%F8%E8%E5%20%E8%20%E2%F0%E5%E4%ED%FB%E5%20%EF%F0%E8%E2%FB%F7%EA%E8&amp;rch=e&amp;jsa=1&amp;sf=420&amp;cf=433&amp;is=0&amp;type=all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go.mail.ru/frame.html?q=%F5%EE%F0%EE%F8%E8%E5%20%E8%20%E2%F0%E5%E4%ED%FB%E5%20%EF%F0%E8%E2%FB%F7%EA%E8&amp;rch=e&amp;jsa=1&amp;sf=260&amp;cf=279&amp;is=0&amp;type=all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Хорошие и плохие привычк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852640"/>
            <a:ext cx="2306880" cy="180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ascadeFoto"/>
          <p:cNvPicPr/>
          <p:nvPr/>
        </p:nvPicPr>
        <p:blipFill>
          <a:blip r:embed="rId3"/>
          <a:stretch/>
        </p:blipFill>
        <p:spPr>
          <a:xfrm>
            <a:off x="1476360" y="328464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Вредные привычки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4" descr="1236090889_Obama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797360"/>
            <a:ext cx="2011320" cy="1684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очему сохраняются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 привычки?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036880" cy="161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Курение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256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19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996920" cy="2995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лкогол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с подачи родителей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или в компании сверстников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о не стоит недооценивать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вред алкоголя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для молодого организма, даже если он пока ограничивается только пивом или баночными коктейлями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5" descr="Вред алкоголя для  молодого организма"/>
          <p:cNvPicPr/>
          <p:nvPr/>
        </p:nvPicPr>
        <p:blipFill>
          <a:blip r:embed="rId3"/>
          <a:stretch/>
        </p:blipFill>
        <p:spPr>
          <a:xfrm>
            <a:off x="3780000" y="37893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Verdana"/>
              </a:rPr>
              <a:t>Удар в мозг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5" descr="16142179_12520464_yepikmo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5229360"/>
            <a:ext cx="2005200" cy="11523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ffffff"/>
                </a:solidFill>
                <a:uFillTx/>
                <a:latin typeface="Verdana"/>
              </a:rPr>
              <a:t>Удар в живот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лкоголь приводит к жировому перерождению клеток печени и нарушению синтеза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итаминов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ферментов, белкового и углеводного обмена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 сладкие слабоалкогольные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коктейли в баночках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очень популярные в подростковой среде — настоящая гремучая смесь из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сахара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кофеин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негативно влияющий на нервную и сердечно-сосудистую системы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7596360" y="907920"/>
            <a:ext cx="1390320" cy="9334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Удар по будущем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Сексуальные контакты </a:t>
            </a:r>
            <a:r>
              <a:rPr b="0" lang="ru-RU" sz="15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без контрацепции</a:t>
            </a: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ffff"/>
                </a:solidFill>
                <a:uFillTx/>
                <a:latin typeface="Verdana"/>
              </a:rPr>
              <a:t>Все остальное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1428840" cy="100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936440" cy="1295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7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Как научиться формировать у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себя хорошие привычки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1. Составь режим дня и строго выполняй его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2. Никогда не приходи на занятия, не подготовившись к ним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3. Приучи себя доводить начатое дело до конца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9" descr="52079108_1260103944_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18900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60280"/>
            <a:ext cx="2346120" cy="183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2479680" cy="2049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Твоя жизнь…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22" descr=""/>
          <p:cNvPicPr/>
          <p:nvPr/>
        </p:nvPicPr>
        <p:blipFill>
          <a:blip r:embed="rId4"/>
          <a:stretch/>
        </p:blipFill>
        <p:spPr>
          <a:xfrm>
            <a:off x="1547640" y="4076640"/>
            <a:ext cx="2713320" cy="20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"/>
          <p:cNvPicPr/>
          <p:nvPr/>
        </p:nvPicPr>
        <p:blipFill>
          <a:blip r:embed="rId5"/>
          <a:stretch/>
        </p:blipFill>
        <p:spPr>
          <a:xfrm>
            <a:off x="3492360" y="1844640"/>
            <a:ext cx="2156040" cy="1625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"/>
          <p:cNvPicPr/>
          <p:nvPr/>
        </p:nvPicPr>
        <p:blipFill>
          <a:blip r:embed="rId6"/>
          <a:stretch/>
        </p:blipFill>
        <p:spPr>
          <a:xfrm>
            <a:off x="5651640" y="3645000"/>
            <a:ext cx="2587320" cy="2587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Что такое привычка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259920"/>
            <a:ext cx="8001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•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вычка — вторая натура (Аристотель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5" descr="pivichki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916280"/>
            <a:ext cx="1523880" cy="11905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Какие бывают привычки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305080" cy="2108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2000520" cy="3011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2800080" cy="210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2673360" cy="201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5"/>
          <a:stretch/>
        </p:blipFill>
        <p:spPr>
          <a:xfrm>
            <a:off x="3492360" y="2781360"/>
            <a:ext cx="2533680" cy="190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6"/>
          <a:stretch/>
        </p:blipFill>
        <p:spPr>
          <a:xfrm>
            <a:off x="5724360" y="4437000"/>
            <a:ext cx="2832120" cy="20019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001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юбовь к чтению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куратное выполнение домашнего задани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ережное отношение к школьным принадлежностя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режима дн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вычка класть вещи на свои мес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здорового образа жизн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2451240" cy="169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Школьные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ривычки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1863720" cy="249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666800" cy="251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re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620640"/>
            <a:ext cx="2825640" cy="21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ojiren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284640"/>
            <a:ext cx="207036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s000137_6744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03640" y="3429000"/>
            <a:ext cx="2227320" cy="1865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9"/>
          <a:stretch/>
        </p:blipFill>
        <p:spPr>
          <a:xfrm>
            <a:off x="5940360" y="4221000"/>
            <a:ext cx="273204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10"/>
          <a:stretch/>
        </p:blipFill>
        <p:spPr>
          <a:xfrm>
            <a:off x="1908000" y="5229360"/>
            <a:ext cx="952560" cy="1409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76c894cd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97000"/>
            <a:ext cx="2166840" cy="21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4044-0771%5B159079%5D(209x220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981000"/>
            <a:ext cx="2019240" cy="212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5"/>
          <a:stretch/>
        </p:blipFill>
        <p:spPr>
          <a:xfrm>
            <a:off x="971640" y="4221000"/>
            <a:ext cx="2555640" cy="185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6"/>
          <a:stretch/>
        </p:blipFill>
        <p:spPr>
          <a:xfrm>
            <a:off x="3203640" y="404640"/>
            <a:ext cx="2814480" cy="210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7"/>
          <a:stretch/>
        </p:blipFill>
        <p:spPr>
          <a:xfrm>
            <a:off x="4788000" y="3716280"/>
            <a:ext cx="2828880" cy="21319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3124080" cy="1665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76280"/>
            <a:ext cx="2432160" cy="23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3635280" y="333360"/>
            <a:ext cx="198288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5"/>
          <a:stretch/>
        </p:blipFill>
        <p:spPr>
          <a:xfrm>
            <a:off x="6084720" y="836640"/>
            <a:ext cx="2408400" cy="179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6"/>
          <a:stretch/>
        </p:blipFill>
        <p:spPr>
          <a:xfrm>
            <a:off x="5867280" y="3141720"/>
            <a:ext cx="2678400" cy="1830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2428920" cy="161928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34:28Z</dcterms:created>
  <dc:creator>User</dc:creator>
  <dc:description/>
  <dc:language>en-US</dc:language>
  <cp:lastModifiedBy>LEGION</cp:lastModifiedBy>
  <dcterms:modified xsi:type="dcterms:W3CDTF">2015-05-12T09:03:44Z</dcterms:modified>
  <cp:revision>8</cp:revision>
  <dc:subject/>
  <dc:title>Хорошие и плохие привычки</dc:title>
</cp:coreProperties>
</file>