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4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6.wmf" ContentType="image/x-wmf"/>
  <Override PartName="/ppt/media/image19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</p:sldMasterIdLst>
  <p:notesMasterIdLst>
    <p:notesMasterId r:id="rId58"/>
  </p:notes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notesMaster" Target="notesMasters/notesMaster1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dt" idx="1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ftr" idx="1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 type="sldNum" idx="1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FB97-506D-4B46-A84A-068A57FEB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" Target="../slides/slide22.xml"/><Relationship Id="rId7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" Target="../slides/slide23.xml"/><Relationship Id="rId5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net196.soes.ru/" TargetMode="External"/><Relationship Id="rId2" Type="http://schemas.openxmlformats.org/officeDocument/2006/relationships/hyperlink" Target="http://www.bestreferat.ru/" TargetMode="External"/><Relationship Id="rId3" Type="http://schemas.openxmlformats.org/officeDocument/2006/relationships/hyperlink" Target="http://www.baby.com.ua/" TargetMode="External"/><Relationship Id="rId4" Type="http://schemas.openxmlformats.org/officeDocument/2006/relationships/hyperlink" Target="http://www.le-mon.ru/" TargetMode="External"/><Relationship Id="rId5" Type="http://schemas.openxmlformats.org/officeDocument/2006/relationships/hyperlink" Target="http://www.add.net.ru/" TargetMode="External"/><Relationship Id="rId6" Type="http://schemas.openxmlformats.org/officeDocument/2006/relationships/hyperlink" Target="http://www.med.resourse.ru/" TargetMode="External"/><Relationship Id="rId7" Type="http://schemas.openxmlformats.org/officeDocument/2006/relationships/hyperlink" Target="http://www.djv.ru/" TargetMode="External"/><Relationship Id="rId8" Type="http://schemas.openxmlformats.org/officeDocument/2006/relationships/slide" Target="../slides/slide24.xml"/><Relationship Id="rId9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" Target="../slides/slide5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337-5848-47C6-AB8A-DE1C507A39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диктивное поведение учащих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блемы диагностики склонности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 вредным привы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Какие бывают аддик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фармакологические (химические)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висимость от психоактивных веществ (ПА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субстанциональные –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пище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висимости говорят сами з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98F2-D10B-4914-AE2D-EF15BE04C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33399"/>
                </a:solidFill>
                <a:latin typeface="Arial"/>
              </a:rPr>
              <a:t>Какие вещества, предметы или действия могут быть предметом аддикции 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ки, алкоголь, таба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артные игры(включая компьютер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е прослушивание ритмичной музы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7E1-77AF-45E1-B94E-811CA1268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когольная адди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Одна из форм фармакологических или химически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B91B-63B2-48BB-92CA-48A14ABAC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4215"/>
                </a:solidFill>
                <a:latin typeface="Arial"/>
              </a:rPr>
              <a:t>Наркотическая аддикц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ые состояния, характеризующиеся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ческой и физ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и, настоятельно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ой потре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вторном потреблении П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ми призн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 или лекар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обладают 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го действи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ую нерв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имулируют, вы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йфорию, изменяют восприятие окружающего мир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FA44-8F31-48C1-A7D7-CB2780A81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карственная аддик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дром, развивающийся при употреблении психотроп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; характеризуется патал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ческой потребностью в при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х веществ для того, чт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жать развития абстин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психических нарушени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я дискомфорта, возника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х при прекращении их при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при введении антагон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х веществ. К ним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медрол, феназепам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13B9-6867-4F07-A526-32A16FDFC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абако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табака - один из наиболее распространенных ви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мании, охватывающий большое количество люде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ийся поэтому бытовой наркоманией. Дымящая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арета доставляет привычному курильщику удоволь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стро ощущается потребность в курени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я пищи, во время выпивки, при отриц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ях и во время напряженной работы. При этом с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ыхаемый никотин не оказывает какого-либо положи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го действия на организм. Сигарета является больше отв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ющим фактором:переключение сознания на неё помог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двинуть неприятные мысли, прервать тяжел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курение облегчает контакт между людьми, явл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ся хорошим предлогом для знаком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7CE3-A16A-47BC-8F9C-74107440B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кси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комания развивается в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употреблением лекар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 и веществ, не отнес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ркотическим, но также измен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щих психическое состоя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и его поведение. Диап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 с токсиколог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м очень широк – от м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нтов (аналгетики, транквил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ры, снотворные, стимуля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до технических раствор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редств бытов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CF37-D215-4AE6-BC57-CABF22891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ерение лишить себя жизни, повышенный риск со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ния самоубийства. Эта форма отклоняющегося пове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я пассивного типа является способом ухода от не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ых проблем.Идея может стать навязчивой и прев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ься в аддикцию. Суициды в большей степени характ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 для высокоразвитых стран, и сегодня существует т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ция к увеличению их числа. Суицид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ременные циклы: весенне -летний пик и осенн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й спад. Количество самоубийств возрастает во в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 и снижается в среду-четверг.Чаще совершаются в во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 после 55 и до 20 лет.Соотношение между мужч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енщинами-самоубийцами примерно 4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501D-ABB2-48E0-AF85-2851BEA29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уд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голизм, в отличие от мно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зависимостей,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одобряемой адди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самом деле трудоголик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личность с определенными психологическими проб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и.Трудоголиком может стать и лентяй, дни и н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иживающий на работе во время домашних неуря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ом психологического дискомфорта, психолог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кой травмы чаще всего бывает реально пережи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мнимый страх:боязнь неудачи, страх перед одино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ом или, напротив, боязнь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BCE0-2DE1-4B0E-A12B-FEE2F649D5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ищевы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им относятся такие пс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ческие расстройства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имия (перееда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рексия (добров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пищи)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ая зависимость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 только перееда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лодание,но и завис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вкуса:от вкуса коф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лада, сливок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6D96-2AF0-4F38-8030-EF9B23335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могут нами закрыться, мы ими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.П.Аста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6014-2827-4784-8F13-8F4AE4DF3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громания и компьютер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проблем соврем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новая для педагог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–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громания и  компь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ерная зависимост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ув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ьютерными играми, интерне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ми, игровыми автоматами, азартными иг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омания – увлечение или болезнь? Психиатры ут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дают – игромания лечится, но бороться с зависим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на ранней стадии.Болезнь начинается с привяз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к компьютерным играм, которая превращ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алогию.Игра – это взаимодействие. И не важно с кем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юдьми, компьютером или же с самим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B236-56F5-479D-B3CA-4279FD8AC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Проблемы компьютер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A1BE-D605-4335-9B62-4582F66782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амятка для родителей по использованию компьютера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играть в компьютерные игры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аждые 20-30 минут работы на компьютере необходимо делать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работать на компьютере более 1,5-2 часов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15FE-98E5-413C-BCA6-671EB3F24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Компьютер-мясорубка для информации. 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Компьютер-это резонатор того интеллекта,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с которым человек к нему обращ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какие именно Интернет - сайты посещает ваш реб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983F-CA9C-49E8-B24D-1EE8403AB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0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3115-7B79-4A3B-BA8F-1119373E43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 воспитать у ребенка положительные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Перв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научить ребенка осознавать, что без неё жизнь превращается в катастроф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Второ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Треть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5D4D-41D0-4F99-8DC8-0FC6567EA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Четвертое правило.</a:t>
            </a:r>
            <a:r>
              <a:rPr b="0" lang="ru-RU" sz="1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Пят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60C3-9F54-4BB4-8EDA-5566EE41B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Желаем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 преодолении вредных привы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зависимостей ( аддикци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воспитании положи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мысл притягивает, комплекс толкает».(Франк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-это не притяжение, это тол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кание изнутри собственным страхом подростк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м перед реальностью.Помогите ребен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ься от своих страх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48F3-75E5-43A6-A0A1-94EC240C3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Что такое привы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E3FB-680B-47D5-9DE1-5662ECE7B4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Юм Давид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Э.А.Севрус (Ворохов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7BF2-9AF6-4F41-97CD-32BC59B59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Так ли безобидны детские «безобидные»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о лжи?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едничество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сивость?                     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вчивость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в азартные игры?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цельное гуляние?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мобильными телефо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жание героям фильм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японскими мультик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эротическим рисункам и фильм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A23E-972A-460E-B7CE-0101D8D7D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диктивное поведени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уть аддиктивного поведения заключ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ли видах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F3F4-ED0C-4A16-B34B-DFB858E88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99"/>
                </a:solidFill>
                <a:latin typeface="Arial"/>
              </a:rPr>
              <a:t>Что происходит с психикой человека, склонного к аддикц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F81-DFAD-4D1C-AC87-04111DC79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то склонен к аддикция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786E-2E56-4DA5-BB0A-F085F38C8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С чем связано аддиктивное        по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FDF1-6102-4F7A-8AF2-ACE0DEB11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088-4F28-4BF7-9C4D-A57D4499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E01-C9EE-44B9-90CC-D59ABF7C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03CD7-B3FE-4D39-AE54-A1CAA0FE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51886-F569-417B-9B83-58A5AA53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5DFD7-DDC7-4E33-B945-F35F968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FE99F-26A2-49FC-B0A7-7810927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B09BD-F8F9-4102-B68A-9F76899F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1545D-CE18-41D2-BEED-9682DFCE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9737F-4816-439C-8155-E653C9D0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75C89-3E54-4B4D-820F-C2C3C9D6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E0EBA-A234-4879-82F0-7669657B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79AA0-0736-4ECB-8D45-342254D8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E4D-8014-4D80-BDF4-B53D0310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2555D-A94E-4814-890B-C19F5BF9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83BEB-C37B-4CA7-92EB-02B88C8C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A87E9-C61B-46D3-B960-7915345B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B1BA4-C63C-4FE7-9D95-411792C4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6730B-A971-4B55-830A-25D2160C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76672-C4DD-4058-8E16-C5415D1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9B7EA-8522-4BCF-B00D-8D25F06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0015D-F0E1-4685-B757-2B2A536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8DD58-D537-48DC-9598-CD15E285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5AE55-638E-44F2-A8F9-169AC83D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B29-B019-45E9-87D6-19B8C96F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D3BE9-F1E6-4803-B06D-514B5874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DBD87-6616-4359-90F5-09D9DB33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E2637-3B9C-4A42-9F19-C1C8C28C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FA6EC-C2E1-48BE-B0E0-B0351A3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F4ABE-5F9D-4C19-9ED2-89267E2F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23F4D-F8F0-476D-B220-AF07F0D8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F2B75-6AD3-4079-930A-12D5FFE4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2E2D2-97FF-41CF-AB72-9EA07D31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4B872-AD4A-40EE-BC38-E2A0375E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4AADF-0666-47B9-AF21-943724A8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B39A-0237-4A29-9CC3-2E823E87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E7972-0E0A-4627-BB04-5E176936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B246F-78D6-4BB7-9790-B5E4A71F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9F9A4-9BF9-4E60-9216-86526290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AFB99-6721-456D-9393-98FDE4FE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61BF5-8C46-4C86-8230-A66BC51F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A056C-A390-41F5-9792-598FD049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E1F39-2824-4974-BC36-D71F6FD5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91609-E9CC-4E79-B4BB-2B91003C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AEF8C-1638-4914-B1BF-4308838A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B309D-494A-49CE-BBAB-E9DD91B1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6CC3-18D1-4EB5-AEB4-3772121D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BE4D4-1BEA-4ACF-A8A7-3F84EF54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22C8B-AF1C-45BF-B08C-14856708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681C8-7172-4DFB-817C-11B5EEDD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FF40F-9747-49E5-9CFD-E53F44C1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0EA19-05E4-4A5E-AC4C-68F404DE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779A0-35BC-4CED-9481-B72642C8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D100B-05A8-4C14-98E3-223F9A39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C94A2-1D51-42D1-9C1D-0AC3F10E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ABF31-9A47-4706-919E-E57AF32B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21722-E1D2-45E1-84BD-2B28D61C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83CF-3BA6-48F3-A7F2-131F5E59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86779D-0987-4A24-8A74-C485EB7F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194F4-56C3-442F-9482-A41B327F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5DFBB-1345-4AD2-84E0-E7FE52BE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4E95E-8B68-4A02-B584-92BCB08D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74D2E-E111-4284-9605-2E0E0337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2902F-ECC4-4289-81CF-39403CB0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D860E-9117-4CDA-B939-BADA662C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0E79C-FC05-49AC-8F3C-F4BAECA8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93D6F-2104-4BBC-8AE7-2166C65C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92F59-62A8-453B-8A10-F3E67372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53FD-BACC-4B09-8DC8-6BA19591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5B10D-557C-4517-8D40-999ECD99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D6F3A-183E-4EFD-A0A3-432735D4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2DBEE-4184-4C59-A12E-1D690A48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C3C2C-CB6F-48F2-B440-5267F1AA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EA37F-1AC1-4A19-A396-5A2273D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D8C37-F52E-43E7-84C9-69ABAA0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3E0BD-79E7-4510-8586-0075A173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9C50F-1A75-4763-8A69-424DD94F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281F3-7AA7-4F9E-8A13-D08D891B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627F1F-430C-4959-94CE-086FADE5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F353-85D4-4646-9661-C5E4D447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E108E-AB39-4B1F-8885-07ED5589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EF71A-D1EA-441D-85FD-9D103097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CAA35-7150-4796-8EB3-A2925ADE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783ED-C80E-4CEC-9C5B-380DF854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7160F-A454-435F-A606-19D29E49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F6F45-A21A-448F-805F-60D767A8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6260C-A651-4DA7-BB48-E96D62C2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F1882-7C39-468F-935D-9C587AC5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90EFC-5B1C-44DD-A53A-9D56DAB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39CDD-9BF8-4666-9108-D5591FBF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1C8B-0FED-4D2A-A0EE-AC4652B9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5ECA0-92D0-4970-A21F-2E924EF9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22436-8628-469A-B8DF-36B23E26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B1D5A4-1128-4E28-A6A7-92DE645C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73D93-B2D4-496A-B509-2AA5DD8C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045A4E-3433-412F-974C-5290A08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72363-7A2E-4885-A9AF-B149907B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6C2611-0423-4587-A975-E2761DB1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ACFCC-5233-49AB-8EA5-0557033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1B430-66FB-438C-81AA-EEFD52A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CB31A-5B61-41F2-9FED-AEAAE67E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E202-186B-4007-BA06-61590C9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80B78-DFF1-4E87-A54A-7F5BB843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8CF47-F0C5-4DB9-B927-82FB6751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96C1D-4521-40CA-BDF4-4F420151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E146E-C574-4FAF-A155-170812B9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6FE39D-325B-4609-AEE8-3578CA94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67CDA-30A9-4B10-BF05-9BF63DB5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4F3782-AC68-4C95-8310-C35EB63F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F6E26-4EF8-4EE9-A05C-7DC65933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259D0-4D98-4001-8C23-F17C8ADB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E0591-A150-4093-96B0-A32717B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C46-6C5D-4DFB-8BE2-533D74FC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0BBF-0416-4A47-9D1F-5D5D1AAC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14D95-8819-49DD-85F9-03439E84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B3FAB-FEFC-4AEC-B1B1-62A3899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482A1F-A3D0-4940-901C-6F1E1D00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74D8B-F034-4094-A187-2B60726F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4D7E8-B6C1-435D-BE2E-4E0AC2A6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C8AF1-FFD5-44F3-B97E-3AF0240C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7AFC0-045D-4F1A-BD7D-3ED3949E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DFA497-E644-4BC5-B5CD-B776463E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03A0E0-1D80-47FE-874E-9589CC57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F8766-E4EA-407B-9428-2E008947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669-3692-4495-ABC1-23FF8F11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04FFC-5F32-45A0-B5E3-BB1294DB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543F4-3E59-47C2-B24D-B696EF30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53EC8-AE3D-4C78-9C05-868C1F7C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A06C8-13D8-4D3D-BD44-1264327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E4339-A183-41B5-BE6F-9C7B843F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8978C-A2A6-4F61-BEEB-25B2F94B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6FA9E7-3DCD-44F8-A8A6-2C943382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EC3E7-028A-4D67-8841-E2350CD2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27FF8-E750-470B-92CF-845F61E9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BD1AB-6CCB-453B-A7A2-8B9ADB82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08BB-3A86-4557-99AC-4B05320A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C81FA1-D813-4DFC-836E-D858D5EA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E066D-A947-423C-9A26-405630CA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9F333-4B5C-40BC-95F3-1423CF44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27CDBF-1EE5-41D0-ABDC-6FE07EE2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E4F8A-94EA-45A6-8DC5-F31D2F5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E736C-6DA3-4408-B5E0-15B57A87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E4602-ED6F-490D-B15F-D4AE3800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FA35B-62E2-4671-A7AA-BBF67DFB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C1004-1A1C-42BF-AE36-AF0A2D71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35E20E-A5F3-4C20-9E35-ED3B9551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42B4-B0B2-41A6-AC32-DC18EE99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0BD35-8C43-45F8-81C9-7F5D9706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516889-056C-4D85-B1E2-2CC33F96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426EC-BCA9-49CF-82DF-44811CEB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63D9F9-31B2-48BE-94BB-775593B0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D98482-FD62-4BC3-B3BD-524F601F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118D7F-BD27-4303-A0FE-C1A3A510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474191-3E52-40E0-ADB1-134F6DD7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0F120-4829-401F-94BF-B87CE7C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033BC-605A-4B9A-94D2-4CD27FDF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B6BB0-5605-4B43-827D-D52CD085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A38A-CB05-4BD4-99D4-0E9EBE54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7C096-1E5D-4918-9BCF-0106897F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6FF4B5-566F-450C-BB49-D56D1A45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7D1470-C236-47BE-872A-E76E1335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E9222F-7501-4CC6-A5F5-895D6149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9BD47D-4FB3-445E-B286-E2FA1FC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AF838F-38FE-4429-84D3-A599176E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04CD72-0769-4CD6-B50C-A416DBDE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954D13-34FA-4431-B6E5-30DC8AE6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E4D14-1898-4703-A797-C045BC1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16A941-D63E-419E-961D-2503E84A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A3967-1266-4292-8491-A5186E7A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DA764-1E68-437B-A14F-3773ECC7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3B463-7515-4BC9-9002-70B5CB1A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75403-C491-4B66-8169-3FFCD3DB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E3BE2E-60ED-4145-898B-E20AAB23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C1BD6-4B16-4CA7-8DB8-4757AFB8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F2DD55-5ED4-45C1-B023-A4C94B11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37C9C4-11ED-4204-85F5-007A68FA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3C266A-C78D-445B-B010-69D11CA2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0E15D7-E8B4-4B75-8832-A768F1F1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3F4872-59DF-4064-AE3A-92EC74EC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1C45-3D85-44EE-92F2-1CE4190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BBC77E-02E7-49DA-9A11-A1FACB35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D03710-73B9-4AAD-B747-784F4B84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7B9DF5-60EF-4506-A702-625F9BCC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D1ED4B-EB0D-439B-95F8-5385C7AF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099B2-400F-442C-B094-E929F330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C19D17-1741-40CE-8C41-A0AF9D12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F49B00-BF85-4774-B74C-6894FEC7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8AA364-02C0-495C-94A3-4FD4944B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B57560-1813-4FCB-87EB-3F96D7B1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D9F693-0B9D-4D88-A922-7F408BC8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498D7-F538-4B97-AA23-4B76A205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99811-D5A0-42B7-8DF4-4967E4A8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863C74-550E-4F0F-AC39-BF976991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DDDA1C-D4D4-432E-BB81-C258A9C4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51E8A0-7604-4FA1-BCC1-56E5E9EA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9D42C6-9DBF-4761-99CF-4175BE86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EF7C00-6527-490D-BD03-6A19B145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C34901-B109-4DB7-BEE3-2C75EA16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86205E-B6B6-456A-B7F2-C7AA837E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2B011-5E10-42CC-BEC2-20D3BD5D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C51C4C-9951-4758-BEE1-37407591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B4E8-8611-494E-81B7-21E1F8A5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C325FD-242A-4369-BCDC-0F2E994B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9CEB65-CEEB-4D59-A0CA-00EABDE0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123762-A0B8-4AD2-889E-E0E23C63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CD659D-8D2B-4E43-B967-0853FB7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720D05-02A7-43BA-AA17-0BD0B290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923521-9A6A-4178-AB66-5813F7D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98D3A1-4CF8-49B5-B26D-95044E73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D64089-ABE7-4F75-A663-CD293362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7F3D79-B27B-4B7C-A7BA-21318AE7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E643C6-0B75-4E37-9701-27DBC126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A8B5-1D14-4717-828E-54F3E3F3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0EFB5A-AA26-4220-9B59-00B407B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2AED93-EA7E-4D81-8CFD-F6E140C5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B976C9-B190-4601-A524-8F3D673D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952B48-5BD4-48BC-AB28-668C20B8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5E1A78-7A6B-4D36-8B88-326F6D4E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ECBA9D-E27C-4103-84C6-2A3D60F6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90D895-401B-4B49-9339-6936514D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4AA153-51B1-4754-B5D5-76C43B94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6020E2-12F7-4BBC-850A-67A7B13B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413EA3-80BC-45C7-8A62-2D7B6FDD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645-9E30-4B35-8433-EAE25569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FE53-0729-47F1-9EAA-72A0333B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39D000-3CE0-49B4-90AF-7D390E53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33B32E-52B1-4B3D-B948-1500CAC8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6F4DCD-24C6-457C-BE57-67119F53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AAC6CD-3235-4195-973F-B131B95E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B9CF2C-4702-40E1-B228-25992DED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CF4DC8-517D-4D55-8640-E8B22240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0B4A41-933C-4E30-9063-BEFD6E1E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634321-09A3-407D-9730-5B49E598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C11A6D-808C-4712-ADA2-A1B87738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3CBB7A-C23D-47CF-AE78-942BDDA3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BD79-7924-4AED-A735-371F7FD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9940A8-A6E0-4FF7-B4ED-1A4B657A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2156FD-56ED-401F-8D3F-0D335DF4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C8D944-AD95-45A2-9C3E-C8580137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8C3B26-3319-40B1-8773-F9BD6BD4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1432D3-41AD-4ACE-8BA3-26E16971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E6E64D-97D4-4B3A-868D-FF5A7BDE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A96BED-3960-4E7E-94BE-727AC84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5ADC41-1FE9-45C1-B3E8-12A27C56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D9F6FB-17FD-4F98-AD7A-5DFCA6BA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42FC36-8732-45E5-94ED-4D735AF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DF81C-E850-40DE-8DAA-9E344A7B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5CFCDE-2A2A-4C7C-9E15-DDDB3384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7A95BC-8E3A-41AF-B370-ED90EBF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0C06DC-3123-4EC6-BB1A-320733C4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9CDFE3-8A3B-4FA2-9671-E4E80880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2633DA-1E74-4B9D-AEB2-C6C3CF57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9B8625-630E-4704-A0DC-2EBE76BD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FF4710-E540-48BB-85CE-415277CE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17F16A-E9C5-4F27-BD00-5988E454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0443F2-EEBE-4CAF-A8C9-5B52FF2E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3DB142-9FAE-420A-BFFC-F5DF6121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6144C-1F78-4403-B89A-694034F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6D9773-DA55-4FB4-AF33-58D46E2B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BD5CB3-867D-444A-97BC-91F631F2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3D93BF-2CBC-488C-AF36-38A59814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696C40-C2D5-4D3A-909F-1D99F20B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23D74A-2BDF-4430-B6C7-4DA87A00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848EAC-ABB2-441A-8678-66DD8086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32FB2A-0A95-4FE9-B48E-6EAF9003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E3F3B6-FDE2-4670-8ADE-37E34A92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3BAF00-9241-41E6-AAE3-225E0032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A8A1DA-3852-49D3-A1D9-EBFEA468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9E1F6-EC51-4E1E-9075-840BDB07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CE99C1-1D05-4562-B22A-F821CF51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3D8EFD-C7AB-4A27-8F52-A79C4F6C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92DAC9-4702-40D1-9C83-91C27866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55C397-38F9-47C6-ACAF-18C68C9D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30F7CF-E7F5-4B9B-8242-C2320FC1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AD9A27-F017-4E4F-B5B3-CAE2EE10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07498B-2CFD-4E85-B3CB-C943EE1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647102-F90B-45A1-94C1-F53EE60C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FEFFAD-5F9B-4A42-A73F-A223EE8C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2C61B0-8A83-4D30-B19A-93067DCD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885E-AFC3-4F20-9653-ABF6D834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B1EAE6-51C1-4581-BFDC-D90CB55E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7E7B25-3802-434E-A928-4F547E79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A56E46-03F0-4352-AC10-8254933B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7693BE-256C-49D9-95A2-EC31A5C0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4A9576-20E4-4AF9-9418-67312813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47F07F-C468-4FE6-9A61-EC3970C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606A49-396D-4F0C-A739-4868DF11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0FD677-02BB-41AF-A74A-724C43EC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8726E4-5891-4395-B684-B726DB92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4FAA8B-D3A8-4C11-9C22-94843045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392D-50C9-4E57-AD5D-5F5B64EA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EF4A99-0F05-4561-83C6-61CBBB26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D977AF-F0F1-42C1-9872-951C82BC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1E9AD8-B271-461E-AFE6-289094B5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83472A-5EFC-40EE-961F-B1F21F6D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215127-24BF-4A09-BD3C-01900AA1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B26945-9414-4781-90C6-11681A8B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3E2F2D-7BCB-4257-AFEA-5BF3171F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4E189A-3C0C-4405-A64A-3F70C7B4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51466B-E666-4E0C-8171-DBA64A1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1C7A9C-BDC3-4191-A018-666FD69D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93985-14A7-4BCF-870D-94B223FE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B45AC0-F9B2-417F-BF75-2F7E1507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0118F0-100A-43AB-B8D8-5DD0BFD1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F30552-9FC5-40DB-9CB1-4CCF34E0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E24D2D-0374-4D6E-923F-EB9E313A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9AFCA4-B650-409F-8701-4684FCBA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F5FB2B-FFF5-45F4-B540-B9404621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2C5A89-75B9-4B11-BAAA-2B47DF8C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3F53A9-48B3-4C09-97AE-B5C6EFD6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73FDF0-039F-425D-AAFE-D15E3D4A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3437AD-4FC2-49AC-B2DE-B03FF1D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6372-8F1A-47C4-8D11-3085643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BE4287-4B2B-4CEC-85D6-437428C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098954-DF90-4A50-9566-6575F8FE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D83B02-E1E2-4283-8BA6-8E4E4699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8CCB6E-971D-4F9A-A5BD-F5003BEF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C80C24-E2A3-4A0F-8481-76E7B541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24A1D4-FF1B-47F9-9521-994BEA57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5C53F4-FDD0-4FDF-B272-5DF4DCD6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89C7C5-9EE2-40CE-81F8-EDEBF242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08772C-EF70-4F1F-A9F5-C22EDB30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BF0E1F-E988-4043-AB31-E518B814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6631-C023-4636-8404-C120EA99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200FA8-48AA-4F35-81A1-0475FCB4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29B28A-F875-41F1-9B13-531BF30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79A7EC-6894-41AA-B01B-C8469B80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410DED-8E15-4BAE-9010-69A61D6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8729AE-E973-4D4C-8B71-E57B833B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4D41DE-6F8C-44D4-8897-8307625A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066F7F-2D02-41EE-B8B6-D242660C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79D33A-B441-44B0-A672-5AEE7E64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6A4EF7-741F-4057-9293-1A9AFB3A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4FE5B1-7DFE-4128-98DD-5BF50EC5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009-B163-45EB-8AF5-98D1E1A9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48F6-7BFB-4853-BFC5-2DA150A7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A0433E-DAEA-4E2D-AB89-1A4C09B2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8005E2-9B80-4776-9B8D-15D97EF9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5AC7A6-BE60-454F-A444-284559DE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5E3A66-01CB-4E28-848D-68BCA13E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4FD226-553F-4663-B850-60FD3B9A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04DDC9-C4DB-44BC-ACF3-0C7F718B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DCF58B-4304-462D-AFFF-7E21B00C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6AAD0F-1AC5-4BED-AA64-7CCD52BE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6BC40D-6CC3-47B3-8729-488E4165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DB4C5C-5796-4A32-9FE0-1692D0A3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22F5-0621-49D8-BABD-6CC6EF3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449802-80CC-4DBE-8A49-DD66681F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75409F-64F0-4CE8-82C3-01A07386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91A957-489E-41C8-A27A-B3AFFDC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C2040F-7ED8-4D98-A203-431AA94D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C5C9BF-31E5-440B-9ECE-5CD4B48D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D74C0A-E4AC-4B28-A23F-669C6E11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831B6E-99A4-4128-86E6-0C5768F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00F9CD-1EA7-44A4-B4E6-4ED7BFDC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62A918-CF0F-445C-8B27-56F6BB3E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AD5854-E22D-4F3E-977A-42A11479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2C6C-1CEB-4A22-A53F-BAB7167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4ADC1D-E1F7-4CF2-9B06-3731F7A1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5BA69A-4E5F-438B-9976-426FE8F2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8245F2-043F-4D95-A2EB-3610AAE3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065E3F-1913-4E37-8337-0659913B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3CB1D0-70F9-425D-8DE8-70B82D69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433198-6E3A-456D-AAD3-6C679BDD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170545-4DAC-42F5-B818-9AB70222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4CAB1D-8549-4C85-A64D-C88ABA6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C10747-557E-44AD-A6B5-B5149877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D75AD8-2F76-426F-B264-4D06BA85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7E10-44BC-4B35-855C-0ECD3FB8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C0F2FC-8A6E-444C-933C-7E16465C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B1C93B-65D6-4A79-BA7F-A60023F4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76637A-1757-4F77-9D46-20FFDEEE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7B00DA-0431-49ED-A8D8-9CD3E70C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B940C3-C1D7-4E6F-B590-61948091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A9FCEA-9096-4B7D-849B-982F40EB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824F93-A86A-4699-A6E2-C81AEEF0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9EC91A-6DE6-48FA-91A0-44B15EAD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85BDED-247C-4090-B025-90D3703B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93FBA1-D26C-40E6-B6DE-31CF8210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D5C53-A403-41F2-AB57-F7F19CE2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7DF928-F950-4489-8FD5-66DF9E4A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64A0D3-B485-49B3-9AFE-61ED9DA9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3FDED2-F978-43CF-AD3C-D62832CB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9663F5-5C86-4B6F-A049-EFC9FD70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97D8A1-0D1C-48A4-A60E-0A5C4523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E98317-707B-4048-8180-EB340C06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D29A51-D4A0-4B75-9972-EA53B37A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0C981C-3F02-415C-B16C-1A852B57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EE6821-EF3C-46E0-B686-08CEBEA0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48C365-5EB1-4445-9103-6E52458A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7F7BA-929B-4B55-87B9-6519704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C91135-4E24-4D74-B970-46B5D0C4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CA73AE-23F4-41E1-976F-E1023DC7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BC841C-59F1-4607-BE63-BDB2E9A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C2A3A5-AEE5-45C9-82AE-E21A3790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C1FD00-E4D2-47E7-9CD7-0FB39DD3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BE6BD7-6589-4AB6-9F81-93555184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87729D-7422-4BBD-9CEB-BA211842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4020A7-2067-41E4-8EE0-BD8A7EDB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DFDB0E-0F5F-4BDF-BE33-874BD770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EBDEBD-A5D8-4BCA-B3D8-DD0F2EA7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B9DC-82D0-4EDA-9C20-81824FEA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E7B0CE-4AC4-4C2F-85D5-9014489A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5B7D2B-D518-403A-B75B-041CC9AB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45C712-4489-4706-8574-6E18210F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1DEF0E6-6EE9-4D57-9F1A-DC741A5A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D09C787-CC59-450F-99F1-D0A91A69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62556B-57B0-48E5-B5B0-F9A5A02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2E2E0B-BDCF-426E-AC81-84D6926E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13FFF3-97F7-4B26-867C-3428DEE2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AEF84F-5B69-4ED7-B714-5EDE0A5F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97A27F-14D0-4B66-AE23-7002B774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6878-B16B-4A24-987D-75110D54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10C6956-D616-4FBB-981A-28BBB459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BB8264D-7B3F-4F64-B177-7238B444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79692E-3848-4C41-B156-08C15086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14EEE9-EE0B-4626-9576-1AEC3534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D128B5-B393-4519-85D2-D4DCBDA5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039DEC-A83B-4AB2-AD4C-08C598D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5F91BC-173E-4A72-B435-76C6C7DE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C3E1BB8-0D20-4FC7-9617-BC18DBF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9861E47-A6BD-4EB6-B1AB-1BD21CA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CF9C2D-EF3F-4E9C-8C1D-E8E52030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DB37-7ECA-47C5-B283-4FA9944A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B574C9-A504-4B41-AA13-11E274C1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CE31AD-46A8-4CD1-AD23-03AA3FCD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4D4CA7-890D-4E91-98F8-0697C26F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CCDAC2-5CF4-4B83-B1E8-46179F6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E0640DD-1900-427A-9284-08A43559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206D1B-F3DD-426B-8F47-40CAD629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38C75A-FFE1-4584-A8F8-F8A7BF61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25621F-07F3-4E52-8C2B-88F9769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4BF85E-DDA8-4C78-9ABA-562F3BED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FED3B8-9579-4304-BDE4-7EE36C3E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7CB46-8291-4F90-8D7C-EDBCD5E7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BB1656-23BE-4815-A852-2F2FE594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3773C74-F1B5-4E46-B431-17761FE9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0556BD-182E-481B-B67F-5BD7675A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7F63D80-EB7D-4156-90A4-5BD56B93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28CCA2-F4B1-4A63-B4CD-2876830A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98C7B9-CE08-4168-A27C-969ABA5D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2CC45D-3429-4084-A996-5C24B216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3CE802-274E-4D18-97F1-704F88E7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B74952-8EA4-4112-913B-C0611D32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47ADF1-2560-490E-92F4-0EADA9E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31C-380B-49EC-994E-1EDE6C5F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000F6-089B-472F-B64E-D0765E18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57D0AA-F309-4EDD-921F-86A44CB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4F72999-1AE6-4E73-A45C-E8733E97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083ED0-093A-411E-B055-E5C431EE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BC974C-8068-4F6A-BEA2-76EA536A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68A751-A933-4AA6-9A78-7797954D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5CA13DB-5BE1-4EA2-B3BA-074D695C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05C145-6478-4FEA-98E2-B198A507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CC588F-0AF0-47B2-BE88-32A3C023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9FAA785-AFF1-4C45-8D3F-C9985C5E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76C208B-3D1F-40B3-A616-D9F8BB21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A28D-569C-4AB6-A646-595B9B8F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E6CD7D3-102B-4319-A6DD-B3CE93C7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62A2DA-1056-45FF-9E42-02A2A652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7162487-F3A8-4022-9CEB-92CEF3DE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255AFB5-FBAE-43E8-B10C-D295384E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0DE8B81-E3AD-43E9-B8EA-F80EE3B7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F11ED3F-E0E8-408F-84B3-CD668489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0CFBAA-CD87-4B7C-A772-62E2CA8A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3E821B-3F84-4671-A244-63CD3219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0C6FA0-0F96-4A23-B685-44E3770E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360314-A81F-42B4-AB1A-D307A11E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027E0-CE51-4171-84E5-DC211211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0A48BD7-2CBC-4F8C-AE07-24F44343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00D4E4-E4B8-46E3-B637-2F11C5A1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E88BFC1-2828-4E12-A8D0-B9D95436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1EF81B-CC97-445E-B58B-8AD65B1A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20130E-6622-49DB-AFB1-C26710C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2C36EC-A412-4012-97BA-4C1A887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4805FF-4C6D-4D4A-A1E4-D155455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A37A09-4BE8-4D66-90A9-1D288D1D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AF8043-4C99-4259-87BF-52C837F9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74EC1B-5DDE-4F64-895F-3B029635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FA1F6-74A3-4B33-ABA3-B3DFA12B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3709CC9-7955-4CDF-8C3D-9FEE374F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A218F33-15F0-4D87-AEA4-BA09F2D0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E7F869-4416-4E96-A22C-95661AF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FB35019-DC8C-4706-A4BD-5D3F6F7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1FD963-1C34-47F3-99FD-2CA861FE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F758191-EC40-418F-9DF8-75FA4FAD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0D99379-C076-4321-9962-C555B5E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5422641-D47F-468D-B635-82B52CF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F3501A-D8A8-48B9-88C5-A044A43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2A0BDE-6720-4FA5-A9BB-FAC15E5B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06EF1-C901-4F53-BFA3-6B844E60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2B939E-C66A-4FF5-B642-61F8E519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9A30378-81B9-495D-9E85-9D272DC9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FA6742-D11B-4107-80E7-4D2DFC8D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05605F-7E4B-4E0B-8F29-1D63E334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DC6938-61EC-4E6C-99C0-C50B6891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780AFAA-E392-4CB0-9991-A71D5631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766BED4-A492-45AD-9486-A2D65F93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177925-7914-4B59-AA23-7B3F253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3E8AE4-D987-45AF-B4DB-FBCEFF33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CA6CA04-5B85-4C58-BF69-71D16472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A571B-6E9F-4929-9497-E31BAE73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92EB52E-5F4A-4DD8-ABA2-987E194F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4DEBDE-1996-4D68-A532-466DC1DB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EA6291-88FC-4EF0-98E3-53341620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B32225-25CF-4A34-A86B-0D8F68D1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4D660E-C7E2-41AF-9E75-D80EAC98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87AA2C-15E7-4195-A88F-3E74F373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B31DC5-3CB9-49C4-880B-1AAE29EF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93E4C25-50F3-481C-960F-FBBC3F96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1B9958-EF6A-4BBF-AB8D-263BE70C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A4E3777-3965-477E-896A-866DEBC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9F639-680E-4D52-98CF-5A6EC958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CCED774-1E4C-4CBB-A54A-75DC2861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831C8E-EE6F-460C-880D-AE49315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6E0A6E-38B6-4CBC-A590-E036BBE9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9C3D3E8-4C5F-4DA7-914E-52FFBBA2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367F51-8198-4D61-AA99-99AB707D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376696-7435-4BDD-A3B5-CB8ACE9A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0CD516-AF10-4FCE-A594-CB1CF04A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15DF1A-A64A-4292-8E38-126EC0D6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AB25BE-DF3F-4C4F-A4B2-233858B1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0B98176-00FB-434B-9C92-70AAB9EC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BAAB-8F61-4EBE-991E-A468D06B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F45374-5045-40D4-931B-22AA4C4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FC3BC6-E2B0-4658-8EB4-0BD4B8E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098CA7-6DAF-4F83-B62A-2A41D29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A9484E-29A5-4169-B1BF-1F5A0106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A60D44-59A8-4314-A1E2-A90A866D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B87A84-E376-48F3-A4DD-F5C57638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DC3AAA5-57B0-4C8E-A627-336A9968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8B9ADD1-B244-48ED-9D47-C2524F85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3484D2-1C4E-4725-B26B-9B63807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7AD9E42-A89D-4715-81F0-2AE0D526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7E82-C2BC-43A6-869A-A2D7F3FF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57FDF6-7923-4863-B714-332F6E80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E3BE7ED-B463-47CF-BD70-799F3D71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A35AC7-3A37-4C9B-8AD0-E093B27F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9E4D24B-66BC-4A70-88CC-B83B6AB0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2D6FE2-47C7-4F9A-9352-D58CAED9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9767492-B5FD-4B58-8737-4760827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BDC2B1F-7C29-4C05-93D2-3E91428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77401F3-10D0-494D-9B05-139E362B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7B96813-8EBC-4B0B-8BE0-6B56530B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BF18183-4C3A-4016-950A-479B586B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B124-E932-493D-B4EF-759B3CD4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7D7B7B9-FF0B-4FA0-AB8E-692E2707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63B765-2D0E-4406-A4D2-8B64E384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0C8D2B-7381-4367-82ED-E2710D27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1B68EED-7525-451D-9834-14253342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11CC8A7-E111-421F-BD19-5512E494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CB355F2-8DFA-4EF7-84CD-3B735CB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152335-5BD8-454F-8DB0-AF2CD3F8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D1A996A-9654-41F8-AEBC-19CF0B4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C01A1F1-0B90-401F-879A-AB39B2E2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43591AB-DF09-404A-B615-B996096A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629-7045-4C9F-AC15-C9B79E08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A852-5C2E-496E-9F8A-D1BFABA0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6A4E968-63F4-4C41-A26F-D0C164CF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FCF7A52-3A39-4E1A-A40D-AA5D905B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DF8423-F175-4ECC-909A-4F16E307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24B5B60-4FE7-4280-A819-1B115969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941059C-610D-4BAB-A57B-ABB8C05B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8CFEAD-8D34-4E52-9A07-40FCD252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94F96C3-D86B-497E-88D3-F8C6C930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372D8BE-CA82-45DE-9DC7-9882B3C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3C1457F-C1DB-438B-9893-C9ADCFEF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A28A385-0984-48A1-A793-6EA2DEA7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32494-A94D-4EB1-BC87-0ACF93A1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888103E-D680-4B27-8CC4-B2AED906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77637F1-CAED-43E5-BA0D-364DB5E9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7C924A0-49F3-48AC-97A4-06E1ED60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50CBF0-F273-4EE6-BBA4-9DCEE5C0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341FEC6-FBAE-4970-A862-88B72BE8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447BFEB-D1C5-43A8-9961-6F451987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5041A7C-9EFF-4E10-8D92-3F217BE2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E24EE46-2336-4FF6-9A93-AC39D73D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1AB5B6-50FF-415D-AED2-50DE97D0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EC6AF1-18C7-4C31-A8F4-AE36293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44AF9-DB9D-4C33-9CEB-3FE978F1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2DC7DA-2DB1-4377-8EEB-105A1FAA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028F0F5-221A-4DFA-B93F-05306BD5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F5D547E-6D18-4505-80BE-DC53EA12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421F66D-DCAF-4B62-97C0-8174A146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F8F541-FFA3-489B-9B9E-8CA3D0C2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BEF37F8-A3DF-4DC7-BA89-D1074989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255ED9-D6A7-42AD-BC14-5918304B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FAD634F-9F09-4B2E-9F4F-173965DF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B16CE4D-A15B-4C07-AC23-90097066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6AC6F96-3504-438E-964A-CB378741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D8497-EA9E-42A2-A68B-2BEBC2BB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6536963-10A8-4696-AD59-81BC062B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AF36F00-A440-4DA1-A451-0C18956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D6F3A3D-6B70-42A6-BED2-74C228B0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B7CC110-A760-482B-9679-A317E1F4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36695C8-8B5F-425F-BE45-185D250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6DF1975-3C4D-434C-AEC1-12632873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16A7D6-19A2-4E5A-B161-7B6ED807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37B1870-559E-4A38-A5AB-06A9A744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A9FC91B-0C2B-46FA-9F1A-A4B0C07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EAC5DFD-7BC7-439C-9CDB-F2E2C88D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52D76-8A50-4142-8086-2E5EE861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2A95D4-745D-4981-979A-139A1F81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2DDDA0-1DC3-4057-8911-88693568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247283D-52B1-45FE-94DA-32CC8A2B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57E2AA-3FE1-4AFD-94A8-3E137B4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4A3832C-E853-49C0-BB55-36E9715D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633464-9D2D-4564-AD8E-A1B8715C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CBB8662-9905-4C53-88A5-2D9FF49E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356E5D9-63FF-4E77-AD63-75B3814B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EFDBC33-F156-40DA-AE20-2846DCEA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E00B210-A46E-4E73-8B3F-4F27754C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539C7-93E6-4E98-9D76-F6F5691E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4ECE894-3DC4-4164-93E5-26B2029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6264FE2-E929-40E2-B0E5-301A8B68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7B8984B-34FB-46C6-8F51-C8939A6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2D06118-E65A-46B0-939C-74FCCFD6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9C5D197-4C7C-4585-8BA1-D0E34568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23EC74-13BC-4DB3-997F-76B10C10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9DC23D-1DD8-422E-BE0A-96A80C89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47E7AC9-7A5E-41A4-8B96-9EC37399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7B2425F-E32B-4AF5-8FC3-C0E405F0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3D705A8-47F0-4AE2-8B0E-FE86C02E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C04A4-98DE-4111-93E2-012B0209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A38A59-038E-4E54-B0B0-F4FF750D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F28EDE6-20F3-4E91-B2F5-6FF5544E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F41D377-2E8D-4C17-B90A-8CDEFDA4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68345BB-9DE9-4783-9942-06352DFC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7ECF42C-1F43-4266-A812-3C6DDF8A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535F3BD-BC16-4D31-A490-AB98F024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8C3F4AF-C5AD-4E78-B0A0-C0A22679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170F210-30A6-4A63-B981-3F31373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C1C1A20-1DCE-4F44-955B-563CF47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7A4488-EBF1-4B4C-B11F-9978488B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4C0E-6C84-4D11-9F66-68ED6444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F009FD0-2009-4972-8561-2CE223BF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3F935B9-614C-4591-B740-96AFC0E5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D0BBCC1-8350-43B6-99D8-DE63D050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CB428-5724-4D06-95FB-01064406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BE51-DB65-4BAB-91E4-9853F093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BC5-086A-4A72-87B3-26FC8516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6B2B5-8C61-4661-840A-269DEEFA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976D2-183D-42EC-8F03-4D3AB3BD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E9F6C-E62D-47B6-950B-921E6E97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8684B-5BF7-49F8-9357-95AC840D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7AC6-9311-42D0-A23E-ADD33972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EED5A-C3E3-4063-A65F-166A95A8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73D1C-9410-419D-91D3-F2F2D642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FA8E7-1F2E-4A05-B713-FD3FD0D7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486F2-A4CF-4AA4-959A-BA4416C2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BD9C-CE53-496F-915C-7C7FECE8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F63-ABB4-4F5A-BE62-444E1E6E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E2B03-0589-4006-9EDE-89D08679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D7C12-A979-4853-A3B4-35C9607A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E5D3D-D87E-4CF7-AFFA-5F421E9C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E93CA-205A-4426-B924-2AF12018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E0CFA-399B-4163-B398-EA32616E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BBDDB-5E5F-4B2E-BB06-1288B0FC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56E1A-4915-4DE5-81EB-395CEC2A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77067-DDCF-48DB-A3AA-06E276E4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455C9-A5B2-459A-9753-672DB5B0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80D21-7E0D-4C50-96CE-D27AF2FF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D19-AA89-4993-825B-D85F148B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62B49-48B9-4BCD-83A8-5C07612C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6AE8E-F86A-4C81-B1B9-F155E86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B9CA2-59D0-4BD7-B468-6FD7F9D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1346D-2E8E-4D74-9172-D81F729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8D400-608A-4126-AAB2-5DF58732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A979-1CCF-4AC8-B055-86EBAE86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44F2-4FFA-462F-9BB3-4892CBA9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2639F-2B47-4C5B-9040-CBEAA267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6301D-CA94-4847-905A-4B15096C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94E9B-AA91-4A06-97B8-2E29AE0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273F-CEA3-482C-8F93-8F1771B33DD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C0F8-31A8-484B-8240-9DDF386BE0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40C1-1DE4-46A7-9427-CBE3D25DB0C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355D-3789-48E3-890E-CE3674BF73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13A8-800B-458C-9EA1-EB19573C43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8DC7-5A2E-4969-BA4E-49B9D8372D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9A5A-0EEC-42A8-91FE-7129E550CCC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FE39-84E8-459B-A7A5-4046FA68E4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3EED-BF81-44B1-969D-2A4C7E82770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ED1-4B3D-4423-8F66-1027C3BBC8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FB15-26EC-4ACD-9A86-19F74470C91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B9A8-8ABE-4FD1-9097-284E5DF247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D66E-122F-4BED-8DD6-188F0C6859E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4D0C-C0AD-4F7B-9B5D-833CEC054E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FDAE-107D-4E6B-9A12-DB299EC979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1B5F-7DF3-4E15-B1BF-BC65F5F309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E250-293C-4D94-952B-09A0E8F5B0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66E9-7721-4A90-AB91-035104ADFB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FD1D-FD23-46BB-B458-C335F8EC88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0CB6-4831-47C8-9400-E5C7E9BFCD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A210-52D2-41D3-AB01-73455399B3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4040-2196-4D95-B25E-F9C9CB0446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0EFA-9DA9-4B59-9654-AF8C79F32E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F567-C2A9-48FA-9D59-9B05FC5245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D59D-D76D-474C-95B2-89B18CF6C7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D9ED-D06E-4D5E-8FFB-1C161AFD37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90A8-3F48-48B1-A6F3-E59C4BC99CC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D432-5BD0-4094-8A8F-4327FE6E733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FE3A-E6AE-4603-B4CF-327131B46E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936E-905F-4FAF-88FD-F8B525ED9AB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477-78AB-4EA9-9593-1EADE5D6CD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0839-5484-429D-83EB-5B3298EA4C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EC1E-3778-4C81-8ED2-BC4BC1194F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FEA9-7DAE-4030-AFFF-572AE239195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CE7F-D95D-457A-AF5D-27C8BFD8D9E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47A3-BA7A-4C6A-82F8-AF18B607D68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88A4-9913-4BC2-9260-6EE3D81824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8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8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grpSp>
        <p:nvGrpSpPr>
          <p:cNvPr id="188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9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12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8CF3-E079-4643-A577-9FD8B3266BA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96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FD7E-CEDA-4313-B69F-7B6CCCA752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0958-4C87-4662-BFB3-276F1A6A23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F771-06B0-49C1-9DE9-F0005CA793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1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8D0B-C85F-4185-9510-E49F036216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3B34-B8BC-4601-84EC-AD9E540E59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0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0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C848-ECA1-43E9-A58B-3FE7E41323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F75-2250-42DB-A566-77C7159E880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7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0102-6BFD-4549-BDB3-1452FE13B7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EF85-4F5A-434C-9804-C35AD6B4C8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E78C-9ADF-423D-8A8F-7D6F04E9DA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9485-583A-4758-A032-B0238C61B1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2FD3-7CAB-4691-95B4-76871B6E31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7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F362-A4AB-4439-8DD4-4BA6CD9B011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CC9C-8921-403B-8ABA-11D34D5EAF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9452-828F-452A-BE02-36F5C9E96F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A52F-E57B-4E69-878C-7E361011B5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16EB-6E25-4EE7-B27F-353598366B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227B-41E2-49E7-BD86-EC43C1695E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t196.soes.ru/" TargetMode="External"/><Relationship Id="rId3" Type="http://schemas.openxmlformats.org/officeDocument/2006/relationships/hyperlink" Target="http://www.bestreferat.ru/" TargetMode="External"/><Relationship Id="rId4" Type="http://schemas.openxmlformats.org/officeDocument/2006/relationships/hyperlink" Target="http://www.baby.com.ua/" TargetMode="External"/><Relationship Id="rId5" Type="http://schemas.openxmlformats.org/officeDocument/2006/relationships/hyperlink" Target="http://www.le-mon.ru/" TargetMode="External"/><Relationship Id="rId6" Type="http://schemas.openxmlformats.org/officeDocument/2006/relationships/hyperlink" Target="http://www.add.net.ru/" TargetMode="External"/><Relationship Id="rId7" Type="http://schemas.openxmlformats.org/officeDocument/2006/relationships/hyperlink" Target="http://www.med.resourse.ru/" TargetMode="External"/><Relationship Id="rId8" Type="http://schemas.openxmlformats.org/officeDocument/2006/relationships/hyperlink" Target="http://www.djv.ru/" TargetMode="External"/><Relationship Id="rId9" Type="http://schemas.openxmlformats.org/officeDocument/2006/relationships/image" Target="../media/image2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Аддиктивное поведение учащихся,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блемы диагностики склонности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 вредным привыч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 advTm="15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2936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Какие бывают аддикц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фармакологические (химические)-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зависимость от психоактивных веществ (ПАВ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субстанциональные –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пищевые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зависимости говорят сами за себ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c0000"/>
                </a:solidFill>
                <a:latin typeface="Verdana"/>
              </a:rPr>
              <a:t>Какие вещества, предметы или действия могут быть предметом аддикции 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котики, алкоголь, таба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зартные игры(включая компьютерны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ительное прослушивание ритмичной музы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55560" y="477720"/>
            <a:ext cx="77788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Алкогольная аддикция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34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Одна из форм фармакологических или химических зависимост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5ffff"/>
                </a:solidFill>
                <a:latin typeface="Verdana"/>
              </a:rPr>
              <a:t>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AutoShape 5"/>
          <p:cNvSpPr/>
          <p:nvPr/>
        </p:nvSpPr>
        <p:spPr>
          <a:xfrm>
            <a:off x="3995640" y="2421000"/>
            <a:ext cx="4584960" cy="3595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4067280" y="2492280"/>
            <a:ext cx="4392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В основе алкогольной зависим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ти лежит употребление спирт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держащих напитков. Алкогол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является пищевым продуктом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или входит в них, не являяс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запрещенным как, например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аркотики. Алкоголь не изменя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ет, а кристаллизует текуще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стояние: если вам грустно, то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употребление алкоголя не под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имет ваше настроение,а, наоб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рот, его еще больше ухудшит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885" name="Picture 9" descr="image002"/>
          <p:cNvPicPr/>
          <p:nvPr/>
        </p:nvPicPr>
        <p:blipFill>
          <a:blip r:embed="rId2"/>
          <a:stretch/>
        </p:blipFill>
        <p:spPr>
          <a:xfrm>
            <a:off x="755640" y="2708280"/>
            <a:ext cx="2752560" cy="3240000"/>
          </a:xfrm>
          <a:prstGeom prst="rect">
            <a:avLst/>
          </a:prstGeom>
          <a:ln w="0">
            <a:noFill/>
          </a:ln>
        </p:spPr>
      </p:pic>
      <p:sp>
        <p:nvSpPr>
          <p:cNvPr id="28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2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90480" y="318600"/>
            <a:ext cx="78408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4215"/>
                </a:solidFill>
                <a:latin typeface="Verdana"/>
              </a:rPr>
              <a:t>Наркотическая аддикция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зненные состояния, характеризующиеся явл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ой и физическ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исимости, настоятельной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преодолимой потре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овторном потреблении П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тическими призн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а ил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обладают спосо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ого действи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ую нервную сист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имулируют, вызыва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йфорию, изменяют восприятие окружающего мира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9" name="Picture 6" descr="image004"/>
          <p:cNvPicPr/>
          <p:nvPr/>
        </p:nvPicPr>
        <p:blipFill>
          <a:blip r:embed="rId2"/>
          <a:stretch/>
        </p:blipFill>
        <p:spPr>
          <a:xfrm>
            <a:off x="4788000" y="20606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28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0960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Лекарственная аддикция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8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ндром, развивающийся при употреблении психотро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; характеризуется патал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ческой потребностью в при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х веществ для того, чт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бежать развития абстинен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психических нарушени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я дискомфорта, возника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их при прекращении их при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при введении антагон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х веществ. К ним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медрол, феназепам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3" name="Picture 5" descr="image006"/>
          <p:cNvPicPr/>
          <p:nvPr/>
        </p:nvPicPr>
        <p:blipFill>
          <a:blip r:embed="rId2"/>
          <a:stretch/>
        </p:blipFill>
        <p:spPr>
          <a:xfrm>
            <a:off x="611280" y="2276640"/>
            <a:ext cx="3247920" cy="3686040"/>
          </a:xfrm>
          <a:prstGeom prst="rect">
            <a:avLst/>
          </a:prstGeom>
          <a:ln w="0">
            <a:noFill/>
          </a:ln>
        </p:spPr>
      </p:pic>
      <p:sp>
        <p:nvSpPr>
          <p:cNvPr id="2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абакокур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ение табака - один из наиболее распространенных ви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мании, охватывающий большое количество люде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щийся поэтому бытовой наркоманией. Дымящая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арета доставляет привычному курильщику удоволь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остро ощущается потребность в курении посл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ятия пищи, во время выпивки, при отрица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ях и во время напряженной работы. При этом с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ыхаемый никотин не оказывает какого-либо положитель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го действия на организм. Сигарета является больше отв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ющим фактором:переключение сознания на неё помог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одвинуть неприятные мысли, прервать тяжелую раб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е курение облегчает контакт между людьми, явл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тся хорошим предлогом для знаком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7" name="Picture 4" descr="10023"/>
          <p:cNvPicPr/>
          <p:nvPr/>
        </p:nvPicPr>
        <p:blipFill>
          <a:blip r:embed="rId2"/>
          <a:stretch/>
        </p:blipFill>
        <p:spPr>
          <a:xfrm>
            <a:off x="5508720" y="40464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5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5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7900"/>
                            </p:stCondLst>
                            <p:childTnLst>
                              <p:par>
                                <p:cTn id="5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100"/>
                            </p:stCondLst>
                            <p:childTnLst>
                              <p:par>
                                <p:cTn id="5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890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490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60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30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220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оксикома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ксикомания развивается в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потреблением лекарств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ств и веществ, не отнес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аркотическим, но также измен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ющих психическое состоя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ка и его поведение. Диапаз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 с токсикологичес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йствием очень широк – от мед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ментов (аналгетики, транквил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оры, снотворные, стимуля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р.) до технических раствор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редств бытовой хим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1" name="Picture 8" descr="image008"/>
          <p:cNvPicPr/>
          <p:nvPr/>
        </p:nvPicPr>
        <p:blipFill>
          <a:blip r:embed="rId2"/>
          <a:stretch/>
        </p:blipFill>
        <p:spPr>
          <a:xfrm>
            <a:off x="5651640" y="1628640"/>
            <a:ext cx="2895480" cy="4324320"/>
          </a:xfrm>
          <a:prstGeom prst="rect">
            <a:avLst/>
          </a:prstGeom>
          <a:ln w="0">
            <a:noFill/>
          </a:ln>
        </p:spPr>
      </p:pic>
      <p:sp>
        <p:nvSpPr>
          <p:cNvPr id="2902" name="AutoShape 9"/>
          <p:cNvSpPr/>
          <p:nvPr/>
        </p:nvSpPr>
        <p:spPr>
          <a:xfrm>
            <a:off x="6516720" y="357336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72" h="21600">
                <a:moveTo>
                  <a:pt x="14141" y="14281"/>
                </a:moveTo>
                <a:lnTo>
                  <a:pt x="14141" y="12323"/>
                </a:lnTo>
                <a:cubicBezTo>
                  <a:pt x="14141" y="11496"/>
                  <a:pt x="14472" y="10800"/>
                  <a:pt x="15073" y="10800"/>
                </a:cubicBezTo>
                <a:cubicBezTo>
                  <a:pt x="16204" y="10800"/>
                  <a:pt x="17101" y="9434"/>
                  <a:pt x="17101" y="7849"/>
                </a:cubicBezTo>
                <a:cubicBezTo>
                  <a:pt x="17101" y="5534"/>
                  <a:pt x="15247" y="3794"/>
                  <a:pt x="13036" y="3794"/>
                </a:cubicBezTo>
                <a:cubicBezTo>
                  <a:pt x="10825" y="3794"/>
                  <a:pt x="9154" y="5534"/>
                  <a:pt x="9154" y="7849"/>
                </a:cubicBezTo>
                <a:lnTo>
                  <a:pt x="11008" y="7849"/>
                </a:lnTo>
                <a:cubicBezTo>
                  <a:pt x="11008" y="6709"/>
                  <a:pt x="11931" y="5821"/>
                  <a:pt x="13036" y="5821"/>
                </a:cubicBezTo>
                <a:cubicBezTo>
                  <a:pt x="14141" y="5821"/>
                  <a:pt x="15073" y="6709"/>
                  <a:pt x="15073" y="7849"/>
                </a:cubicBezTo>
                <a:cubicBezTo>
                  <a:pt x="15073" y="8589"/>
                  <a:pt x="14603" y="9320"/>
                  <a:pt x="14141" y="9320"/>
                </a:cubicBezTo>
                <a:cubicBezTo>
                  <a:pt x="13036" y="9320"/>
                  <a:pt x="11931" y="10800"/>
                  <a:pt x="11931" y="12323"/>
                </a:cubicBezTo>
                <a:lnTo>
                  <a:pt x="11931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9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0000"/>
            </a:gs>
            <a:gs pos="100000">
              <a:srgbClr val="ffd5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уици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ерение лишить себя жизни, повышенный риск со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ния самоубийства. Эта форма отклоняющегося повед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я пассивного типа является способом ухода от нера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мых проблем.Идея может стать навязчивой и превра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ться в аддикцию. Суициды в большей степени характ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ы для высокоразвитых стран, и сегодня существует т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ция к увеличению их числа. Суицидная 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временные циклы: весенне -летний пик и осенн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имний спад. Количество самоубийств возрастает во вто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 и снижается в среду-четверг.Чаще совершаются в во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те после 55 и до 20 лет.Соотношение между мужчин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женщинами-самоубийцами примерно 4: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Трудоголиз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голизм, в отличие от мно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их зависимосте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одобряемой адди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а самом деле трудоголик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личность с определенными психологическими проб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и.Трудоголиком может стать и лентяй, дни и но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иживающий на работе во время домашних неуряд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психологического дискомфорта, психолог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ской травмы чаще всего бывает реально пережит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мнимый страх:боязнь неудачи, страх перед одиноч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ом или, напротив, боязнь об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9" name="Picture 6" descr="image012"/>
          <p:cNvPicPr/>
          <p:nvPr/>
        </p:nvPicPr>
        <p:blipFill>
          <a:blip r:embed="rId2"/>
          <a:stretch/>
        </p:blipFill>
        <p:spPr>
          <a:xfrm>
            <a:off x="5508720" y="549360"/>
            <a:ext cx="3267000" cy="2438280"/>
          </a:xfrm>
          <a:prstGeom prst="rect">
            <a:avLst/>
          </a:prstGeom>
          <a:ln w="0">
            <a:noFill/>
          </a:ln>
        </p:spPr>
      </p:pic>
      <p:sp>
        <p:nvSpPr>
          <p:cNvPr id="29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7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7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2600"/>
                            </p:stCondLst>
                            <p:childTnLst>
                              <p:par>
                                <p:cTn id="7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8200"/>
                            </p:stCondLst>
                            <p:childTnLst>
                              <p:par>
                                <p:cTn id="7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Пищевые зависим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8182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 такие пс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ические расстройства к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лимия (переедание)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орексия (доброво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пищи).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ищевая зависимос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е только переедание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ание,но и зависим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 вкуса:от вкуса коф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околада, слив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3" name="Picture 8" descr="image010"/>
          <p:cNvPicPr/>
          <p:nvPr/>
        </p:nvPicPr>
        <p:blipFill>
          <a:blip r:embed="rId2"/>
          <a:stretch/>
        </p:blipFill>
        <p:spPr>
          <a:xfrm>
            <a:off x="4500720" y="1052640"/>
            <a:ext cx="3981240" cy="2666880"/>
          </a:xfrm>
          <a:prstGeom prst="rect">
            <a:avLst/>
          </a:prstGeom>
          <a:ln w="0">
            <a:noFill/>
          </a:ln>
        </p:spPr>
      </p:pic>
      <p:pic>
        <p:nvPicPr>
          <p:cNvPr id="2914" name="Picture 9" descr="image014"/>
          <p:cNvPicPr/>
          <p:nvPr/>
        </p:nvPicPr>
        <p:blipFill>
          <a:blip r:embed="rId3"/>
          <a:stretch/>
        </p:blipFill>
        <p:spPr>
          <a:xfrm>
            <a:off x="684360" y="3716280"/>
            <a:ext cx="3981240" cy="2666880"/>
          </a:xfrm>
          <a:prstGeom prst="rect">
            <a:avLst/>
          </a:prstGeom>
          <a:ln w="0">
            <a:noFill/>
          </a:ln>
        </p:spPr>
      </p:pic>
      <p:sp>
        <p:nvSpPr>
          <p:cNvPr id="29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могут нами закрыться, мы ими нико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.П.Астаф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9" name="Picture 4" descr="j0284916"/>
          <p:cNvPicPr/>
          <p:nvPr/>
        </p:nvPicPr>
        <p:blipFill>
          <a:blip r:embed="rId1"/>
          <a:stretch/>
        </p:blipFill>
        <p:spPr>
          <a:xfrm>
            <a:off x="1187280" y="3429000"/>
            <a:ext cx="3657600" cy="2419200"/>
          </a:xfrm>
          <a:prstGeom prst="rect">
            <a:avLst/>
          </a:prstGeom>
          <a:ln w="0">
            <a:noFill/>
          </a:ln>
        </p:spPr>
      </p:pic>
      <p:sp>
        <p:nvSpPr>
          <p:cNvPr id="2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Игромания и 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й из проблем современ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го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новая для педаг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–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игромания и  компь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терная зависимость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ув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ьютерными играми, интернет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ями, игровыми автоматами, азартными игр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мания – увлечение или болезнь? Психиатры ут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ают – игромания лечится, но бороться с зависим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на ранней стадии.Болезнь начинается с привяза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ти к компьютерным играм, которая превращается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алогию.Игра – это взаимодействие. И не важно с ке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людьми, компьютером или же с самим соб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8" name="Picture 6" descr="image016"/>
          <p:cNvPicPr/>
          <p:nvPr/>
        </p:nvPicPr>
        <p:blipFill>
          <a:blip r:embed="rId2"/>
          <a:stretch/>
        </p:blipFill>
        <p:spPr>
          <a:xfrm>
            <a:off x="5435640" y="1052640"/>
            <a:ext cx="3238560" cy="2523960"/>
          </a:xfrm>
          <a:prstGeom prst="rect">
            <a:avLst/>
          </a:prstGeom>
          <a:ln w="0">
            <a:noFill/>
          </a:ln>
        </p:spPr>
      </p:pic>
      <p:sp>
        <p:nvSpPr>
          <p:cNvPr id="29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8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8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9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9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9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9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9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5300"/>
                            </p:stCondLst>
                            <p:childTnLst>
                              <p:par>
                                <p:cTn id="9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роблемы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1" name="Picture 9" descr="image018"/>
          <p:cNvPicPr/>
          <p:nvPr/>
        </p:nvPicPr>
        <p:blipFill>
          <a:blip r:embed="rId2"/>
          <a:stretch/>
        </p:blipFill>
        <p:spPr>
          <a:xfrm>
            <a:off x="468360" y="90792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2922" name="Text Box 10"/>
          <p:cNvSpPr/>
          <p:nvPr/>
        </p:nvSpPr>
        <p:spPr>
          <a:xfrm>
            <a:off x="395280" y="981000"/>
            <a:ext cx="87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терии, определяющие начало компьютерной 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исимости: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еспричинные частые и резкие перепады настроения       от подавленного до эйфорически-приподнятого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болезненная и неадекватная реакция на критику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арастающая оппозиционность к родителям, друзьям, значительное эмоциональное отчуждени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удшение памяти, внимания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снижение успеваемости, прогулы занятий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од от участия в делах, которые ранее были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тересны, отказ от хобби, любимого дела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опажа из дома ценностей или денег, проявлени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ужих вещей, денежные долги ребенка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оявляющаяся изворотливость, лживость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еопрятность, неряшливость не характерные ране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иступы депрессии, страха, тревоги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амятка для родителей по использованию компьютера ребен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играть в компьютерные игры перед сн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каждые 20-30 минут работы на компьютере необходимо делать переры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работать на компьютере более 1,5-2 часов в сут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930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Компьютер-мясорубка для информации. 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Компьютер-это резонатор того интеллекта,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с которым человек к нему обра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какие именно Интернет - сайты посещает ваш ребен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9" name="Picture 4" descr="j0195384"/>
          <p:cNvPicPr/>
          <p:nvPr/>
        </p:nvPicPr>
        <p:blipFill>
          <a:blip r:embed="rId5"/>
          <a:stretch/>
        </p:blipFill>
        <p:spPr>
          <a:xfrm>
            <a:off x="611280" y="333360"/>
            <a:ext cx="2144520" cy="2190600"/>
          </a:xfrm>
          <a:prstGeom prst="rect">
            <a:avLst/>
          </a:prstGeom>
          <a:ln w="0">
            <a:noFill/>
          </a:ln>
        </p:spPr>
      </p:pic>
      <p:sp>
        <p:nvSpPr>
          <p:cNvPr id="2930" name="Text Box 5"/>
          <p:cNvSpPr/>
          <p:nvPr/>
        </p:nvSpPr>
        <p:spPr>
          <a:xfrm>
            <a:off x="6732720" y="126828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В.Г.Кротов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6" name="chimes.wav"/>
      </p:stSnd>
    </p:sndAc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8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4" name="Picture 4" descr="j0205466"/>
          <p:cNvPicPr/>
          <p:nvPr/>
        </p:nvPicPr>
        <p:blipFill>
          <a:blip r:embed="rId9"/>
          <a:stretch/>
        </p:blipFill>
        <p:spPr>
          <a:xfrm>
            <a:off x="395280" y="270828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29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0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2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ак воспитать у ребенка положительные привы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Перв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научить ребенка осознавать, что без неё жизнь превращается в катастроф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Второ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Треть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5" name="chimes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566640" y="404640"/>
            <a:ext cx="8182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Четвертое правило.</a:t>
            </a:r>
            <a:r>
              <a:rPr b="0" lang="ru-RU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Пят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2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2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        </a:t>
            </a: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Желаем успех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 преодолении вредных привыч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зависимостей ( аддикций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воспитании положитель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привыч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мысл притягивает, комплекс толкает».(Франк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исимость-это не притяжение, это толк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кание изнутри собственным страхом подростка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хом перед реальностью.Помогите ребен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авиться от своих страхов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3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8" dur="2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1" dur="1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Что такое привычк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376"/>
            </a:gs>
            <a:gs pos="50000">
              <a:srgbClr val="ffd5ff"/>
            </a:gs>
            <a:gs pos="100000">
              <a:srgbClr val="7663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2400"/>
            </a:b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Юм Дав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Э.А.Севрус (Ворохов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l"/>
    <p:sndAc>
      <p:stSnd>
        <p:snd r:embed="rId6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Так ли безобидны детские «безобидные» привыч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о лжи?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бедничество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ксивость?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ывчивость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в азартные игр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льное гуляние?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мобильными телефон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ажание героям фильм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японскими мульти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 к эротическим рисункам и фильм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Picture 6" descr="j0286034"/>
          <p:cNvPicPr/>
          <p:nvPr/>
        </p:nvPicPr>
        <p:blipFill>
          <a:blip r:embed="rId12"/>
          <a:stretch/>
        </p:blipFill>
        <p:spPr>
          <a:xfrm>
            <a:off x="7451640" y="404640"/>
            <a:ext cx="919080" cy="8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0" name="AutoShape 7"/>
          <p:cNvSpPr/>
          <p:nvPr/>
        </p:nvSpPr>
        <p:spPr>
          <a:xfrm>
            <a:off x="4572000" y="1989000"/>
            <a:ext cx="4332240" cy="2156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Если вовремя не обрати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внимания на эти «безобид-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ные» привычки, ребенок 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может стать зависимым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и мы получим личнос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 девиантным поведением.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r"/>
    <p:sndAc>
      <p:stSnd>
        <p:snd r:embed="rId1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ддиктивное поведение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уть аддиктивного поведения заключа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или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Что происходит с психикой человека, склонного к аддикци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Picture 10" descr="j0302953"/>
          <p:cNvPicPr/>
          <p:nvPr/>
        </p:nvPicPr>
        <p:blipFill>
          <a:blip r:embed="rId1"/>
          <a:stretch/>
        </p:blipFill>
        <p:spPr>
          <a:xfrm>
            <a:off x="7093080" y="836640"/>
            <a:ext cx="1263600" cy="1770120"/>
          </a:xfrm>
          <a:prstGeom prst="rect">
            <a:avLst/>
          </a:prstGeom>
          <a:ln w="0">
            <a:noFill/>
          </a:ln>
        </p:spPr>
      </p:pic>
      <p:sp>
        <p:nvSpPr>
          <p:cNvPr id="28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40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Кто склонен к аддикциям?</a:t>
            </a:r>
            <a:br>
              <a:rPr sz="4800"/>
            </a:b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С чем связано аддиктивное        поведение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3:06:43Z</dcterms:created>
  <dc:creator>Сарахман И.Д.</dc:creator>
  <dc:description/>
  <dc:language>en-US</dc:language>
  <cp:lastModifiedBy>LEGION</cp:lastModifiedBy>
  <dcterms:modified xsi:type="dcterms:W3CDTF">2015-05-12T09:04:39Z</dcterms:modified>
  <cp:revision>52</cp:revision>
  <dc:subject/>
  <dc:title>Аддиктивное поведение учащихс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