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56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57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41.xml" ContentType="application/vnd.openxmlformats-officedocument.theme+xml"/>
  <Override PartName="/ppt/theme/theme39.xml" ContentType="application/vnd.openxmlformats-officedocument.theme+xml"/>
  <Override PartName="/ppt/theme/theme53.xml" ContentType="application/vnd.openxmlformats-officedocument.theme+xml"/>
  <Override PartName="/ppt/theme/theme42.xml" ContentType="application/vnd.openxmlformats-officedocument.theme+xml"/>
  <Override PartName="/ppt/theme/theme54.xml" ContentType="application/vnd.openxmlformats-officedocument.theme+xml"/>
  <Override PartName="/ppt/theme/theme43.xml" ContentType="application/vnd.openxmlformats-officedocument.theme+xml"/>
  <Override PartName="/ppt/theme/theme55.xml" ContentType="application/vnd.openxmlformats-officedocument.theme+xml"/>
  <Override PartName="/ppt/theme/theme44.xml" ContentType="application/vnd.openxmlformats-officedocument.theme+xml"/>
  <Override PartName="/ppt/theme/theme56.xml" ContentType="application/vnd.openxmlformats-officedocument.theme+xml"/>
  <Override PartName="/ppt/theme/theme40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527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media/image28.wmf" ContentType="image/x-wmf"/>
  <Override PartName="/ppt/media/image30.png" ContentType="image/png"/>
  <Override PartName="/ppt/media/image27.wmf" ContentType="image/x-wmf"/>
  <Override PartName="/ppt/media/image24.jpeg" ContentType="image/jpeg"/>
  <Override PartName="/ppt/media/image22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6.wmf" ContentType="image/x-wmf"/>
  <Override PartName="/ppt/media/image19.jpeg" ContentType="image/jpeg"/>
  <Override PartName="/ppt/media/image15.gif" ContentType="image/gif"/>
  <Override PartName="/ppt/media/image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33.gif" ContentType="image/gif"/>
  <Override PartName="/ppt/media/image18.jpeg" ContentType="image/jpeg"/>
  <Override PartName="/ppt/media/image2.jpeg" ContentType="image/jpeg"/>
  <Override PartName="/ppt/media/image23.jpeg" ContentType="image/jpeg"/>
  <Override PartName="/ppt/media/image16.jpeg" ContentType="image/jpeg"/>
  <Override PartName="/ppt/media/image31.png" ContentType="image/png"/>
  <Override PartName="/ppt/media/image1.png" ContentType="image/png"/>
  <Override PartName="/ppt/media/image13.jpeg" ContentType="image/jpeg"/>
  <Override PartName="/ppt/media/image14.jpeg" ContentType="image/jpeg"/>
  <Override PartName="/ppt/media/image20.jpeg" ContentType="image/jpeg"/>
  <Override PartName="/ppt/media/chimes.wav" ContentType="audio/x-wav"/>
  <Override PartName="/ppt/media/image29.png" ContentType="image/pn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</p:sldMasterIdLst>
  <p:notesMasterIdLst>
    <p:notesMasterId r:id="rId58"/>
  </p:notesMasterIdLst>
  <p:sldIdLst>
    <p:sldId id="256" r:id="rId59"/>
    <p:sldId id="257" r:id="rId60"/>
    <p:sldId id="258" r:id="rId61"/>
    <p:sldId id="259" r:id="rId62"/>
    <p:sldId id="260" r:id="rId63"/>
    <p:sldId id="261" r:id="rId64"/>
    <p:sldId id="262" r:id="rId65"/>
    <p:sldId id="263" r:id="rId66"/>
    <p:sldId id="264" r:id="rId67"/>
    <p:sldId id="265" r:id="rId68"/>
    <p:sldId id="266" r:id="rId69"/>
    <p:sldId id="267" r:id="rId70"/>
    <p:sldId id="268" r:id="rId71"/>
    <p:sldId id="269" r:id="rId72"/>
    <p:sldId id="270" r:id="rId73"/>
    <p:sldId id="271" r:id="rId74"/>
    <p:sldId id="272" r:id="rId75"/>
    <p:sldId id="273" r:id="rId76"/>
    <p:sldId id="274" r:id="rId77"/>
    <p:sldId id="275" r:id="rId78"/>
    <p:sldId id="276" r:id="rId79"/>
    <p:sldId id="277" r:id="rId80"/>
    <p:sldId id="278" r:id="rId81"/>
    <p:sldId id="279" r:id="rId82"/>
    <p:sldId id="280" r:id="rId83"/>
    <p:sldId id="281" r:id="rId84"/>
    <p:sldId id="282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notesMaster" Target="notesMasters/notesMaster1.xml"/><Relationship Id="rId59" Type="http://schemas.openxmlformats.org/officeDocument/2006/relationships/slide" Target="slides/slide1.xml"/><Relationship Id="rId60" Type="http://schemas.openxmlformats.org/officeDocument/2006/relationships/slide" Target="slides/slide2.xml"/><Relationship Id="rId61" Type="http://schemas.openxmlformats.org/officeDocument/2006/relationships/slide" Target="slides/slide3.xml"/><Relationship Id="rId62" Type="http://schemas.openxmlformats.org/officeDocument/2006/relationships/slide" Target="slides/slide4.xml"/><Relationship Id="rId63" Type="http://schemas.openxmlformats.org/officeDocument/2006/relationships/slide" Target="slides/slide5.xml"/><Relationship Id="rId64" Type="http://schemas.openxmlformats.org/officeDocument/2006/relationships/slide" Target="slides/slide6.xml"/><Relationship Id="rId65" Type="http://schemas.openxmlformats.org/officeDocument/2006/relationships/slide" Target="slides/slide7.xml"/><Relationship Id="rId66" Type="http://schemas.openxmlformats.org/officeDocument/2006/relationships/slide" Target="slides/slide8.xml"/><Relationship Id="rId67" Type="http://schemas.openxmlformats.org/officeDocument/2006/relationships/slide" Target="slides/slide9.xml"/><Relationship Id="rId68" Type="http://schemas.openxmlformats.org/officeDocument/2006/relationships/slide" Target="slides/slide10.xml"/><Relationship Id="rId69" Type="http://schemas.openxmlformats.org/officeDocument/2006/relationships/slide" Target="slides/slide11.xml"/><Relationship Id="rId70" Type="http://schemas.openxmlformats.org/officeDocument/2006/relationships/slide" Target="slides/slide12.xml"/><Relationship Id="rId71" Type="http://schemas.openxmlformats.org/officeDocument/2006/relationships/slide" Target="slides/slide13.xml"/><Relationship Id="rId72" Type="http://schemas.openxmlformats.org/officeDocument/2006/relationships/slide" Target="slides/slide14.xml"/><Relationship Id="rId73" Type="http://schemas.openxmlformats.org/officeDocument/2006/relationships/slide" Target="slides/slide15.xml"/><Relationship Id="rId74" Type="http://schemas.openxmlformats.org/officeDocument/2006/relationships/slide" Target="slides/slide16.xml"/><Relationship Id="rId75" Type="http://schemas.openxmlformats.org/officeDocument/2006/relationships/slide" Target="slides/slide17.xml"/><Relationship Id="rId76" Type="http://schemas.openxmlformats.org/officeDocument/2006/relationships/slide" Target="slides/slide18.xml"/><Relationship Id="rId77" Type="http://schemas.openxmlformats.org/officeDocument/2006/relationships/slide" Target="slides/slide19.xml"/><Relationship Id="rId78" Type="http://schemas.openxmlformats.org/officeDocument/2006/relationships/slide" Target="slides/slide20.xml"/><Relationship Id="rId79" Type="http://schemas.openxmlformats.org/officeDocument/2006/relationships/slide" Target="slides/slide21.xml"/><Relationship Id="rId80" Type="http://schemas.openxmlformats.org/officeDocument/2006/relationships/slide" Target="slides/slide22.xml"/><Relationship Id="rId81" Type="http://schemas.openxmlformats.org/officeDocument/2006/relationships/slide" Target="slides/slide23.xml"/><Relationship Id="rId82" Type="http://schemas.openxmlformats.org/officeDocument/2006/relationships/slide" Target="slides/slide24.xml"/><Relationship Id="rId83" Type="http://schemas.openxmlformats.org/officeDocument/2006/relationships/slide" Target="slides/slide25.xml"/><Relationship Id="rId84" Type="http://schemas.openxmlformats.org/officeDocument/2006/relationships/slide" Target="slides/slide26.xml"/><Relationship Id="rId85" Type="http://schemas.openxmlformats.org/officeDocument/2006/relationships/slide" Target="slides/slide27.xml"/><Relationship Id="rId8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8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PlaceHolder 2"/>
          <p:cNvSpPr>
            <a:spLocks noGrp="1"/>
          </p:cNvSpPr>
          <p:nvPr>
            <p:ph type="dt" idx="16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3" name="PlaceHolder 5"/>
          <p:cNvSpPr>
            <a:spLocks noGrp="1"/>
          </p:cNvSpPr>
          <p:nvPr>
            <p:ph type="ftr" idx="17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PlaceHolder 6"/>
          <p:cNvSpPr>
            <a:spLocks noGrp="1"/>
          </p:cNvSpPr>
          <p:nvPr>
            <p:ph type="sldNum" idx="17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6EDE2-08B4-4AC9-92E0-3BA1225BEE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slide" Target="../slides/slide22.xml"/><Relationship Id="rId7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slide" Target="../slides/slide23.xml"/><Relationship Id="rId5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hyperlink" Target="http://www.net196.soes.ru/" TargetMode="External"/><Relationship Id="rId2" Type="http://schemas.openxmlformats.org/officeDocument/2006/relationships/hyperlink" Target="http://www.bestreferat.ru/" TargetMode="External"/><Relationship Id="rId3" Type="http://schemas.openxmlformats.org/officeDocument/2006/relationships/hyperlink" Target="http://www.baby.com.ua/" TargetMode="External"/><Relationship Id="rId4" Type="http://schemas.openxmlformats.org/officeDocument/2006/relationships/hyperlink" Target="http://www.le-mon.ru/" TargetMode="External"/><Relationship Id="rId5" Type="http://schemas.openxmlformats.org/officeDocument/2006/relationships/hyperlink" Target="http://www.add.net.ru/" TargetMode="External"/><Relationship Id="rId6" Type="http://schemas.openxmlformats.org/officeDocument/2006/relationships/hyperlink" Target="http://www.med.resourse.ru/" TargetMode="External"/><Relationship Id="rId7" Type="http://schemas.openxmlformats.org/officeDocument/2006/relationships/hyperlink" Target="http://www.djv.ru/" TargetMode="External"/><Relationship Id="rId8" Type="http://schemas.openxmlformats.org/officeDocument/2006/relationships/slide" Target="../slides/slide24.xml"/><Relationship Id="rId9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slide" Target="../slides/slide25.xml"/><Relationship Id="rId5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" Target="../slides/slide26.xml"/><Relationship Id="rId4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slide" Target="../slides/slide4.xml"/><Relationship Id="rId7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3.gif"/><Relationship Id="rId3" Type="http://schemas.openxmlformats.org/officeDocument/2006/relationships/image" Target="../media/image33.gif"/><Relationship Id="rId4" Type="http://schemas.openxmlformats.org/officeDocument/2006/relationships/image" Target="../media/image33.gif"/><Relationship Id="rId5" Type="http://schemas.openxmlformats.org/officeDocument/2006/relationships/image" Target="../media/image33.gif"/><Relationship Id="rId6" Type="http://schemas.openxmlformats.org/officeDocument/2006/relationships/image" Target="../media/image33.gif"/><Relationship Id="rId7" Type="http://schemas.openxmlformats.org/officeDocument/2006/relationships/image" Target="../media/image33.gif"/><Relationship Id="rId8" Type="http://schemas.openxmlformats.org/officeDocument/2006/relationships/image" Target="../media/image33.gif"/><Relationship Id="rId9" Type="http://schemas.openxmlformats.org/officeDocument/2006/relationships/image" Target="../media/image33.gif"/><Relationship Id="rId10" Type="http://schemas.openxmlformats.org/officeDocument/2006/relationships/image" Target="../media/image33.gif"/><Relationship Id="rId11" Type="http://schemas.openxmlformats.org/officeDocument/2006/relationships/slide" Target="../slides/slide5.xml"/><Relationship Id="rId1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8E681-0F93-4A78-B6C5-A3DE797895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9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ддиктивное поведение учащихс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роблемы диагностики склонности учащих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к вредным привычк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333399"/>
                </a:solidFill>
                <a:latin typeface="Arial"/>
              </a:rPr>
              <a:t>Какие бывают аддикци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висимости от того посредством чего осуществляется уход из реальности выделяются зависим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200" spc="-1" strike="noStrike">
                <a:solidFill>
                  <a:srgbClr val="333399"/>
                </a:solidFill>
                <a:latin typeface="Arial"/>
              </a:rPr>
              <a:t>- фармакологические (химические)-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зависимость от психоактивных веществ (ПАВ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200" spc="-1" strike="noStrike">
                <a:solidFill>
                  <a:srgbClr val="333399"/>
                </a:solidFill>
                <a:latin typeface="Arial"/>
              </a:rPr>
              <a:t>- субстанциональные –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эмоциональные (секс- и любовные зависимости), трудо-  или работоголизм, компьютерные и игорные зависимости и многие друг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200" spc="-1" strike="noStrike">
                <a:solidFill>
                  <a:srgbClr val="333399"/>
                </a:solidFill>
                <a:latin typeface="Arial"/>
              </a:rPr>
              <a:t>- пищевые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зависимости говорят сами за себ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F84EF-B818-40F4-A45B-F94ED24022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333399"/>
                </a:solidFill>
                <a:latin typeface="Arial"/>
              </a:rPr>
              <a:t>Какие вещества, предметы или действия могут быть предметом аддикции 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котики, алкоголь, табак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зартные игры(включая компьютерные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ительное прослушивание ритмичной музы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ное погружение в какой-либо вид деятельности с отказом от жизненно важных обязанностей человека (хобби, работа и т.д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ди, предметы и явления окружающей действительности, вызывающие различные эмоциональные состоя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42912-4B5D-4098-BFC2-AE60E78B6F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Алкогольная адди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5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e5ffff"/>
                </a:solidFill>
                <a:latin typeface="Arial"/>
              </a:rPr>
              <a:t>Одна из форм фармакологических или химических зависимо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e5ffff"/>
                </a:solidFill>
                <a:latin typeface="Arial"/>
              </a:rPr>
              <a:t>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92FCC-BE29-4426-A5CE-2B94D240D1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4215"/>
                </a:solidFill>
                <a:latin typeface="Arial"/>
              </a:rPr>
              <a:t>Наркотическая аддикция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зненные состояния, характеризующиеся явлен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ической и физическ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исимости, настоятельной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преодолимой потребност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овторном потреблении ПА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котическими признаю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ества или лекар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торые обладают способност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фического действия 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ьную нервную систе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стимулируют, вызываю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йфорию, изменяют восприятие окружающего мира и т.п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C4461-F319-4658-BCAB-5EEAED8546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Лекарственная аддикция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ндром, развивающийся при употреблении психотроп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еств; характеризуется патало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ческой потребностью в прием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их веществ для того, чтоб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бежать развития абстинен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 психических нарушений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я дискомфорта, возникаю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щих при прекращении их при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бо при введении антагонис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х веществ. К ним относя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медрол, феназепам и т.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CC9A4-447D-4E24-B574-B52EAD3414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Табакоку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ение табака - один из наиболее распространенных вид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комании, охватывающий большое количество людей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ляющийся поэтому бытовой наркоманией. Дымящаяс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гарета доставляет привычному курильщику удовольств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 остро ощущается потребность в курении посл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ятия пищи, во время выпивки, при отрицатель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моциях и во время напряженной работы. При этом са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дыхаемый никотин не оказывает какого-либо положитель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го действия на организм. Сигарета является больше отвл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ющим фактором:переключение сознания на неё помога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одвинуть неприятные мысли, прервать тяжелую рабо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местное курение облегчает контакт между людьми, явля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тся хорошим предлогом для знаком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9B008-1D8C-4D17-8569-DAD0355033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Токсиком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ксикомания развивается в связ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употреблением лекарстве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 и веществ, не отнесе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наркотическим, но также изменя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щих психическое состоя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а и его поведение. Диапаз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еств с токсикологическ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ием очень широк – от меди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ментов (аналгетики, транквили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торы, снотворные, стимуля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др.) до технических раствори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средств бытовой хим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D5D56-04AA-49C6-A458-E072FAB349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уиц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мерение лишить себя жизни, повышенный риск совер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ения самоубийства. Эта форма отклоняющегося повед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я пассивного типа является способом ухода от нераз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шимых проблем.Идея может стать навязчивой и превра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ться в аддикцию. Суициды в большей степени характер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ы для высокоразвитых стран, и сегодня существует тен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ция к увеличению их числа. Суицидная акти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ет временные циклы: весенне -летний пик и осенн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имний спад. Количество самоубийств возрастает во втор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к и снижается в среду-четверг.Чаще совершаются в воз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те после 55 и до 20 лет.Соотношение между мужчин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женщинами-самоубийцами примерно 4: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D6D41-1474-4097-9A31-40C3FCB0BE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Трудого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голизм, в отличие от мног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гих зависимостей, явля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-одобряемой аддикц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на самом деле трудоголик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личность с определенными психологическими пробл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ми.Трудоголиком может стать и лентяй, дни и но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сиживающий на работе во время домашних неурядиц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ом психологического дискомфорта, психологи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ской травмы чаще всего бывает реально пережиты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 мнимый страх:боязнь неудачи, страх перед одиноч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вом или, напротив, боязнь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E82D2-9E0A-4EF1-AA6A-5C00432F56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Пищевые зависим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ним относятся такие пси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ические расстройства ка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лимия (переедание)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орексия (доброволь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аз от пищи).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щевая зависимость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не только переедание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лодание,но и зависи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вкуса:от вкуса коф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околада, сливок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C429D-F0A6-43B4-91D5-9076C29F8B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ДЕТИ – это наш суд на миру, наше зеркало, в котором совесть, ум, честность, опрятность нашу – все наголо вид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Дети могут нами закрыться, мы ими никог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.П.Астафь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293D6-EFEB-4817-A409-3734C74C69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Игромания и компьютерная зависим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й из проблем современ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ого об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ляется новая для педагог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а – </a:t>
            </a:r>
            <a:r>
              <a:rPr b="0" i="1" lang="ru-RU" sz="1200" spc="-1" strike="noStrike">
                <a:solidFill>
                  <a:srgbClr val="333399"/>
                </a:solidFill>
                <a:latin typeface="Arial"/>
              </a:rPr>
              <a:t>игромания и  компью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3399"/>
                </a:solidFill>
                <a:latin typeface="Arial"/>
              </a:rPr>
              <a:t>терная зависимость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увле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ьютерными играми, интернет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ми, игровыми автоматами, азартными игр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громания – увлечение или болезнь? Психиатры утвер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дают – игромания лечится, но бороться с зависимост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жно на ранней стадии.Болезнь начинается с привязан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сти к компьютерным играм, которая превращается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талогию.Игра – это взаимодействие. И не важно с кем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людьми, компьютером или же с самим соб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80829-ADE2-4965-9AEF-DE6DCFEF6D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Arial"/>
              </a:rPr>
              <a:t>Проблемы компьютерной завис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188EA-2F34-4B31-AFFC-76C858A806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Памятка для родителей по использованию компьютера ребенк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того, чтобы родители могли контролировать использование ребенком компьютера, они сами должны хотя бы на элементарном уровне уметь им пользовать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енок не должен играть в компьютерные игры перед сн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рез каждые 20-30 минут работы на компьютере необходимо делать переры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енок не должен работать на компьютере более 1,5-2 часов в сут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300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ребенок посещает компьютерный клуб, родители должны знать, в каком клубе (зале) он бывает и с кем там общае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88C57-98B6-4F50-BB7F-CB689F0D6E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100" spc="-1" strike="noStrike">
                <a:solidFill>
                  <a:srgbClr val="333399"/>
                </a:solidFill>
                <a:latin typeface="Arial"/>
              </a:rPr>
              <a:t>Компьютер-мясорубка для информации. </a:t>
            </a:r>
            <a:br>
              <a:rPr sz="1100"/>
            </a:br>
            <a:r>
              <a:rPr b="0" i="1" lang="ru-RU" sz="1100" spc="-1" strike="noStrike">
                <a:solidFill>
                  <a:srgbClr val="333399"/>
                </a:solidFill>
                <a:latin typeface="Arial"/>
              </a:rPr>
              <a:t>                      Компьютер-это резонатор того интеллекта,</a:t>
            </a:r>
            <a:br>
              <a:rPr sz="1100"/>
            </a:br>
            <a:r>
              <a:rPr b="0" i="1" lang="ru-RU" sz="1100" spc="-1" strike="noStrike">
                <a:solidFill>
                  <a:srgbClr val="333399"/>
                </a:solidFill>
                <a:latin typeface="Arial"/>
              </a:rPr>
              <a:t>                      с которым человек к нему обращается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тели должны контролировать приобретение ребенком компьютерных дисков с играми, чтобы они не причинили вреда детскому здоровью и психи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ребенок использует компьютер безответственно, необходимо ввести пароль, чтобы сделать невозможным доступ без разрешения род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ируйте какие именно Интернет - сайты посещает ваш ребен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3AC7E-5967-46B6-AAC0-2ADF5471B0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Подробно о методах и приемах профилактики компьютерной зависимости можно ознакомиться на Интернет – сайта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1049"/>
              </a:spcBef>
              <a:buClr>
                <a:srgbClr val="ff0000"/>
              </a:buClr>
              <a:buFont typeface="Arial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net196.soes.ru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1049"/>
              </a:spcBef>
              <a:buClr>
                <a:srgbClr val="ff0000"/>
              </a:buClr>
              <a:buFont typeface="Arial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BestReferat.ru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1049"/>
              </a:spcBef>
              <a:buClr>
                <a:srgbClr val="ff0000"/>
              </a:buClr>
              <a:buFont typeface="Arial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baby.com.ua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1049"/>
              </a:spcBef>
              <a:buClr>
                <a:srgbClr val="ff0000"/>
              </a:buClr>
              <a:buFont typeface="Arial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Le-Mon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1049"/>
              </a:spcBef>
              <a:buClr>
                <a:srgbClr val="ff0000"/>
              </a:buClr>
              <a:buFont typeface="Arial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add.net.ru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1049"/>
              </a:spcBef>
              <a:buClr>
                <a:srgbClr val="ff0000"/>
              </a:buClr>
              <a:buFont typeface="Arial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med.resourse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1049"/>
              </a:spcBef>
              <a:buClr>
                <a:srgbClr val="ff0000"/>
              </a:buClr>
              <a:buFont typeface="Arial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DJV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1049"/>
              </a:spcBef>
              <a:buClr>
                <a:srgbClr val="ff0000"/>
              </a:buClr>
              <a:buFont typeface="Arial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ttp://www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одител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spcBef>
                <a:spcPts val="10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777EA-216C-4008-84EB-692556499E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Как воспитать у ребенка положительные привыч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0000"/>
                </a:solidFill>
                <a:latin typeface="Arial"/>
              </a:rPr>
              <a:t>Первое правило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 научить ребенка осознавать, что без неё жизнь превращается в катастроф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0000"/>
                </a:solidFill>
                <a:latin typeface="Arial"/>
              </a:rPr>
              <a:t>Второе правило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ебенок должен научиться никогда не давать себе поблажки в проявлении той или иной привычки. Необходимо создать условия для исправления плохих привычек, даже если для этого необходимо проявить твердость и жестк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0000"/>
                </a:solidFill>
                <a:latin typeface="Arial"/>
              </a:rPr>
              <a:t>Третье правило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еобходимо учить ребенка использовать любую возможность для проявления положительной привычки. Тренировка в  положительных привычках приводит к их закреплению и привычки становятся «второй натурой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A140A-B055-44E5-87E1-680E9DD746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ccff"/>
                </a:solidFill>
                <a:latin typeface="Arial"/>
              </a:rPr>
              <a:t>Четвертое правило.</a:t>
            </a:r>
            <a:r>
              <a:rPr b="0" lang="ru-RU" sz="1200" spc="-1" strike="noStrike">
                <a:solidFill>
                  <a:srgbClr val="00cc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льзя бесконечно говорить обладателю плохой привычки, что он - её хозяин. Бесконечные проповеди и нравоучения озлобляют        учащихся. Многие учащиеся и так прекрасно знают, что у них есть плохие привычки. Надо быть среди учащихся очень авторитетным человеком, чтобы они стали прислушиваться к взрослым и хотели исправить свои привыч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ccff"/>
                </a:solidFill>
                <a:latin typeface="Arial"/>
              </a:rPr>
              <a:t>Пятое правило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проявления положительных привычек взрослый ( классный руководитель, родитель) должен создавать условия. Если классный руководитель знает, что большинство учащихся курит, необходимо организовать встречи с врачами, людьми, преодолевшими пристрастие к курению, смотреть фильмы, участвовать и организовывать акции и т.п. Однако для того чтобы так строить работу, надо знать, какие вредные привычки стали частью образа жизни ваших дет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1CB6A-6315-4327-A17B-43C3A09881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0"/>
                </a:solidFill>
                <a:latin typeface="Arial"/>
              </a:rPr>
              <a:t>Желаем успех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в преодолении вредных привыч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и зависимостей ( аддикций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и воспитании положитель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привыч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мысл притягивает, комплекс толкает».(Франкл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исимость-это не притяжение, это толк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лкание изнутри собственным страхом подростка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хом перед реальностью.Помогите ребенк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бавиться от своих страхов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23F4C-CAA2-4DF2-A1D6-475F250C5C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9999"/>
                </a:solidFill>
                <a:latin typeface="Arial"/>
              </a:rPr>
              <a:t>Что такое привыч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ривычка – это капитал, приобретаемый       в ходе постоянных упражнений. Их надо сначала накопить, а потом жить на проценты с этого капитала.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Джемс,амер.психоло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E99CB-4C5B-4465-9280-726087AFD6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333399"/>
                </a:solidFill>
                <a:latin typeface="Arial"/>
              </a:rPr>
              <a:t>Начиная разговор о вредных привычках и зависимостях с подростками или родителями, воспользуйтесь следующими известными афоризмами: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ривычка - вторая натура.»                                            (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Цицерон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Руководителем в жизни является не разум, а привычка. Лишь она понуждает ум во всех случаях предполагать, что будущее соответствует прошлому.»                                             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(Юм Давид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ривычка, эта вторая натура, оказывается для большинства людей их единственной натурой.»                          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(Ромен Роллан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ривычки превращают обязанности в удовольствия, а удовольствия в обязанности.»                      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(Э.А.Севрус (Ворохов)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Вся вторая половина человеческой жизни составляется обыкновенно из одних только накопленных в первую половину привычек.»                                                           (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Достоевский Ф.М.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5E2AB-DF24-441D-9314-F3960B8F94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8080"/>
                </a:solidFill>
                <a:latin typeface="Arial"/>
              </a:rPr>
              <a:t>Так ли безобидны детские «безобидные» привыч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лонность ко лжи?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бедничество?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ксивость?                      </a:t>
            </a:r>
            <a:r>
              <a:rPr b="0" i="1" lang="ru-RU" sz="1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бывчивость?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гры в азартные игры?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сцельное гуляние?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лечение мобильными телефонам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ражание героям фильмов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лечение японскими мультикам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ес к эротическим рисункам и фильма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ADCFF-03BB-4EC5-AF19-D9DB8767D4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диктивное поведение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клонность  подростка  к приобретению вредных привычек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агубная склонность к чему-либ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Суть аддиктивного поведения заключается 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стремлении изменить своё психическое состоя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посредством приёма некоторых веществ или фиксацией внимания на определенных предмет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или видах деятель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6AD17-AFFB-413D-B127-9BFEA794CA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99"/>
                </a:solidFill>
                <a:latin typeface="Arial"/>
              </a:rPr>
              <a:t>Что происходит с психикой человека, склонного к аддикции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употребления ПАВ, привязанность к предмету или действию сопровождается развитием интенсивных эмоций, принимает такие размеры, что начинает управлять жизнью человека, лишает его воли к противодействию адди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C7B3B-E419-4C12-A042-62808F3D42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Кто склонен к аддикциям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ди с низкой переносимостью психологических затруднений, плохо адаптирующиеся к быстрой смене жизненных обстоятельств, стремящиеся в связи с этим быстрее и проще достичь психофизиологического комфор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C6B39-9CCE-408D-A627-9FB4BC04C7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99"/>
                </a:solidFill>
                <a:latin typeface="Arial"/>
              </a:rPr>
              <a:t>С чем связано аддиктивное        поведени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желанием человека уйти из реальной жизни путем изменения своего сознания. Аддикция становится средством бегства от проблем. Для самозащиты, люди с аддиктивным поведением используют механизм, называемый в психологии «мышлением по желанию», т.е. они считают реальным лишь то, что соответствует их желаниям. В итоге нарушаются межличностные отношения, человек отчуждается от об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E097-0A07-4037-907F-43AB6F1DF4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52F9-979F-4CD0-8C46-1F68AC2DB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6242-4475-4D9F-989F-4507A7A28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16086F-DDDF-4B8F-B9DB-13B6ED1B4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66B9C9-A477-4A05-8B47-711F91A25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8C27DF-55B7-42A2-BDDD-D641A1564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F8FBA0-8FB7-4E73-9DE2-85E4AAB8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FC3E54-EA8D-4B6C-AEC7-8FDC83CA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09C6F4-2778-44C8-B848-D169D68B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4F5F4C-2898-4E7A-8D52-44CB17A2F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8F21F1-E04C-4726-9337-C29952BBF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028986-607F-4CE6-9D1D-35FCF1053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261CEC-D0E0-4B28-953B-7174F9790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8049-B462-4CA5-94BE-9842EB85F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453ED0-39B5-4F15-B7CB-231011D74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55E16B-424F-471C-93C7-DE62935EF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BF3B53-E4C8-4EC1-8D6C-0C984873F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13C5FF-BA79-4281-833D-7BC7E0893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197159-B803-4350-B531-E2B0A134E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551A29-6917-4A33-9BA7-E9B76A37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E657BF-2EF1-4504-9019-76791F03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7C0BC4-4F14-4780-9B2E-39BE06FF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394E3C-99CC-4115-9EB0-A81CFEB9E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C4FFF6-D995-4A37-B9FA-5D23164B8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D2EB-97E8-4E40-8DEC-08265C573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83C3B6-3A11-4E80-AE84-DF46AAD9E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5F7590-28B2-427A-B630-22759EE17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A366B1-15E8-4208-889F-38E5D151F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B9AE05-0C4B-4925-8065-FC36D81CB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7846A2-0B96-4AE9-8F3B-9B6F49E6A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241DCA-870B-488C-8747-ACC89C5DB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DFAAD7-E455-468C-97FA-C543887CD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0712C2-AA89-440D-841F-604A6808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D46465-B82E-4E93-A379-492BCF37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2FC5BE-8847-4BDE-914C-67403D92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9980C-125B-4F9F-A90D-BA3740147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52B9E0-BD69-48FD-BE24-045E8B42C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78D28B-76D1-4501-ACE9-4F03B1160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7CF0F3-3C30-4CD9-8D22-CF03F1057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1C9B70-5C9B-4F97-B7E1-889F94A85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153D56-6ED4-40C3-9D1B-0D8877627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5EEBED-FE85-4ABB-8729-4F1C7AD2A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F72600-DCEB-434A-A44B-F624DC579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85088C-1426-469F-998C-390AE1157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1A6D97-064D-463A-B48F-5EC1018C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FFF2A2-DBED-4356-A202-F3346E55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0248B-AEAD-41F4-BED3-CCB556FE8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6C540D-3860-4514-966C-0DE632D3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4A43A8-29E6-405A-B145-E53B4DA2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BBF7AB-B07A-433D-AD1E-5A09A6308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12EE07-97CE-4C96-80D6-BACB1E7FB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10F7C9-F568-4D64-BEC9-AD05366DC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F83F8A-F210-4EED-8EF3-8119BDCD5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C9846D-C2C2-4C40-BD95-14EC765DE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3A894B-5474-46E2-8C30-C06EB1A09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3925DE-72FD-4FF7-91E7-6941DD474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192BBD-6C09-4FD5-9D63-4803F0BF6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F9A0E-F085-4611-8BC8-71DD05E06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3848A3-C40A-45D5-B1BB-0E4273F4D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F8C90A-5EA1-4057-B357-4ACFBE67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22BC76-2D0B-43E6-9080-6A29D22F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F0D2B3-5D85-4414-9A25-53656BB1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651E94-5445-4392-8AEC-A4485D3CC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DE527F-6324-4D15-8146-F0CD65557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4554B0-258A-490D-8FBB-C18D4971A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64C039-4D3F-49C2-87D1-411BF0F2A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BA7594-F002-42DA-89F6-A699007F2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C3AF13-09AB-41BB-AD05-84C39CA54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8A110-1173-40B1-A046-8420351CC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68E1DD-E202-498A-99D1-3BADC6962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606EA0-8564-4CEF-912C-0A9B88742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4C95DD-02DA-47C0-85D1-9046575F7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49C88B-0EA8-4C54-978E-8238E25E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FFEE1A-1EDF-494C-B9AB-A5A05927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EE8208-A635-40F1-BD94-0B46EB88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A401E1-598A-4ADB-8A9D-C6D816F8E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CD6FB7-E20E-42D3-9F2F-9518D2294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F790A3-0FA9-4E2B-8461-8679C6362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D9F1E4-DAD8-4D4E-962F-9421323E2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A4994-766B-4DB7-9111-5300821BA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B9EE54-BAAA-4E66-84A7-DD92AB1FF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28B5C8-ECE0-4B4A-BA52-190DAB89E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8B0405-0285-46D1-8CAF-F6C0B63DB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C46211-6CC1-4FD2-8939-298DED8ED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6B1FDC-E5F1-49D8-AE21-ED1A33E8B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235E0C-ADC3-40CA-906A-84E2198D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7A24CF-B4FA-4FB5-A120-2CEB5F9C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3999AC-C290-4D20-817D-A716F554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AC3F50-84E3-42A7-8D4C-DBC131C64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CBC44B-F5F5-45C0-AC79-3C6AAE520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6FA41-3496-493C-A82A-63671394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708943-E3E2-40F9-8706-8456560CC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AE5BAA-C1F8-4295-B46D-C4455E297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B44301-19B7-4674-94AD-3CB8DA628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17F566-3B56-4F6D-AD44-4C7F034FE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9465D5-2F5B-47A5-9B1C-C9D4C74B6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84BB09-06F7-4F9C-A567-BCBB3992C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4E00C7-DB1E-4129-BC9A-AE88D42F9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1B5DCA-D67D-4F79-B4D9-761B0EDF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F11BAA-B999-43A3-82F8-E0098738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E9DE6A-9569-4092-86A1-A1A7C694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5654E-DD2E-4EF6-B601-0AFDD272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6C70F0-6BFC-4C66-AA7C-2F763B64E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8B2A9A-40A9-46E7-81A7-14DBBA430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7FEA99-4B23-488D-9A4A-C767D8598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4CF1BE-7A2A-4847-BDAB-49EEF07E5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13FBFC-5FE2-499D-88B2-559CB2520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F733EB-14DD-472D-8885-B9B5532FC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5FD266-4263-48C1-B5FF-6DB991A6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C9CEA6-3C39-46D6-B4B3-5D098C404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69C91E-2102-4E8C-A0B2-671D7C440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9C89C1-F8D7-41E7-B412-8997B0BB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B29E-2D03-4AE7-BE3D-FF6F4FC69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94107-39E8-4C67-90DC-E8838B26D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F5E997-A4F5-4798-A23C-7F76863C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7395A7-870F-4F67-812A-5032A9DC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1F8653-3C8A-4CC5-B94F-09119FB0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1183F1-4D8F-400A-A5DB-00ED145D1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07CCFB-771F-4F4E-A946-7BCB3E6D6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658AC9-6DC4-4FBD-B71D-43F90256E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C2C0C1-407F-455F-8486-D002129B0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387722-F18A-48A4-B3E1-1E5314C45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163A93-92C8-4036-BE68-CFDCF55E9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6C8F56-ECEE-4681-8017-362D3DCF7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47B2C-E33A-4097-9B59-A10EE51D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F7FD2E-7C0F-49C9-82BE-E51CC6E00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194542-008A-4907-B41E-8BDB8CA9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CB7E18-FEAF-491D-9836-BF91A615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4CACE8-A818-4893-A588-C2E04F5C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1CF23B-4BE8-4498-BDEC-A446C4FF9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569095-F154-4488-97F7-A55BD781C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60586D-20A4-4A72-B55F-B4EB7CD73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6BAAF5-5A4D-4120-89C9-3E360F5C0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56EC74-9EB0-46A8-8C0B-57BD051E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34AE54-5F92-4D40-BEEA-04F174FE7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5D5D0-81AD-48E7-9469-B905705D4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72C59E-3CEC-478A-B4B4-753DD2929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1D1089-6145-4BFE-B8FF-86CFBCAA5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41CF4A-B77B-4D81-9983-FCD271847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AD0328-4B1D-458B-A7ED-1D79F096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0C2D37-0BA9-483E-A8DF-D0922F76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2D265C-71E7-4D80-B1DC-1FFE5F9E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AFC74E-577F-4ED1-9F65-780C2B4E7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DCE53F-8914-436F-92F0-400C9D729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D3A47C-8763-4153-9944-80D40EA46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45CC75-E9ED-4A12-BBB1-70296AEE6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1DDE7-7A32-4661-B8AE-320007671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C37E41-C8C6-460E-B887-45F590C39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FF7E67-1B02-4A77-BD9A-5A4F8F99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1D656A-7D7D-4604-BADA-600F5CA9A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B078F1-BAAF-46D2-9BDA-BF9F83B59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690422-AAD5-4B11-8D11-404C0C76B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688D60-0ACF-4DE5-BD4C-CD983E1C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61B8D2-BC3E-41AD-B526-40ABBC5D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2EA5DC-109E-4F69-B8D6-A28BD200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52FA40-6CE4-4813-A822-8BDE535C0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902DB4-3B28-4D1F-BB45-05C5CA202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B9B3E-F58B-4D53-A549-0B5F470B2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06E6E3-EB1D-4D4F-AAEB-717690F9D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FD73AD-11EC-4FF3-9DCD-078DEE304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A51615-FFCE-4AEC-81AA-A8D1E4C8C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44ABCA-C07F-498B-B465-3A70B9568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BEA1B4-8EE7-4E69-B0A8-48EA01311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FEFCB9-A32F-4C88-9B03-50D50CFB1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AD3214-114C-4C8F-89CF-A8F78BDCE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2A21B9-44A9-4AAA-B568-E22E729D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FC6D8D-5C3C-44D7-9599-3F896BF2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AC979B-AD2D-4F44-8AA7-2188CD82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87455-C081-4AF2-A43C-83F5D458A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08594B-3BEB-4103-B2A8-10722DEAD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4D75C8-3C39-4AA9-B45C-B2952DC85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DAD493-88E1-4287-A4FB-D773E5E9E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8B9C1AF-A742-496E-B51C-023F0FF1A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BC3A5C0-926A-4B4D-91D8-F8F3ED415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C3C2222-37F4-4229-ACBC-84DCE4C8B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7E1EA8C-12D0-4CA1-9DBF-45B098219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69605AE-8DB1-4F81-ADF7-0F36F940E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B9ACFC1-1FF6-4A67-BA68-FD3267980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3971031-6EE5-4F3A-95A8-2F87D0FD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010BA-BE52-49CB-B569-65444A353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8B2D50D-7E9B-47F2-9113-410531D6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898752-DB31-4B6F-A53A-E2723D28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48D52BE-DC69-4703-9BC4-B51DBD33D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B08A5CC-F931-4DC3-8BD7-87FC74E90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1FA1301-149B-40BC-A263-39FF7E9E5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D3CAE4B-EA81-418F-9F9A-C3F5675F4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092806-A9BC-461E-BCCF-F1C8E6526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EAA0EF5-DFCC-4713-A402-176147719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446A071-7DD5-42E8-B3FD-EE23A3286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81182D-54F8-4FA3-8885-7FC7E6972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51611-03F5-4ADA-A7D6-CBFD77048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3A20B40-B26C-4C46-A5A6-382439716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A8EF580-35B1-41F8-A161-2FEFF9AB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0615C7B-E53E-4BF5-9612-CD242E46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599E83C-5397-4651-8765-9319F772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B47B4D2-66CA-413D-8CD6-04165CC26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1A4233A-59D8-4419-A5E3-197F271DA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88BFFFF-DA68-4122-831B-726F2134F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C72CAAF-A6ED-42F3-95C5-54AA3CBB5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A8BE2AC-B1A1-4D65-8FE3-1C3F78B28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6D69EA3-E41C-4299-A94A-5C0A19DC2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B2E61-A5B4-48B6-BDB9-8309038DC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4094931-A45E-430B-88BE-B2BEB7B51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B065E14-120B-431A-A3CB-BC2B37ECE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75E33B7-5F64-4EFA-A53E-2261ED1BD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4A211F9-B7EE-4604-8511-CABD6DAC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E805689-4592-40D8-8B59-C01C5CFE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DE4B07A-36DB-4982-9DB3-224D7BFE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7795997-2216-46F8-B713-4CF3A5D3A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E6D64B1-B01D-4126-8C1D-75B244BD3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E37F3A8-29E8-4DC5-BD02-19C668935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A408DB3-A83D-4050-8E41-1B12DCCD4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1F1A9-7C94-4898-A8C8-38F24C2CB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44147D5-6A41-4953-8343-D807F10BC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795D984-5D7E-452C-A204-AF90C676D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666DAD6-D8F7-4A80-961E-FDE7E2324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9DBA79B-92D0-45AC-B9BC-18900E863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D9A57E2-618C-438C-B48E-608CE6050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B4CB646-405E-4EA7-80FC-2A74DA10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894B7F5-E7B1-43EB-9902-6CC7481E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C4BA852-FA86-40F1-8553-78C3A1A9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04E694D-1B82-4A2A-882C-F2FA44E4D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D9C202A-88EC-4D2D-A37F-7AE204828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A713-51B5-49D9-B08D-68985C731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22D13-BE78-4E86-898F-58ECFD075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517C71C-C167-4BBA-969F-822B2C27B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9183FDA-C3E0-4573-BC1F-96AC340B2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8F08E48-E63F-4D9E-A259-8079DD9A5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31E9AE8-693E-4C9B-AE60-15FB3C2C6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721B779-961D-4B3A-9BDE-EB3FA3FBC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FAE5CEA-9670-45D1-B96F-56DCED628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AB2A698-5CD7-47A7-B737-C5CC0B14A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08FA357-0FFB-4A3B-B9CC-46795D21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928D26A-2355-44AB-9A7B-5DD497E7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BBFD9B6-A02B-4232-8D0D-53A6F95D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DEFF1-CFB7-4B28-BC3A-3D786710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CA88C34-4AC3-40EE-9B0A-9BB34E7EF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591E92D-9060-4FCA-A785-2CA5C6901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A0536BC-754A-43DD-B3E2-85400B92F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2B53F88-8EF2-423C-BEF4-E8BCA7B60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9FCA2DC-187E-451F-B011-9FC4643CB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DDF41D4-B610-4EA7-83B1-805D9688C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CC4F2C1-B0A9-4597-9C6F-5A42CCB59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50F1506-FC84-4354-9A80-DA2F82F6A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3BAA20D-B109-4DE0-A4E5-CDF7CEEE8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F32527D-E6E2-481D-B944-CBE4E6F3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6A066-0EA4-49B4-893E-115DC10D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93B961E-70B0-42CF-9A94-C81E55FD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2A9355A-A4F5-45DC-8916-C0594ABF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3ACC299-2068-4DDD-9BFF-D951A70D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AF05AF4-E7FB-4385-A60F-529D0E7B4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998AF6E-B1DD-4151-A31A-A518BCDB6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8C993A2-9EC1-47B7-8CD5-9309029B6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6DFCB48-4131-4D9B-B58E-537D73512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4B9E27F-4D9F-4EB5-A6CD-E1A4344C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37E938C-6E02-42AA-8F43-BD97FFE88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E44F902-4C2E-4528-A41E-292EED147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45F2B-EC0E-4B21-8405-4F771C6F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FEA81B5-9FAB-4033-BD90-DCB23B01C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0B6D419-BB7F-45FD-A19C-B4641BBB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84A44B6-5181-48D3-B438-DACF58AF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E7F93A2-1A02-4D3A-A111-D5909D78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C679623-9998-497A-972A-F7806C792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896CD3B-E36F-4854-A0C8-C6C56FB03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FC521EB-ACA8-452E-9921-909A088FF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E9E2885-FD5B-4A42-83CE-2E2A78427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9D6B348-E4AC-4E0B-BE6B-05BDDC6C6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6C7788E-DECD-48FE-B38A-064DF78E1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9185E-3467-4656-8837-730A834DC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3C96425-BAD1-440C-907B-880E23FB1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A010B1B-D90A-421E-A0B4-39E0E6CC7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4A29FB4-8AD6-416E-8B6C-A950558CA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5A30A20-C99E-487F-9B15-55C617F3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723C406-DF37-42E0-9D7F-95E90261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4FC8206-7DCB-48BE-8D68-932130DD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F8590DE-237D-47C4-9D94-E05C30390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F929330-D38E-4F55-B156-3DE73AA3D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62ABBFC-4F15-4058-B774-B4F65B172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B1BA6FC-EA88-4868-8E31-4A3950466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CC17C-FA57-4D70-8C1F-359A149DC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B50522B-E3AE-4E05-9C0B-06887641B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E98FEFC-FF57-4553-8A6D-BE362714E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FF62DFC-45E9-473C-8942-7775B783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81A1B2E-A9F2-44C8-98F4-8DE1F438D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6FB425B-9CFD-4370-B4E5-8BF1A2071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4EC0402-A9BC-4B21-818D-9F6E1AF6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921B42C-566A-4164-981E-7C58F03C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D567830-B7FC-40E0-970D-249BD985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3E84625-98E6-4324-854D-365463B1E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D3445AE-EA7C-48FD-AD2E-3C6408C60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EE097-951F-489E-B841-49077B3EE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16BCA24-71B6-46BC-BA0E-1510FBC7C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DA0C6F2-4BCB-43BE-A815-F69CE441F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92EF333-25B9-4040-85AB-EAAC227ED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977C8F0-D7CE-48E4-B83D-25A020B3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3EC31C7-63FD-437C-9167-F61DE53D1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3035DE9-BE32-4E7D-80A7-5AC6AA2B2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35BBC4D-A5CE-45FD-A543-0D34CAED3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1725770-9067-4B01-9417-1F56A453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4A490A6-2F29-4C2B-87D7-62EC6B6C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751F835-41DF-4AE6-889A-3E9A6EA9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CA634-C677-4AC1-B968-1DF2E0EE1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BB29691-CF7C-452B-8B23-1CD6C21B2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F91E63E-68DD-4C6A-9070-F81E92586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CD727B0-1EF9-4304-85A9-2DB89646C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868198D-3163-4EE2-9A75-7E6D55937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619B7DF-02E4-454F-9987-018A4B828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D2F2D7E-D107-4D0C-9FF8-004AD52EB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D18F1D7-43D6-46EF-A053-4972F5195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DA3D148-F96E-41D8-8299-99276174F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5BB879F-8862-4D10-A305-3CAC1EFED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71649E6-321F-45B3-8337-7E8DC5E9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29631-0130-4443-A5B9-0A12CDB91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109EB57-A865-4628-BD5F-9DD98B9B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AEF442A-3039-4343-912E-CDBF83CB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EB63E1B-E885-40F7-971D-F5074C7A7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5EE03F9-774F-4C76-90D0-8B728EF72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922AD00-66B8-422F-A7C5-C3635486E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EA73154-B000-4CD1-853C-364EFDFC2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AC55581-B34B-48C6-A355-3C8E98E83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A28A3D7-B866-4B33-9B2C-94F107241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BE43D01-801E-4AB3-B86B-42E6094F7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9867A7A-A223-4660-A6B8-BE3DB8CD9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9BCD4-1595-4980-88D7-8DEBA8159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085DBE2-F37C-41D7-9F4E-618A5DB2F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3A2E5F6-1ADC-4BAD-9D07-82DA222D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45DA7AC-D7AB-4DA5-A3A5-234D87EA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C3AE65A-701B-4AF9-840D-23FD1EE9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2DBF694-4E50-4708-BE15-E12789642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0EEA2FC-8C71-4A0A-BB61-FA43FCFDF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D09DDF0-2EA4-40C6-9F58-6B764169C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BE867A6-CD2D-40D9-B8CC-6C3559C8F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D470B62-FDFA-4538-A742-27AA5E547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EEC8071-3BF6-4886-99A1-8EA2F3AAC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32E3-F426-45BA-ADF4-29189A8A8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85DFC-4B4E-4355-9104-B45AD95DC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06CC962-8DF1-4E03-97EA-E0E82B430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4D72937-18BD-4B79-8F1F-B039D0CD6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AFD8543-0DDD-4AC9-8237-5E2A20B06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8549F60-40F2-469B-80C5-148724CD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7AA0108-193B-4531-888A-13605C7B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0F0966C-9BE6-4604-9142-1354549B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A64743D-5E2E-4625-8571-4591CED48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F0E4F53-3F49-4E0C-A860-4C07607AE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5196D68-D790-40FF-9F85-F0F954807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C817FDD-ABD1-4561-8884-06AF8A8C1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0E1BC-1807-445C-ADF3-AF8482CC1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0BAC966-E17C-4E46-ABB3-8BEAB5F3F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85969C2-35F6-48E7-9977-D52FE36F5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DC3B156-C58B-40C1-9CD9-D1B0D1268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EE40CBD-5C8C-4B10-986D-8023EB7A0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C1CD74F-9D37-4E26-AAD3-D90BCC073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CD8CB45-FE24-4C14-A94D-CA33A231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26E6BF6-2E78-4296-A560-FD1181D8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1C361A4-3FC1-44D4-824F-F29C8D45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472031D-FB41-4AE5-8B03-77982A525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406DF95-4EC2-41F5-9385-60D461CD3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66BC6-71E2-4013-9F03-A9A467F42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0AABEF2-B922-42DE-B612-DCECE91CB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EDA8BCB-7EA4-4EAD-9D12-A89C37465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C440579-D889-4895-AEE9-91AAA6B6E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BF7C5C7-FBC1-4937-8546-0FA64A4E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2F01902-BD72-46AA-9869-F7B549735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02E6F04-B0D4-4CC8-9274-EC5391411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524205E-E009-4F1F-A8FD-C3681FFD5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1FE9D85-EBC9-42F5-83BA-ED3E5D7C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706BFF3-5933-4DB4-99C4-28C4B34C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9146F00-D09A-4B33-8E50-AE223447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C6C6F-1B8F-4F66-A9F4-CE40A226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80D2C30-0F66-4D33-B7A6-1A99A332C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B9F9C4F-7014-4F75-84C3-A55F14A9D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BCEAEE2-5235-445C-9F3A-E3F82EB86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003CBFE-48E9-4CE4-91C5-F6E6FE548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4C0295E-E259-4087-A7D5-CEECDFE6F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EA5F6EB-9989-4A68-B071-034EAF2C9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E69AAA0-211F-4897-A7FD-ADA28CBA7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AA90076-1ECC-4202-BFF7-31DBBD58F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B56F87F-778E-4B39-8F59-838B85BDC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BFF2B97-5F21-4336-B898-EE666492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CC31B-3031-4875-A358-A8C740B9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9F36393-8E84-4256-8A26-E039CF0C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977C681-06E4-443A-A60C-5C906CF2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A6B3D92-C985-49E3-9439-57989BD0B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B46BFCE-C1C8-45CC-8A6B-F7D5C9193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5CEA19D-F5C1-44D8-89F4-32C92723A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3C8BEAC-FA64-4832-A6C4-8E45ADD8E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14F094B-DABD-4349-9342-FC68CCC82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42DCF6E-93A6-4854-B428-B9F82F29C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6863827-5B43-4476-958A-B56AC4A21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1FF0FC5-3453-4DE4-B528-1F58A551F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411BE-13A4-4D14-96D9-E4CDE765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E7BCFBF-8FFA-41C4-81DC-EF8FB7FF0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0830932-9F17-401F-AB34-202908E4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291F1F6-B992-49FD-A0AD-F9E2E9A8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8837554-35F2-42AD-9602-27B6C372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B170111-571B-44C3-9892-956DAF712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8EAEF5F-DCEC-483C-AAEF-15179FA1F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CDC101A-6CC3-4DBF-BD88-7CC66B257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9F73511-736C-4571-B08E-CAB782100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028CA12-038C-4876-ABC7-E8B3BF058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7A5C79E-71D5-47F7-993F-85B17DD40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E9D7B-1FD5-41A0-BB97-A8485526E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F516F11-290B-490C-B120-7A61AAEFE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B7BAE2E-ADDA-44B4-BCBE-23B187233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3DBE9CA-FB2A-4C67-AB1A-2A10B9117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F3A5A71-BA7E-4736-89D3-32BB5C20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F5C6A46-7AFA-4481-91EB-0472D391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0D1EAD5-DB7E-4FC3-9230-916F02AA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892A7E2-47F3-4809-989C-670313A7D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3A96ACC-3FAA-445B-AD84-6CD7172FE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D822FD3-CF53-4AD2-BDC4-0058C34D2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A0E712B-9D7D-4F94-AF18-B95A9E9D8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FE2FB-612C-45B4-A1B3-E928A3CD2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10C2EB3-F351-4217-B157-D2CDDCEC5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95460CF-9CB3-4D56-A3A7-05C25C8A0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8612CF2-D35E-4A13-8946-FB38955EE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AB806F4-F042-49C0-A5A4-894AE24F6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8612ECC-2720-4BD8-9302-FAC0A7C01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DA2804F-D6E7-4FF7-9B3B-D1B2BB3F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0E549A4-FB89-4B7D-9674-EA1AD43A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14E60E2-E44C-4B11-B27A-42823F34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CFA997D-CC19-4346-9B8B-622B0B0E3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CC853BB-E36A-44AD-A02D-7BC16C423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46198-3E27-48A7-B9B2-2F0D26DF4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EBC4F89-249D-4649-9BF6-8A2A7EC45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20F30A0-D4DD-45D5-BB88-F279AB2BA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273C927-F4BA-4790-95FB-DD3292E84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A50883E-3A7C-4BF9-80A8-01A1D88E0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E7CA323-5ACB-4DED-A270-290AED241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C8E3A89-43BE-42BD-8AFF-9A7DD10B6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4A3BEFE-13F1-4C85-BE54-5D61155EE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5234D95-8650-4F28-8B43-B5EBC98E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04D3204-5CA4-4FAF-8414-9E86EB9C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BD2879A-0D4C-46C1-B0DF-A04BC255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9EFCF-8F63-41DF-A49B-3E81A54A0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ACAEFF6-831B-46FB-9065-585FCD322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D0EEE91-1C47-4337-BDA2-D20286360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DFFFDD8-DA7F-4FBC-BCA8-B30EF536F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E17A5CC-CD9A-403D-B688-3BFC3BAE9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331F3A4-39F3-4579-9AC1-CBBA07D00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2B44FDA-3506-4EC4-B0DA-3F915B669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C93955E-A9DD-4F45-8D07-8037D7750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E9178E4-503B-4E86-B0FC-F03111762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0AD42BE-0108-4975-8495-01FB2CE3D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9331856-A2FC-442D-93DA-EF411CD9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5511-7A8D-4E2C-B6E5-011A88C88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F2BC3-5D9C-403F-922C-5F8FE6793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2A4EC93-F8DE-4884-ADD1-C084E62C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4090571-0979-466C-A552-6B6CF361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2FFC974-547C-4672-A45B-E47587519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B5458B0-87A0-47C3-90FA-807D267F2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A697B4B-8933-44FC-BAA6-E80631A9C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74E8FFA-5C97-4BF8-9EE6-D8FEF0848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72BCE8D-9089-499E-A99A-CB037FB8E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4CA5928-5F67-4F68-A135-EADA0532E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03FB6CE-A3F3-4D39-A139-C5668D98F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A4D56C5-854A-4D90-B03C-9B694F98F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D9010-BBB3-47AD-9DE6-BAC30F86A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69836C6-7389-46FC-B11A-6C8600455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26835DB-02A4-4C0E-9985-7B735FE3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9D9E75D-3936-4742-A35F-3DF9D32B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E970163-15FF-4D46-8F24-2F0ED3A3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F394796-E3B3-43BC-87CF-B8D499450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79A3729-AAE9-421F-869D-A521DDEE0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9C72204-BF3A-4737-AC85-A0B12D057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66248CD-3D90-4F3D-BC73-2728C3206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152AD62-F85A-4AB1-BE92-FBD45BFA0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0B2B871-8EC1-4373-9735-E5575F16B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6E761-1D4F-4D8C-BB98-37EE9D3CB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8B26AAD-54C5-4A14-8E3C-937776938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D05CFE3-EED7-407D-8D05-B6FE7D5BB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9D3D1FA-AD9B-4371-97BA-7B05FC4B5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04C21DC-79CD-4144-B027-3D0CB30E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FA1CF1D-A75F-4F35-8EC0-DC1E55F6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FF9EFAB-CCC7-45C7-97A5-C2E3742D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122B36D-4DBC-413A-BB80-FE3D07817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95A2B12-19B8-4FF5-BAE5-A5D71413A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BA95968-A618-44FB-AD08-9970B5719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3226FA0-FF0A-48D1-980C-B7725BE46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B48E6-1102-4762-8986-D06361BCB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E8619E5-D00D-4B95-9613-904F07E74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52ECF17-0DC9-4EDA-859A-59835FC14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CB63819-02AE-4DB3-8B72-4079FC11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5030A93-0EC4-4B90-AB00-8DC8A22C0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91CB08A-AD8A-4F65-BDDE-73C6593EF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8D74C71-B7AD-46AF-B00F-5B56E1E5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2F66583-5FE4-480D-803C-AF68A1F6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F60EFA6-9AB1-437D-86D8-EE242C12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BD5FDEF-3F8A-407B-A7D6-C09A8A726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E7DD407-5D20-42FF-AC55-A75A89331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B226D-4C22-4C98-92E1-D944C68DB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D4277E2-2963-4681-AD50-9DFBD9EA7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F9D980F-E2B0-47AD-B2A6-AEC98EBC0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3C65F8B-B43A-40DD-8237-3071F3CDB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500FB7B-1DDC-4859-BCDF-6A3EB016C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2532DAC-0EEF-4AB8-A2EB-86CCC7EA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2518B36-1A12-4FA3-A5D0-C4383930C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3B05CE3-5F73-4336-A993-E7633A52A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F08C885-3B38-4021-9E5E-C44E6358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33E3F75-A66E-4C98-B466-BD51554A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2822C5A-E04B-4314-886F-FCF4EA7C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9C830-BD6F-41C1-901C-74D13C6F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8D6773F-28F7-4CD4-A891-5600536BC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C5AE7E5-5070-496A-ACB6-0C865807A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4C972DA-42F4-4E4B-BDD6-25A15CE64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5FDCB73-D26E-4A48-A621-99006C3A2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38FF8F4-1DF2-45F6-9BA6-A3D984FBA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0B9B10A-DAD3-4477-8F55-1A553BD91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9DCBDD4-D8DA-4890-8932-C47647170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724BB41-4F05-4C1A-BDD0-9B8C13CE4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C6EA46C-E676-42CC-BC83-9CB1A2D9B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05C19C3-BA7D-4CD8-BEC3-6F4740E4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F5A73-15A1-4C4E-9E6B-35AC9BFA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8BDB86B-DF2C-43DE-BDD1-0D865263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6B0060B-350A-493E-AB3F-7FC2AEC0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6CF18F1-5DFF-446E-B2D5-09A885508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9273547-6554-4BF3-8030-2CD786070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8135648-A30A-43BC-B356-E5F3F6D49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1509AAE-6C20-4805-8271-76EF82662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F84A74E-AFD8-441F-A4E0-F317244C6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3AC9067-63A7-4DAB-A6DF-BA2745F7B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1053FDD-01D2-4ABB-954F-39D0FD9BF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CD70C1D-E65D-4F98-87E8-33A6CCB5B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183EC-9455-4EEE-BECF-E6D61E8F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A93C431-9C8B-4777-8D31-C169CCDCF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C260CAD-A1E5-49A9-A95F-7A0FA555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D0C86DA-60F0-40D1-9E3F-F2B06083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8EF56ED-96E9-4579-BC48-E3BE39DB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0D0363E-7325-4DA1-9586-F2121E815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3E651C9-C155-4C23-9D7C-EC52980EB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5F22AF0-3DEF-4C46-9CAF-BE3AA9C30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704C940-4700-4A4C-9EF3-DEB684DD3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DDC5F24-138D-4ED9-8E2B-461BB569A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0390902-A571-4399-BF67-CDD42BB92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0F356-565C-4AAB-A49A-DD6620EDD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C53B909-7E68-4AF4-89C2-B38845A26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2E21AA1-A62E-4667-AF63-1E0A8FEBD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160BC66-9F3A-4EDF-BF44-31C7AF54C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1DEC6AB-5505-4C15-BDCB-F814F2E6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645D8DD-C54A-4811-B6A8-779F0439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DB0A25C-CCB8-4CF2-B4C8-B41F4DCC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28B1149-6154-4B15-BB93-DCFB6D425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65FF325-8323-45E7-B32D-E2E502331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2A3CF00-7677-47EB-803E-492121AE7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7B6C9A4-92B6-4192-9162-21E8012A2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6809C-2F14-430B-938A-DB04F8D39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087CC51-1BF3-4A5E-92B0-007C940A3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202D543-1CEB-4CB4-8247-5F8014C7C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F3E10DF-3A07-4FFE-9AE4-9610EA574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D385060-DC44-4899-9E8E-D2DC9573A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178806B-0D7C-4A30-A0AE-0E222D174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735A648-CC8E-46C1-8F1A-31834CEB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127FFDC-648D-4301-8598-8D613E37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5039D2B-6016-4553-AE55-D2035896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EFDE142-ACAB-4F84-843E-E4A901080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CF5664D-4909-435D-A86D-3B119EA10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D623-7E31-45D5-B9AD-AE1EC898A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C91A1-0C80-417F-AB6A-DA12B14E4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665559F-2303-49D9-A2EB-EB63A5599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1B3A305-ADB9-4786-ADB9-DBACA31DF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D3A2D361-6F16-4300-B360-8D2867FC0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B58AC805-6109-4D41-A1D1-3012592DA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6995253-5E79-467F-9995-5453EF967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4D67EE3-9DDF-48FD-9D39-504B395F0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FD9A02F5-6F39-4BCF-AB7B-B9D52D14A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B93A6DD5-BE6F-4CAB-A16B-45939B42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3B0AD86-31A3-4302-B033-82CD0AC1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9056CCB-F91A-46B5-8985-3AF0F506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88544-A3FB-4B4E-9453-2A980ECC5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1FEF8F64-707B-475D-A5FD-E5A3672BE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B957B10A-6A19-4342-A340-424CB931F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B2479A68-683D-4C4F-A3B0-52AFB3B1E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BF5EBE5C-9DAD-413C-92A0-5E45120F5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046BC9A-F5BE-400D-86C8-CF0291E65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ACCB81A-7351-4CDF-9B49-FECD21090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B2A1B23-D80F-42CE-BF5F-429C82936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E90CA9D-5BCA-4AFA-86B9-C827D897A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D9E82D1-E2BC-4E61-BE02-C75E23AFA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F1B56B5-0799-440F-BA03-1335DF1A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1C4E0-EB56-4876-B1A1-A0414FAAA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6DFAC66-9F01-497B-82A8-0A7FA702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CD9AF641-508F-4BF5-8E53-037575F1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B0C0644E-FAE8-4C86-8ACE-6ADE704F6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81BD7B2-E62B-440A-B553-D6BAAAED8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8D2910C6-A1BE-4ECC-A4D0-D7104D779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392BB162-5096-4E0B-98E4-2796E1C9E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E677498-C5E3-4EC8-835F-827F5D877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60F3A8D5-FD55-4E1B-AB3D-85F3111E6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90183AC-3E31-4A8A-A892-B275BB926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04031101-EB25-4B26-AC85-C9D9420FD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7BD5FE-C12E-4D4F-9D01-2AAADFB95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5E3D2246-00AD-4661-A76D-60D2168B5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602C028-2FE2-45CE-A937-3677CAA4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D20C68D-C9C1-4C79-8355-F940F4B3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6303F23-E128-4DE9-9CF5-63FF2DE4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655C3138-6BD0-44BA-883E-526BA5850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6156242-1272-4655-A436-894900215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97E232F-055E-4DAF-8E21-EE8B15C81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ABF3ACF-CD9D-48E6-B88F-9B63E8E92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112613A-05C3-41BE-AF06-A21B31BB4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21B830E-E2A8-4B62-BB5A-E24F1C3F4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1FCF2-FF03-4CAD-9F13-AE725586F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060C061-E47D-472F-9B15-ACE877453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E939A8D-9F6B-4A2B-B305-04E05B121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697D01E-816C-47E5-9DC9-180E9D33A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225BD06-9287-4774-AB9A-12003328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21012BF-7C14-4108-B2DE-44010B22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CA09FB7-B141-4BBC-90C6-446D61C4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A72D3209-79F3-4DCD-BB06-17861B2BC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AC218D92-BFDA-4433-8E6F-C4F47D13E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AA2EC28C-EDDD-4401-953C-8EAAFADCC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D50803B-2AD9-467C-AA2E-01174F9E0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CE677-FA6B-460D-9652-72FB4CBA1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4B57D890-B309-4C5C-ACA2-01C345B5F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DF77D03B-830F-4038-A49F-78771B34C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CC997A9-F4CE-4F2B-81C1-93E581DC3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3FB7F294-8D3E-488A-B15A-86BA02D15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DF494BF1-D1BE-44EC-A97B-D6B132619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D998B55-3A6D-4738-8C2C-BB2AAA50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F9915D9-F262-4BC9-BF0E-D938922F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CFAA18E9-8FDF-44D0-ACDF-39F5F830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9D803B8-4B31-4E71-BD84-AFAF3D19F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19B1622D-3D88-4920-96D5-1D1EABEA3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D5B35C-6FD7-4421-A92E-A76D72FD7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DD7080F5-458E-47BB-9934-D5A2B51A4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63B5D8C1-0588-47B7-A930-C24CC2774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7AEA575-0339-4462-8EA8-9BE4C4086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0AF2E8BE-4763-40FC-ABE3-8ED24EDAA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F878552-942C-494C-A8FE-2C685D3D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A781419-A81C-4009-A454-62BB7DDBD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39E318E-0FD6-4159-8215-CC88E88C6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2DDBA2C-2B17-457B-AD10-66A4D5DA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062B71DD-DD88-4CBE-A0CE-455846D9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E96CDC8-808E-4EC9-BD1B-023C55B0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6EAE5-C17C-4F6C-9117-71BEECE6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58155F43-E147-4507-88D6-8F5B768E9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B567F26-97DB-4AC1-A6F7-CCE43ED8E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DC20DAB-0B5D-42EE-BA0B-7ECD9F1EC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57839-7420-4A2E-9020-2A7A8F34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CC994-8C80-4368-97F7-8ED6900D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3AFD-7AB1-4CCC-B068-91388027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C46D3-6D41-4F4B-8B33-7387447D8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9605D-68C7-48D6-AA87-6645EFC6F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5D601-2742-4206-9689-607896B37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C038F-95F9-4B51-AA03-2AE1AC188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F6B56C-0BF2-4542-A9C1-D1669043B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A7F93D-77A0-4852-BA2C-E0FFB174B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7A789-ACCF-4A7E-A042-451F02BA8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43C1A-2CE8-43F6-BFD9-3F76361F0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A54C7A-72DE-41A0-8EAC-905710579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60920-8B93-492E-BF1A-687CE277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0928-1667-49AA-8155-69200FCF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4DE0B-C317-438F-B66B-7AABBA9B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145A93-48F1-4448-B805-38F17AE8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1296E4-2E3F-44E4-87C7-5901501EC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A1506-E48C-41BF-B133-F0D1848F3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AE8563-3107-446F-8E58-D7F8B0965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FF71B-1C64-412B-8B59-B181B887E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0DF6F9-AC1B-4258-A2B2-6041E8DE7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31A693-BC82-4ED8-9A8D-8B0FA8941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879332-D45D-45DB-8CD7-CFE41B7A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7E21A9-C121-45AE-A4BC-B7E8D3D89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D1C9-FE79-4E66-A641-5DF154CB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797DE2-B965-485C-A425-594E42461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5513EE-B4D6-44D2-8BDD-40E66065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17955F-E502-49F1-B53C-BB5D4F5A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78B602-09E9-4EB4-908C-711DA038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BBE138-D773-490C-89D1-EF442D1CC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2ECFF0-3024-4260-82CC-60BA5EC93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3827D3-35F4-4D61-9EE8-E6962D098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F3D265-F26E-4961-B302-223827571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03D4C5-83A3-4EEE-9B07-20B2F7728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E4B0A9-F1A3-4795-B133-FC1A2013B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61.xml"/><Relationship Id="rId4" Type="http://schemas.openxmlformats.org/officeDocument/2006/relationships/slideLayout" Target="../slideLayouts/slideLayout662.xml"/><Relationship Id="rId5" Type="http://schemas.openxmlformats.org/officeDocument/2006/relationships/slideLayout" Target="../slideLayouts/slideLayout663.xml"/><Relationship Id="rId6" Type="http://schemas.openxmlformats.org/officeDocument/2006/relationships/slideLayout" Target="../slideLayouts/slideLayout664.xml"/><Relationship Id="rId7" Type="http://schemas.openxmlformats.org/officeDocument/2006/relationships/slideLayout" Target="../slideLayouts/slideLayout665.xml"/><Relationship Id="rId8" Type="http://schemas.openxmlformats.org/officeDocument/2006/relationships/slideLayout" Target="../slideLayouts/slideLayout666.xml"/><Relationship Id="rId9" Type="http://schemas.openxmlformats.org/officeDocument/2006/relationships/slideLayout" Target="../slideLayouts/slideLayout667.xml"/><Relationship Id="rId10" Type="http://schemas.openxmlformats.org/officeDocument/2006/relationships/slideLayout" Target="../slideLayouts/slideLayout668.xml"/><Relationship Id="rId11" Type="http://schemas.openxmlformats.org/officeDocument/2006/relationships/slideLayout" Target="../slideLayouts/slideLayout669.xml"/><Relationship Id="rId12" Type="http://schemas.openxmlformats.org/officeDocument/2006/relationships/slideLayout" Target="../slideLayouts/slideLayout670.xml"/><Relationship Id="rId13" Type="http://schemas.openxmlformats.org/officeDocument/2006/relationships/slideLayout" Target="../slideLayouts/slideLayout671.xml"/><Relationship Id="rId14" Type="http://schemas.openxmlformats.org/officeDocument/2006/relationships/slideLayout" Target="../slideLayouts/slideLayout672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C2113-160A-4F8A-9367-5E9EFFA518E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2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33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274e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434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6CAEC-D7A0-4F18-9A51-003B2024D18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77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b57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478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0DFC2-E55F-46FB-A295-42C940953D4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52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b57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52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2151C-F769-440E-9555-2E28A20C017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565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b57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566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DB034-FD26-4302-9EFB-167EF50FBB0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609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b57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610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B2718-550D-4B82-882B-3CF24DE98CB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2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653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b57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654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AA971-6058-41EB-965E-D889300A948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697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b57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698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2C176-67D0-499B-A314-B629DE9C9DB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74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b57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74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64147-0F8C-4808-A892-AADD2CDE1AA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4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785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b57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786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7A379-F6EC-4A73-98CC-0C8109A2C6C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829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b57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830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02C22-1FE0-4A21-9CDB-C4823566AAC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5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b57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7EEF1-5E4A-4947-8ED0-98A35F048D5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2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873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b57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874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3AEDC-A564-4FEF-BB8D-500DCCD041E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6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917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918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919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920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 type="dt" idx="61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 type="ftr" idx="62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98C6E-FFBD-4324-91AD-0621074B37D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963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964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965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8506D-55E7-4FBD-9820-CBDF2772D41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7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008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009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010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 type="dt" idx="6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A2B69-A407-4B1F-B410-6A095135F3C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2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053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054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055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91EFA-F638-44BC-AC68-697793196DA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7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098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099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100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 type="dt" idx="7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92D3F-BBA4-4FA5-BB6E-764D2BFC780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2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143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144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145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 type="dt" idx="7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8EE11-C1B1-4F38-A739-D999B784031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7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188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189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190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 type="dt" idx="7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BDC7D-31EF-4F04-BF0C-E7B65E216DE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2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233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234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235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 type="dt" idx="8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052B0-2F19-4DF6-A5A7-B484D012089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7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278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279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280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 type="dt" idx="8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 type="ftr" idx="8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15A18-193D-47F2-8D76-516838F9055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89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90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91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E3F66-EB5A-438A-9B03-DEE75F482A4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2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323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324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325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 type="dt" idx="8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 type="ftr" idx="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AB35A-6064-4575-85DE-9361DC500C6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7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368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369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370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 type="dt" idx="9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 type="ftr" idx="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10166-1036-4929-B6D8-BEE564E3B92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13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 type="dt" idx="9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 type="ftr" idx="9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A4279-B710-4029-BF2B-498FE818C71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5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 type="dt" idx="9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 type="ftr" idx="9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38972-9264-48C3-A2A1-4B62207CEBC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99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 type="dt" idx="10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03" name="PlaceHolder 4"/>
          <p:cNvSpPr>
            <a:spLocks noGrp="1"/>
          </p:cNvSpPr>
          <p:nvPr>
            <p:ph type="ftr" idx="10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8F1E5-16F0-4BCE-B2BF-5F084B81A93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42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 type="dt" idx="10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 type="ftr" idx="10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3D19B-CAB9-4706-A3C7-2E9A38ED66A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85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 type="dt" idx="10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 type="ftr" idx="10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3038B-7526-4345-960C-2D2586CFAA7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28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 type="dt" idx="10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 type="ftr" idx="1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PlaceHolder 5"/>
          <p:cNvSpPr>
            <a:spLocks noGrp="1"/>
          </p:cNvSpPr>
          <p:nvPr>
            <p:ph type="sldNum" idx="11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E8A15-E253-4BAE-8198-F2FC852FBD8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71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 type="dt" idx="11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 type="ftr" idx="1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PlaceHolder 5"/>
          <p:cNvSpPr>
            <a:spLocks noGrp="1"/>
          </p:cNvSpPr>
          <p:nvPr>
            <p:ph type="sldNum" idx="1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53E11-6AD0-4632-AE19-B7F584B01F6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714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 type="dt" idx="11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 type="ftr" idx="1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PlaceHolder 5"/>
          <p:cNvSpPr>
            <a:spLocks noGrp="1"/>
          </p:cNvSpPr>
          <p:nvPr>
            <p:ph type="sldNum" idx="11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512C7-CF21-4519-9898-E92DB15C1C8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83BAE-F368-4A5B-966B-6DFA5C42706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9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75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PlaceHolder 3"/>
          <p:cNvSpPr>
            <a:spLocks noGrp="1"/>
          </p:cNvSpPr>
          <p:nvPr>
            <p:ph type="dt" idx="11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761" name="PlaceHolder 4"/>
          <p:cNvSpPr>
            <a:spLocks noGrp="1"/>
          </p:cNvSpPr>
          <p:nvPr>
            <p:ph type="ftr" idx="1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PlaceHolder 5"/>
          <p:cNvSpPr>
            <a:spLocks noGrp="1"/>
          </p:cNvSpPr>
          <p:nvPr>
            <p:ph type="sldNum" idx="12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C6B7A-6379-42D7-963B-033F7BDE03E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800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PlaceHolder 3"/>
          <p:cNvSpPr>
            <a:spLocks noGrp="1"/>
          </p:cNvSpPr>
          <p:nvPr>
            <p:ph type="dt" idx="12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804" name="PlaceHolder 4"/>
          <p:cNvSpPr>
            <a:spLocks noGrp="1"/>
          </p:cNvSpPr>
          <p:nvPr>
            <p:ph type="ftr" idx="1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PlaceHolder 5"/>
          <p:cNvSpPr>
            <a:spLocks noGrp="1"/>
          </p:cNvSpPr>
          <p:nvPr>
            <p:ph type="sldNum" idx="12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B6924-D350-408E-9482-A511F037C32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843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 type="dt" idx="12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847" name="PlaceHolder 4"/>
          <p:cNvSpPr>
            <a:spLocks noGrp="1"/>
          </p:cNvSpPr>
          <p:nvPr>
            <p:ph type="ftr" idx="1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PlaceHolder 5"/>
          <p:cNvSpPr>
            <a:spLocks noGrp="1"/>
          </p:cNvSpPr>
          <p:nvPr>
            <p:ph type="sldNum" idx="12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A4CFB-B5B4-44B2-8470-457981C588F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88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88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grpSp>
        <p:nvGrpSpPr>
          <p:cNvPr id="188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88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89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PlaceHolder 3"/>
          <p:cNvSpPr>
            <a:spLocks noGrp="1"/>
          </p:cNvSpPr>
          <p:nvPr>
            <p:ph type="dt" idx="12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894" name="PlaceHolder 4"/>
          <p:cNvSpPr>
            <a:spLocks noGrp="1"/>
          </p:cNvSpPr>
          <p:nvPr>
            <p:ph type="ftr" idx="12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PlaceHolder 5"/>
          <p:cNvSpPr>
            <a:spLocks noGrp="1"/>
          </p:cNvSpPr>
          <p:nvPr>
            <p:ph type="sldNum" idx="12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CA16A-D2A4-4E20-9B0E-0929BEC91F44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1933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934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35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36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37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38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39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40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41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42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43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44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45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46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47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48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49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50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51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52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53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54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55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56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57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58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59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60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61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62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63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64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1965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PlaceHolder 3"/>
          <p:cNvSpPr>
            <a:spLocks noGrp="1"/>
          </p:cNvSpPr>
          <p:nvPr>
            <p:ph type="dt" idx="13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969" name="PlaceHolder 4"/>
          <p:cNvSpPr>
            <a:spLocks noGrp="1"/>
          </p:cNvSpPr>
          <p:nvPr>
            <p:ph type="ftr" idx="1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PlaceHolder 5"/>
          <p:cNvSpPr>
            <a:spLocks noGrp="1"/>
          </p:cNvSpPr>
          <p:nvPr>
            <p:ph type="sldNum" idx="13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5C18B-2524-4EB4-82C3-C7720C9545B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2008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009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10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11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12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13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14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15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16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17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18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19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20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21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22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23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24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25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26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27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28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29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30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31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32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33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34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35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36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37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38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39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04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PlaceHolder 3"/>
          <p:cNvSpPr>
            <a:spLocks noGrp="1"/>
          </p:cNvSpPr>
          <p:nvPr>
            <p:ph type="dt" idx="13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043" name="PlaceHolder 4"/>
          <p:cNvSpPr>
            <a:spLocks noGrp="1"/>
          </p:cNvSpPr>
          <p:nvPr>
            <p:ph type="ftr" idx="1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PlaceHolder 5"/>
          <p:cNvSpPr>
            <a:spLocks noGrp="1"/>
          </p:cNvSpPr>
          <p:nvPr>
            <p:ph type="sldNum" idx="1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05494-FF35-46C0-AB17-8E04072CC31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1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2082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083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84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85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86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87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88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89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90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91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92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93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94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95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96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97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98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99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00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01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02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03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04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05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06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07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08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09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10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11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12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13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11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PlaceHolder 3"/>
          <p:cNvSpPr>
            <a:spLocks noGrp="1"/>
          </p:cNvSpPr>
          <p:nvPr>
            <p:ph type="dt" idx="13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117" name="PlaceHolder 4"/>
          <p:cNvSpPr>
            <a:spLocks noGrp="1"/>
          </p:cNvSpPr>
          <p:nvPr>
            <p:ph type="ftr" idx="1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PlaceHolder 5"/>
          <p:cNvSpPr>
            <a:spLocks noGrp="1"/>
          </p:cNvSpPr>
          <p:nvPr>
            <p:ph type="sldNum" idx="13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64A5-E4B9-410E-84B0-7446C9A022E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215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15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5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59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6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6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62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63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64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65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66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67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68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6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7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71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72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7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7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75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76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7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7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7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80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81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82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83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84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85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8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87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18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PlaceHolder 3"/>
          <p:cNvSpPr>
            <a:spLocks noGrp="1"/>
          </p:cNvSpPr>
          <p:nvPr>
            <p:ph type="dt" idx="13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191" name="PlaceHolder 4"/>
          <p:cNvSpPr>
            <a:spLocks noGrp="1"/>
          </p:cNvSpPr>
          <p:nvPr>
            <p:ph type="ftr" idx="14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PlaceHolder 5"/>
          <p:cNvSpPr>
            <a:spLocks noGrp="1"/>
          </p:cNvSpPr>
          <p:nvPr>
            <p:ph type="sldNum" idx="1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E3B41-D2A1-4B69-AE78-1CF05D56861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223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23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32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33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34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35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36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37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38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39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40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41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42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4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44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45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46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4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48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49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50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5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52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53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54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55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56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57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58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59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60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61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PlaceHolder 3"/>
          <p:cNvSpPr>
            <a:spLocks noGrp="1"/>
          </p:cNvSpPr>
          <p:nvPr>
            <p:ph type="dt" idx="14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265" name="PlaceHolder 4"/>
          <p:cNvSpPr>
            <a:spLocks noGrp="1"/>
          </p:cNvSpPr>
          <p:nvPr>
            <p:ph type="ftr" idx="1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PlaceHolder 5"/>
          <p:cNvSpPr>
            <a:spLocks noGrp="1"/>
          </p:cNvSpPr>
          <p:nvPr>
            <p:ph type="sldNum" idx="14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BB721-142A-4083-A2BF-63B87E3B70C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230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30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0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07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0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0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10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11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12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13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14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15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16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1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1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19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20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2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2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23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24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2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2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2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28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29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30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31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32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33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3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35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PlaceHolder 3"/>
          <p:cNvSpPr>
            <a:spLocks noGrp="1"/>
          </p:cNvSpPr>
          <p:nvPr>
            <p:ph type="dt" idx="14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339" name="PlaceHolder 4"/>
          <p:cNvSpPr>
            <a:spLocks noGrp="1"/>
          </p:cNvSpPr>
          <p:nvPr>
            <p:ph type="ftr" idx="14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PlaceHolder 5"/>
          <p:cNvSpPr>
            <a:spLocks noGrp="1"/>
          </p:cNvSpPr>
          <p:nvPr>
            <p:ph type="sldNum" idx="14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587C5-86B5-4255-AA72-80D938AA16F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77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78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600" spc="-1" strike="noStrike">
                  <a:solidFill>
                    <a:srgbClr val="ffffcc"/>
                  </a:solidFill>
                  <a:latin typeface="Verdana"/>
                </a:endParaRPr>
              </a:p>
            </p:txBody>
          </p:sp>
          <p:sp>
            <p:nvSpPr>
              <p:cNvPr id="179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i="1" lang="en-US" sz="3600" spc="-1" strike="noStrike">
                  <a:solidFill>
                    <a:srgbClr val="ffffcc"/>
                  </a:solidFill>
                  <a:latin typeface="Verdana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81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600" spc="-1" strike="noStrike">
                  <a:solidFill>
                    <a:srgbClr val="ffffcc"/>
                  </a:solidFill>
                  <a:latin typeface="Verdana"/>
                </a:endParaRPr>
              </a:p>
            </p:txBody>
          </p:sp>
          <p:sp>
            <p:nvSpPr>
              <p:cNvPr id="182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600" spc="-1" strike="noStrike">
                  <a:solidFill>
                    <a:srgbClr val="ffffcc"/>
                  </a:solidFill>
                  <a:latin typeface="Verdana"/>
                </a:endParaRPr>
              </a:p>
            </p:txBody>
          </p:sp>
        </p:grp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4899A-2E55-470C-A1FA-D0E173D09FC8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2378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379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80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81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82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83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84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85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86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87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88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89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90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91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92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93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94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95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96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97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98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99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00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01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02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03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04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05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06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07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08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09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24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41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PlaceHolder 3"/>
          <p:cNvSpPr>
            <a:spLocks noGrp="1"/>
          </p:cNvSpPr>
          <p:nvPr>
            <p:ph type="dt" idx="14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413" name="PlaceHolder 4"/>
          <p:cNvSpPr>
            <a:spLocks noGrp="1"/>
          </p:cNvSpPr>
          <p:nvPr>
            <p:ph type="ftr" idx="14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PlaceHolder 5"/>
          <p:cNvSpPr>
            <a:spLocks noGrp="1"/>
          </p:cNvSpPr>
          <p:nvPr>
            <p:ph type="sldNum" idx="15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B3213-4298-4ABC-B491-2618026058A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2452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453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54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55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56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57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58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59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60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61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62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63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64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65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66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67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68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69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70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71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72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73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74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75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76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77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78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79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80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81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82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83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24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48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PlaceHolder 3"/>
          <p:cNvSpPr>
            <a:spLocks noGrp="1"/>
          </p:cNvSpPr>
          <p:nvPr>
            <p:ph type="dt" idx="15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487" name="PlaceHolder 4"/>
          <p:cNvSpPr>
            <a:spLocks noGrp="1"/>
          </p:cNvSpPr>
          <p:nvPr>
            <p:ph type="ftr" idx="15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PlaceHolder 5"/>
          <p:cNvSpPr>
            <a:spLocks noGrp="1"/>
          </p:cNvSpPr>
          <p:nvPr>
            <p:ph type="sldNum" idx="15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79259-CB66-46A6-9C24-9083CD0226A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5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252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52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2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29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3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3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32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33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34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35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36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37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38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3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4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41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42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4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4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45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46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4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4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4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50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51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52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53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54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55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5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57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55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PlaceHolder 3"/>
          <p:cNvSpPr>
            <a:spLocks noGrp="1"/>
          </p:cNvSpPr>
          <p:nvPr>
            <p:ph type="dt" idx="15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561" name="PlaceHolder 4"/>
          <p:cNvSpPr>
            <a:spLocks noGrp="1"/>
          </p:cNvSpPr>
          <p:nvPr>
            <p:ph type="ftr" idx="15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PlaceHolder 5"/>
          <p:cNvSpPr>
            <a:spLocks noGrp="1"/>
          </p:cNvSpPr>
          <p:nvPr>
            <p:ph type="sldNum" idx="15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E1C08-58C9-449E-98AE-90293C95FC6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9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260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60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02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03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04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05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06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07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08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09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10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11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12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1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14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15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16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1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18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19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20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2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22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23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24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25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26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27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28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29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30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31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26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63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PlaceHolder 3"/>
          <p:cNvSpPr>
            <a:spLocks noGrp="1"/>
          </p:cNvSpPr>
          <p:nvPr>
            <p:ph type="dt" idx="15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635" name="PlaceHolder 4"/>
          <p:cNvSpPr>
            <a:spLocks noGrp="1"/>
          </p:cNvSpPr>
          <p:nvPr>
            <p:ph type="ftr" idx="15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PlaceHolder 5"/>
          <p:cNvSpPr>
            <a:spLocks noGrp="1"/>
          </p:cNvSpPr>
          <p:nvPr>
            <p:ph type="sldNum" idx="15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C12E2-88A9-4603-8EDA-FBE4321714C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3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267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67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7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77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7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7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80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81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82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83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84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85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86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8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8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89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90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9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9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93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94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9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9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9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98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99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700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701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702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703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70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705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27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70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PlaceHolder 3"/>
          <p:cNvSpPr>
            <a:spLocks noGrp="1"/>
          </p:cNvSpPr>
          <p:nvPr>
            <p:ph type="dt" idx="16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709" name="PlaceHolder 4"/>
          <p:cNvSpPr>
            <a:spLocks noGrp="1"/>
          </p:cNvSpPr>
          <p:nvPr>
            <p:ph type="ftr" idx="16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PlaceHolder 5"/>
          <p:cNvSpPr>
            <a:spLocks noGrp="1"/>
          </p:cNvSpPr>
          <p:nvPr>
            <p:ph type="sldNum" idx="16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F7CA9-BBA2-4E99-82ED-7A5B68BEBEB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27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27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7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7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7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7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7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27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PlaceHolder 3"/>
          <p:cNvSpPr>
            <a:spLocks noGrp="1"/>
          </p:cNvSpPr>
          <p:nvPr>
            <p:ph type="dt" idx="16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758" name="PlaceHolder 4"/>
          <p:cNvSpPr>
            <a:spLocks noGrp="1"/>
          </p:cNvSpPr>
          <p:nvPr>
            <p:ph type="ftr" idx="16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9" name="PlaceHolder 5"/>
          <p:cNvSpPr>
            <a:spLocks noGrp="1"/>
          </p:cNvSpPr>
          <p:nvPr>
            <p:ph type="sldNum" idx="16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BC4F9-75B6-4D8B-9C31-D7E9AEC25D4C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6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7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9" name="PlaceHolder 3"/>
          <p:cNvSpPr>
            <a:spLocks noGrp="1"/>
          </p:cNvSpPr>
          <p:nvPr>
            <p:ph type="dt" idx="16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800" name="PlaceHolder 4"/>
          <p:cNvSpPr>
            <a:spLocks noGrp="1"/>
          </p:cNvSpPr>
          <p:nvPr>
            <p:ph type="ftr" idx="16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PlaceHolder 5"/>
          <p:cNvSpPr>
            <a:spLocks noGrp="1"/>
          </p:cNvSpPr>
          <p:nvPr>
            <p:ph type="sldNum" idx="16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658B8-57B9-4C0A-B155-8C0C8BC0947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3"/>
    <p:sldLayoutId id="2147484365" r:id="rId4"/>
    <p:sldLayoutId id="2147484366" r:id="rId5"/>
    <p:sldLayoutId id="2147484367" r:id="rId6"/>
    <p:sldLayoutId id="2147484368" r:id="rId7"/>
    <p:sldLayoutId id="2147484369" r:id="rId8"/>
    <p:sldLayoutId id="2147484370" r:id="rId9"/>
    <p:sldLayoutId id="2147484371" r:id="rId10"/>
    <p:sldLayoutId id="2147484372" r:id="rId11"/>
    <p:sldLayoutId id="2147484373" r:id="rId12"/>
    <p:sldLayoutId id="2147484374" r:id="rId13"/>
    <p:sldLayoutId id="2147484375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AFED7-9784-4AC5-ACA1-9702BA7C7E0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3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2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3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4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5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6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7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8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9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0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1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2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4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5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6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8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9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0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2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3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4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5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6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7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8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9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0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1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CC8F0-04A9-4E8D-B8A1-C531EA83425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304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305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306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307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308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48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22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A3B9A-CD23-4EE0-88F2-BD5917BE040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389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390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FCCAE-9721-48DF-89DE-A2D39A90B05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85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7.wm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85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net196.soes.ru/" TargetMode="External"/><Relationship Id="rId3" Type="http://schemas.openxmlformats.org/officeDocument/2006/relationships/hyperlink" Target="http://www.bestreferat.ru/" TargetMode="External"/><Relationship Id="rId4" Type="http://schemas.openxmlformats.org/officeDocument/2006/relationships/hyperlink" Target="http://www.baby.com.ua/" TargetMode="External"/><Relationship Id="rId5" Type="http://schemas.openxmlformats.org/officeDocument/2006/relationships/hyperlink" Target="http://www.le-mon.ru/" TargetMode="External"/><Relationship Id="rId6" Type="http://schemas.openxmlformats.org/officeDocument/2006/relationships/hyperlink" Target="http://www.add.net.ru/" TargetMode="External"/><Relationship Id="rId7" Type="http://schemas.openxmlformats.org/officeDocument/2006/relationships/hyperlink" Target="http://www.med.resourse.ru/" TargetMode="External"/><Relationship Id="rId8" Type="http://schemas.openxmlformats.org/officeDocument/2006/relationships/hyperlink" Target="http://www.djv.ru/" TargetMode="External"/><Relationship Id="rId9" Type="http://schemas.openxmlformats.org/officeDocument/2006/relationships/image" Target="../media/image28.wmf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85.xml"/><Relationship Id="rId1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85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529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6.wmf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73.xml"/><Relationship Id="rId1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8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8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cc"/>
                </a:solidFill>
                <a:latin typeface="Tahoma"/>
              </a:rPr>
              <a:t>Аддиктивное поведение учащихся,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46" name="PlaceHolder 2"/>
          <p:cNvSpPr>
            <a:spLocks noGrp="1"/>
          </p:cNvSpPr>
          <p:nvPr>
            <p:ph type="subTitle"/>
          </p:nvPr>
        </p:nvSpPr>
        <p:spPr>
          <a:xfrm>
            <a:off x="1371600" y="32130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проблемы диагностики склонности учащих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к вредным привычка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 advTm="15000">
    <p:wedge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2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2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5" name="PlaceHolder 1"/>
          <p:cNvSpPr>
            <a:spLocks noGrp="1"/>
          </p:cNvSpPr>
          <p:nvPr>
            <p:ph type="title"/>
          </p:nvPr>
        </p:nvSpPr>
        <p:spPr>
          <a:xfrm>
            <a:off x="971640" y="333360"/>
            <a:ext cx="7929360" cy="8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i="1" lang="ru-RU" sz="3800" spc="-1" strike="noStrike">
                <a:solidFill>
                  <a:srgbClr val="cc0000"/>
                </a:solidFill>
                <a:latin typeface="Verdana"/>
              </a:rPr>
              <a:t>Какие бывают аддикции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В зависимости от того посредством чего осуществляется уход из реальности выделяются зависимости: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ru-RU" sz="2300" spc="-1" strike="noStrike">
                <a:solidFill>
                  <a:srgbClr val="cc0000"/>
                </a:solidFill>
                <a:latin typeface="Verdana"/>
              </a:rPr>
              <a:t>- фармакологические (химические)-</a:t>
            </a:r>
            <a:r>
              <a:rPr b="0" i="1" lang="ru-RU" sz="2300" spc="-1" strike="noStrike">
                <a:solidFill>
                  <a:srgbClr val="000000"/>
                </a:solidFill>
                <a:latin typeface="Verdana"/>
              </a:rPr>
              <a:t> зависимость от психоактивных веществ (ПАВ);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ru-RU" sz="2300" spc="-1" strike="noStrike">
                <a:solidFill>
                  <a:srgbClr val="cc0000"/>
                </a:solidFill>
                <a:latin typeface="Verdana"/>
              </a:rPr>
              <a:t>- субстанциональные –</a:t>
            </a:r>
            <a:r>
              <a:rPr b="0" i="1" lang="ru-RU" sz="2300" spc="-1" strike="noStrike">
                <a:solidFill>
                  <a:srgbClr val="000000"/>
                </a:solidFill>
                <a:latin typeface="Verdana"/>
              </a:rPr>
              <a:t> эмоциональные (секс- и любовные зависимости), трудо-  или работоголизм, компьютерные и игорные зависимости и многие другие;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ru-RU" sz="2300" spc="-1" strike="noStrike">
                <a:solidFill>
                  <a:srgbClr val="cc0000"/>
                </a:solidFill>
                <a:latin typeface="Verdana"/>
              </a:rPr>
              <a:t>- пищевые</a:t>
            </a:r>
            <a:r>
              <a:rPr b="0" i="1" lang="ru-RU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300" spc="-1" strike="noStrike">
                <a:solidFill>
                  <a:srgbClr val="000000"/>
                </a:solidFill>
                <a:latin typeface="Verdana"/>
              </a:rPr>
              <a:t>зависимости говорят сами за себя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checker dir="horz"/>
    <p:sndAc>
      <p:stSnd>
        <p:snd r:embed="rId1" name="chimes.wav"/>
      </p:stSnd>
    </p:sndAc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28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2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2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0" fill="hold"/>
                                        <p:tgtEl>
                                          <p:spTgt spid="2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0" fill="hold"/>
                                        <p:tgtEl>
                                          <p:spTgt spid="2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0" fill="hold"/>
                                        <p:tgtEl>
                                          <p:spTgt spid="2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0" fill="hold"/>
                                        <p:tgtEl>
                                          <p:spTgt spid="2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0" fill="hold"/>
                                        <p:tgtEl>
                                          <p:spTgt spid="2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0" fill="hold"/>
                                        <p:tgtEl>
                                          <p:spTgt spid="2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0" fill="hold"/>
                                        <p:tgtEl>
                                          <p:spTgt spid="2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0" fill="hold"/>
                                        <p:tgtEl>
                                          <p:spTgt spid="2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8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13564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cc0000"/>
                </a:solidFill>
                <a:latin typeface="Verdana"/>
              </a:rPr>
              <a:t>Какие вещества, предметы или действия могут быть предметом аддикции ?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наркотики, алкоголь, табак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азартные игры(включая компьютерные)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лительное прослушивание ритмичной музыки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лное погружение в какой-либо вид деятельности с отказом от жизненно важных обязанностей человека (хобби, работа и т.д.)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люди, предметы и явления окружающей действительности, вызывающие различные эмоциональные состояни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checker dir="vert"/>
    <p:sndAc>
      <p:stSnd>
        <p:snd r:embed="rId1" name="chimes.wav"/>
      </p:stSnd>
    </p:sndAc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8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8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8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3000" fill="hold"/>
                                        <p:tgtEl>
                                          <p:spTgt spid="2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3000" fill="hold"/>
                                        <p:tgtEl>
                                          <p:spTgt spid="2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3000" fill="hold"/>
                                        <p:tgtEl>
                                          <p:spTgt spid="28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3000" fill="hold"/>
                                        <p:tgtEl>
                                          <p:spTgt spid="28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3000" fill="hold"/>
                                        <p:tgtEl>
                                          <p:spTgt spid="2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3000" fill="hold"/>
                                        <p:tgtEl>
                                          <p:spTgt spid="2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3000" fill="hold"/>
                                        <p:tgtEl>
                                          <p:spTgt spid="28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3000" fill="hold"/>
                                        <p:tgtEl>
                                          <p:spTgt spid="28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3000" fill="hold"/>
                                        <p:tgtEl>
                                          <p:spTgt spid="28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3000" fill="hold"/>
                                        <p:tgtEl>
                                          <p:spTgt spid="28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655560" y="477720"/>
            <a:ext cx="777888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cc0000"/>
                </a:solidFill>
                <a:latin typeface="Verdana"/>
              </a:rPr>
              <a:t>     </a:t>
            </a:r>
            <a:r>
              <a:rPr b="1" i="1" lang="ru-RU" sz="3900" spc="-1" strike="noStrike">
                <a:solidFill>
                  <a:srgbClr val="cc0000"/>
                </a:solidFill>
                <a:latin typeface="Verdana"/>
              </a:rPr>
              <a:t>Алкогольная аддикция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323640" y="1846440"/>
            <a:ext cx="856908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23472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e5ffff"/>
                </a:solidFill>
                <a:latin typeface="Verdana"/>
              </a:rPr>
              <a:t>     </a:t>
            </a:r>
            <a:r>
              <a:rPr b="0" lang="ru-RU" sz="2100" spc="-1" strike="noStrike">
                <a:solidFill>
                  <a:srgbClr val="e5ffff"/>
                </a:solidFill>
                <a:latin typeface="Verdana"/>
              </a:rPr>
              <a:t>Одна из форм фармакологических или химических зависимостей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3472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e5ffff"/>
                </a:solidFill>
                <a:latin typeface="Verdana"/>
              </a:rPr>
              <a:t>                    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23472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3" name="AutoShape 5"/>
          <p:cNvSpPr/>
          <p:nvPr/>
        </p:nvSpPr>
        <p:spPr>
          <a:xfrm>
            <a:off x="3995640" y="2421000"/>
            <a:ext cx="4584960" cy="35956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884" name="Text Box 8"/>
          <p:cNvSpPr/>
          <p:nvPr/>
        </p:nvSpPr>
        <p:spPr>
          <a:xfrm>
            <a:off x="4067280" y="2492280"/>
            <a:ext cx="439236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В основе алкогольной зависимо-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сти лежит употребление спирто-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содержащих напитков. Алкоголь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является пищевым продуктом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или входит в них, не являясь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запрещенным как, например,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наркотики. Алкоголь не изменя-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ет, а кристаллизует текущее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состояние: если вам грустно, то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употребление алкоголя не под-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нимет ваше настроение,а, наобо-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рот, его еще больше ухудшит.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</p:txBody>
      </p:sp>
      <p:pic>
        <p:nvPicPr>
          <p:cNvPr id="2885" name="Picture 9" descr="image002"/>
          <p:cNvPicPr/>
          <p:nvPr/>
        </p:nvPicPr>
        <p:blipFill>
          <a:blip r:embed="rId2"/>
          <a:stretch/>
        </p:blipFill>
        <p:spPr>
          <a:xfrm>
            <a:off x="755640" y="2708280"/>
            <a:ext cx="2752560" cy="3240000"/>
          </a:xfrm>
          <a:prstGeom prst="rect">
            <a:avLst/>
          </a:prstGeom>
          <a:ln w="0">
            <a:noFill/>
          </a:ln>
        </p:spPr>
      </p:pic>
      <p:sp>
        <p:nvSpPr>
          <p:cNvPr id="28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in" orient="horz"/>
    <p:sndAc>
      <p:stSnd>
        <p:snd r:embed="rId3" name="chimes.wav"/>
      </p:stSnd>
    </p:sndAc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0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7" dur="2000"/>
                                        <p:tgtEl>
                                          <p:spTgt spid="2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0" fill="hold"/>
                                        <p:tgtEl>
                                          <p:spTgt spid="2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0" fill="hold"/>
                                        <p:tgtEl>
                                          <p:spTgt spid="2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4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28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7" name="PlaceHolder 1"/>
          <p:cNvSpPr>
            <a:spLocks noGrp="1"/>
          </p:cNvSpPr>
          <p:nvPr>
            <p:ph type="title"/>
          </p:nvPr>
        </p:nvSpPr>
        <p:spPr>
          <a:xfrm>
            <a:off x="690480" y="318600"/>
            <a:ext cx="7840800" cy="99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ff4215"/>
                </a:solidFill>
                <a:latin typeface="Verdana"/>
              </a:rPr>
              <a:t>Наркотическая аддикция-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8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964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олезненные состояния, характеризующиеся явлениям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сихической и физической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висимости, настоятельной 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преодолимой потребностью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повторном потреблении ПА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ркотическими признаютс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ещества или лекарства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торые обладают способностью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пецифического действия 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ентральную нервную систем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стимулируют, вызывают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йфорию, изменяют восприятие окружающего мира и т.п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89" name="Picture 6" descr="image004"/>
          <p:cNvPicPr/>
          <p:nvPr/>
        </p:nvPicPr>
        <p:blipFill>
          <a:blip r:embed="rId2"/>
          <a:stretch/>
        </p:blipFill>
        <p:spPr>
          <a:xfrm>
            <a:off x="4788000" y="2060640"/>
            <a:ext cx="3571920" cy="3571920"/>
          </a:xfrm>
          <a:prstGeom prst="rect">
            <a:avLst/>
          </a:prstGeom>
          <a:ln w="0">
            <a:noFill/>
          </a:ln>
        </p:spPr>
      </p:pic>
      <p:sp>
        <p:nvSpPr>
          <p:cNvPr id="28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out" orient="horz"/>
    <p:sndAc>
      <p:stSnd>
        <p:snd r:embed="rId3" name="chimes.wav"/>
      </p:stSnd>
    </p:sndAc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1000"/>
                                        <p:tgtEl>
                                          <p:spTgt spid="2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2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8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8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28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8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8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28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8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8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28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8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8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28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8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8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8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8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8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28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8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8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28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8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8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28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8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8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28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1" name="PlaceHolder 1"/>
          <p:cNvSpPr>
            <a:spLocks noGrp="1"/>
          </p:cNvSpPr>
          <p:nvPr>
            <p:ph type="title"/>
          </p:nvPr>
        </p:nvSpPr>
        <p:spPr>
          <a:xfrm>
            <a:off x="468000" y="596520"/>
            <a:ext cx="8096040" cy="91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Verdana"/>
              </a:rPr>
              <a:t>Лекарственная аддикция-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2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2821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индром, развивающийся при употреблении психотропны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еществ; характеризуется патало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ической потребностью в прием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аких веществ для того, чтоб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збежать развития абстиненци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ли психических нарушений 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стояния дискомфорта, возникаю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щих при прекращении их прием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ибо при введении антагонис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тих веществ. К ним относятся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имедрол, феназепам и т.п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93" name="Picture 5" descr="image006"/>
          <p:cNvPicPr/>
          <p:nvPr/>
        </p:nvPicPr>
        <p:blipFill>
          <a:blip r:embed="rId2"/>
          <a:stretch/>
        </p:blipFill>
        <p:spPr>
          <a:xfrm>
            <a:off x="611280" y="2276640"/>
            <a:ext cx="3247920" cy="3686040"/>
          </a:xfrm>
          <a:prstGeom prst="rect">
            <a:avLst/>
          </a:prstGeom>
          <a:ln w="0">
            <a:noFill/>
          </a:ln>
        </p:spPr>
      </p:pic>
      <p:sp>
        <p:nvSpPr>
          <p:cNvPr id="28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in" orient="vert"/>
    <p:sndAc>
      <p:stSnd>
        <p:snd r:embed="rId3" name="chimes.wav"/>
      </p:stSnd>
    </p:sndAc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0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4" dur="1000"/>
                                        <p:tgtEl>
                                          <p:spTgt spid="2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2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6700"/>
                            </p:stCondLst>
                            <p:childTnLst>
                              <p:par>
                                <p:cTn id="44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2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10600"/>
                            </p:stCondLst>
                            <p:childTnLst>
                              <p:par>
                                <p:cTn id="44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2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14200"/>
                            </p:stCondLst>
                            <p:childTnLst>
                              <p:par>
                                <p:cTn id="45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2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17600"/>
                            </p:stCondLst>
                            <p:childTnLst>
                              <p:par>
                                <p:cTn id="46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2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21200"/>
                            </p:stCondLst>
                            <p:childTnLst>
                              <p:par>
                                <p:cTn id="46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28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8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8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47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28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8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8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28400"/>
                            </p:stCondLst>
                            <p:childTnLst>
                              <p:par>
                                <p:cTn id="47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28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8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8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31800"/>
                            </p:stCondLst>
                            <p:childTnLst>
                              <p:par>
                                <p:cTn id="48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28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8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8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35400"/>
                            </p:stCondLst>
                            <p:childTnLst>
                              <p:par>
                                <p:cTn id="49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28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8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8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38900"/>
                            </p:stCondLst>
                            <p:childTnLst>
                              <p:par>
                                <p:cTn id="49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28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8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8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42100"/>
                            </p:stCondLst>
                            <p:childTnLst>
                              <p:par>
                                <p:cTn id="50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28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8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8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Verdana"/>
              </a:rPr>
              <a:t>Табакокурени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6" name="PlaceHolder 2"/>
          <p:cNvSpPr>
            <a:spLocks noGrp="1"/>
          </p:cNvSpPr>
          <p:nvPr>
            <p:ph/>
          </p:nvPr>
        </p:nvSpPr>
        <p:spPr>
          <a:xfrm>
            <a:off x="324000" y="1752480"/>
            <a:ext cx="8496000" cy="47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урение табака - один из наиболее распространенных видо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ркомании, охватывающий большое количество людей 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являющийся поэтому бытовой наркоманией. Дымящаяс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игарета доставляет привычному курильщику удовольстви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обенно остро ощущается потребность в курении посл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нятия пищи, во время выпивки, при отрицательных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моциях и во время напряженной работы. При этом сам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дыхаемый никотин не оказывает какого-либо положитель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ого действия на организм. Сигарета является больше отвле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ющим фактором:переключение сознания на неё помога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одвинуть неприятные мысли, прервать тяжелую работ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вместное курение облегчает контакт между людьми, явля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тся хорошим предлогом для знакомств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97" name="Picture 4" descr="10023"/>
          <p:cNvPicPr/>
          <p:nvPr/>
        </p:nvPicPr>
        <p:blipFill>
          <a:blip r:embed="rId2"/>
          <a:stretch/>
        </p:blipFill>
        <p:spPr>
          <a:xfrm>
            <a:off x="5508720" y="404640"/>
            <a:ext cx="1296720" cy="1297080"/>
          </a:xfrm>
          <a:prstGeom prst="rect">
            <a:avLst/>
          </a:prstGeom>
          <a:ln w="0">
            <a:noFill/>
          </a:ln>
        </p:spPr>
      </p:pic>
      <p:sp>
        <p:nvSpPr>
          <p:cNvPr id="28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out" orient="vert"/>
    <p:sndAc>
      <p:stSnd>
        <p:snd r:embed="rId3" name="chimes.wav"/>
      </p:stSnd>
    </p:sndAc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0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28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28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28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51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2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10200"/>
                            </p:stCondLst>
                            <p:childTnLst>
                              <p:par>
                                <p:cTn id="52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28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8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8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15700"/>
                            </p:stCondLst>
                            <p:childTnLst>
                              <p:par>
                                <p:cTn id="52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28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8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8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21100"/>
                            </p:stCondLst>
                            <p:childTnLst>
                              <p:par>
                                <p:cTn id="53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28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8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8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27100"/>
                            </p:stCondLst>
                            <p:childTnLst>
                              <p:par>
                                <p:cTn id="54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28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8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8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32600"/>
                            </p:stCondLst>
                            <p:childTnLst>
                              <p:par>
                                <p:cTn id="54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28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8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8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37900"/>
                            </p:stCondLst>
                            <p:childTnLst>
                              <p:par>
                                <p:cTn id="55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28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8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8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43100"/>
                            </p:stCondLst>
                            <p:childTnLst>
                              <p:par>
                                <p:cTn id="55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28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8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8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48900"/>
                            </p:stCondLst>
                            <p:childTnLst>
                              <p:par>
                                <p:cTn id="56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28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8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8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54900"/>
                            </p:stCondLst>
                            <p:childTnLst>
                              <p:par>
                                <p:cTn id="57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28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8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28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60600"/>
                            </p:stCondLst>
                            <p:childTnLst>
                              <p:par>
                                <p:cTn id="57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28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8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8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66300"/>
                            </p:stCondLst>
                            <p:childTnLst>
                              <p:par>
                                <p:cTn id="58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28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8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8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72200"/>
                            </p:stCondLst>
                            <p:childTnLst>
                              <p:par>
                                <p:cTn id="58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28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8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28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Verdana"/>
              </a:rPr>
              <a:t>Токсикоман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оксикомания развивается в связ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 употреблением лекарственны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редств и веществ, не отнесенны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 наркотическим, но также изменя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ющих психическое состояни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еловека и его поведение. Диапазон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еществ с токсикологически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ействием очень широк – от меди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ментов (аналгетики, транквили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торы, снотворные, стимулятор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 др.) до технических растворителе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 средств бытовой хим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01" name="Picture 8" descr="image008"/>
          <p:cNvPicPr/>
          <p:nvPr/>
        </p:nvPicPr>
        <p:blipFill>
          <a:blip r:embed="rId2"/>
          <a:stretch/>
        </p:blipFill>
        <p:spPr>
          <a:xfrm>
            <a:off x="5651640" y="1628640"/>
            <a:ext cx="2895480" cy="4324320"/>
          </a:xfrm>
          <a:prstGeom prst="rect">
            <a:avLst/>
          </a:prstGeom>
          <a:ln w="0">
            <a:noFill/>
          </a:ln>
        </p:spPr>
      </p:pic>
      <p:sp>
        <p:nvSpPr>
          <p:cNvPr id="2902" name="AutoShape 9"/>
          <p:cNvSpPr/>
          <p:nvPr/>
        </p:nvSpPr>
        <p:spPr>
          <a:xfrm>
            <a:off x="6516720" y="3573360"/>
            <a:ext cx="1258920" cy="1042920"/>
          </a:xfrm>
          <a:custGeom>
            <a:avLst/>
            <a:gdLst>
              <a:gd name="textAreaLeft" fmla="*/ 67320 w 1258920"/>
              <a:gd name="textAreaRight" fmla="*/ 1191600 w 1258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6072" h="21600">
                <a:moveTo>
                  <a:pt x="0" y="0"/>
                </a:moveTo>
                <a:lnTo>
                  <a:pt x="26072" y="0"/>
                </a:lnTo>
                <a:lnTo>
                  <a:pt x="26072" y="21600"/>
                </a:lnTo>
                <a:lnTo>
                  <a:pt x="0" y="21600"/>
                </a:lnTo>
                <a:close/>
              </a:path>
              <a:path fill="lightenLess" w="26072" h="21600">
                <a:moveTo>
                  <a:pt x="0" y="0"/>
                </a:moveTo>
                <a:lnTo>
                  <a:pt x="26072" y="0"/>
                </a:lnTo>
                <a:lnTo>
                  <a:pt x="24672" y="1400"/>
                </a:lnTo>
                <a:lnTo>
                  <a:pt x="1400" y="1400"/>
                </a:lnTo>
                <a:close/>
              </a:path>
              <a:path fill="darken" w="26072" h="21600">
                <a:moveTo>
                  <a:pt x="26072" y="0"/>
                </a:moveTo>
                <a:lnTo>
                  <a:pt x="26072" y="21600"/>
                </a:lnTo>
                <a:lnTo>
                  <a:pt x="24672" y="20200"/>
                </a:lnTo>
                <a:lnTo>
                  <a:pt x="24672" y="1400"/>
                </a:lnTo>
                <a:close/>
              </a:path>
              <a:path fill="darkenLess" w="26072" h="21600">
                <a:moveTo>
                  <a:pt x="26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72" y="20200"/>
                </a:lnTo>
                <a:close/>
              </a:path>
              <a:path fill="lighten" w="26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72" h="21600">
                <a:moveTo>
                  <a:pt x="1303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072" h="21600">
                <a:moveTo>
                  <a:pt x="14141" y="14281"/>
                </a:moveTo>
                <a:lnTo>
                  <a:pt x="14141" y="12323"/>
                </a:lnTo>
                <a:cubicBezTo>
                  <a:pt x="14141" y="11496"/>
                  <a:pt x="14472" y="10800"/>
                  <a:pt x="15073" y="10800"/>
                </a:cubicBezTo>
                <a:cubicBezTo>
                  <a:pt x="16204" y="10800"/>
                  <a:pt x="17101" y="9434"/>
                  <a:pt x="17101" y="7849"/>
                </a:cubicBezTo>
                <a:cubicBezTo>
                  <a:pt x="17101" y="5534"/>
                  <a:pt x="15247" y="3794"/>
                  <a:pt x="13036" y="3794"/>
                </a:cubicBezTo>
                <a:cubicBezTo>
                  <a:pt x="10825" y="3794"/>
                  <a:pt x="9154" y="5534"/>
                  <a:pt x="9154" y="7849"/>
                </a:cubicBezTo>
                <a:lnTo>
                  <a:pt x="11008" y="7849"/>
                </a:lnTo>
                <a:cubicBezTo>
                  <a:pt x="11008" y="6709"/>
                  <a:pt x="11931" y="5821"/>
                  <a:pt x="13036" y="5821"/>
                </a:cubicBezTo>
                <a:cubicBezTo>
                  <a:pt x="14141" y="5821"/>
                  <a:pt x="15073" y="6709"/>
                  <a:pt x="15073" y="7849"/>
                </a:cubicBezTo>
                <a:cubicBezTo>
                  <a:pt x="15073" y="8589"/>
                  <a:pt x="14603" y="9320"/>
                  <a:pt x="14141" y="9320"/>
                </a:cubicBezTo>
                <a:cubicBezTo>
                  <a:pt x="13036" y="9320"/>
                  <a:pt x="11931" y="10800"/>
                  <a:pt x="11931" y="12323"/>
                </a:cubicBezTo>
                <a:lnTo>
                  <a:pt x="11931" y="1428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9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in" orient="horz"/>
    <p:sndAc>
      <p:stSnd>
        <p:snd r:embed="rId3" name="chimes.wav"/>
      </p:stSnd>
    </p:sndAc>
  </p:transition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0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0" dur="1000"/>
                                        <p:tgtEl>
                                          <p:spTgt spid="2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500"/>
                                        <p:tgtEl>
                                          <p:spTgt spid="2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8" dur="500"/>
                                        <p:tgtEl>
                                          <p:spTgt spid="29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2" dur="500"/>
                                        <p:tgtEl>
                                          <p:spTgt spid="29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6" dur="500"/>
                                        <p:tgtEl>
                                          <p:spTgt spid="29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0" dur="500"/>
                                        <p:tgtEl>
                                          <p:spTgt spid="29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500"/>
                                        <p:tgtEl>
                                          <p:spTgt spid="29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8" dur="500"/>
                                        <p:tgtEl>
                                          <p:spTgt spid="29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2" dur="500"/>
                                        <p:tgtEl>
                                          <p:spTgt spid="29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6" dur="500"/>
                                        <p:tgtEl>
                                          <p:spTgt spid="29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0" dur="500"/>
                                        <p:tgtEl>
                                          <p:spTgt spid="29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500"/>
                                        <p:tgtEl>
                                          <p:spTgt spid="29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8" dur="500"/>
                                        <p:tgtEl>
                                          <p:spTgt spid="29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5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6" dur="2000" fill="hold"/>
                                        <p:tgtEl>
                                          <p:spTgt spid="29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65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9" dur="2000" fill="hold"/>
                                        <p:tgtEl>
                                          <p:spTgt spid="29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0000"/>
            </a:gs>
            <a:gs pos="100000">
              <a:srgbClr val="ffd5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7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Verdana"/>
              </a:rPr>
              <a:t>Суицид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5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136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мерение лишить себя жизни, повышенный риск совер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шения самоубийства. Эта форма отклоняющегося поведе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ия пассивного типа является способом ухода от нераз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шимых проблем.Идея может стать навязчивой и превра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иться в аддикцию. Суициды в большей степени характер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ы для высокоразвитых стран, и сегодня существует тен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енция к увеличению их числа. Суицидная актив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меет временные циклы: весенне -летний пик и осенне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имний спад. Количество самоубийств возрастает во втор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ик и снижается в среду-четверг.Чаще совершаются в воз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сте после 55 и до 20 лет.Соотношение между мужчинам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 женщинами-самоубийцами примерно 4:1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out" orient="horz"/>
    <p:sndAc>
      <p:stSnd>
        <p:snd r:embed="rId1" name="chimes.wav"/>
      </p:stSnd>
    </p:sndAc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0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2000"/>
                                        <p:tgtEl>
                                          <p:spTgt spid="29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2000" fill="hold"/>
                                        <p:tgtEl>
                                          <p:spTgt spid="29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2000" fill="hold"/>
                                        <p:tgtEl>
                                          <p:spTgt spid="29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2" dur="1000"/>
                                        <p:tgtEl>
                                          <p:spTgt spid="2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1000"/>
                                        <p:tgtEl>
                                          <p:spTgt spid="2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0" dur="1000"/>
                                        <p:tgtEl>
                                          <p:spTgt spid="29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4" dur="1000"/>
                                        <p:tgtEl>
                                          <p:spTgt spid="29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1000"/>
                                        <p:tgtEl>
                                          <p:spTgt spid="29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1000"/>
                                        <p:tgtEl>
                                          <p:spTgt spid="29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6" dur="1000"/>
                                        <p:tgtEl>
                                          <p:spTgt spid="29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1000"/>
                                        <p:tgtEl>
                                          <p:spTgt spid="29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7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1000"/>
                                        <p:tgtEl>
                                          <p:spTgt spid="29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8" dur="1000"/>
                                        <p:tgtEl>
                                          <p:spTgt spid="29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" dur="1000"/>
                                        <p:tgtEl>
                                          <p:spTgt spid="29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1000"/>
                                        <p:tgtEl>
                                          <p:spTgt spid="29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7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00100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Verdana"/>
              </a:rPr>
              <a:t>Трудоголизм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рудоголизм, в отличие от многи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ругих зависимостей, являетс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циально-одобряемой аддикцие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о на самом деле трудоголик 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то личность с определенными психологическими пробле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ми.Трудоголиком может стать и лентяй, дни и ноч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сиживающий на работе во время домашних неурядиц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сточником психологического дискомфорта, психологи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еской травмы чаще всего бывает реально пережитый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ли мнимый страх:боязнь неудачи, страх перед одиноче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вом или, напротив, боязнь общен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09" name="Picture 6" descr="image012"/>
          <p:cNvPicPr/>
          <p:nvPr/>
        </p:nvPicPr>
        <p:blipFill>
          <a:blip r:embed="rId2"/>
          <a:stretch/>
        </p:blipFill>
        <p:spPr>
          <a:xfrm>
            <a:off x="5508720" y="549360"/>
            <a:ext cx="3267000" cy="2438280"/>
          </a:xfrm>
          <a:prstGeom prst="rect">
            <a:avLst/>
          </a:prstGeom>
          <a:ln w="0">
            <a:noFill/>
          </a:ln>
        </p:spPr>
      </p:pic>
      <p:sp>
        <p:nvSpPr>
          <p:cNvPr id="29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in" orient="vert"/>
    <p:sndAc>
      <p:stSnd>
        <p:snd r:embed="rId3" name="chimes.wav"/>
      </p:stSnd>
    </p:sndAc>
  </p:transition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0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3" dur="1000"/>
                                        <p:tgtEl>
                                          <p:spTgt spid="2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2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73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1000"/>
                                        <p:tgtEl>
                                          <p:spTgt spid="29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29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29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nodeType="afterEffect" fill="hold">
                            <p:stCondLst>
                              <p:cond delay="8300"/>
                            </p:stCondLst>
                            <p:childTnLst>
                              <p:par>
                                <p:cTn id="73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29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9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9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12200"/>
                            </p:stCondLst>
                            <p:childTnLst>
                              <p:par>
                                <p:cTn id="74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29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9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29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74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29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9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9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21200"/>
                            </p:stCondLst>
                            <p:childTnLst>
                              <p:par>
                                <p:cTn id="75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29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9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9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26400"/>
                            </p:stCondLst>
                            <p:childTnLst>
                              <p:par>
                                <p:cTn id="76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29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29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29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nodeType="afterEffect" fill="hold">
                            <p:stCondLst>
                              <p:cond delay="31700"/>
                            </p:stCondLst>
                            <p:childTnLst>
                              <p:par>
                                <p:cTn id="76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29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29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9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nodeType="afterEffect" fill="hold">
                            <p:stCondLst>
                              <p:cond delay="37400"/>
                            </p:stCondLst>
                            <p:childTnLst>
                              <p:par>
                                <p:cTn id="77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29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29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29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nodeType="afterEffect" fill="hold">
                            <p:stCondLst>
                              <p:cond delay="42600"/>
                            </p:stCondLst>
                            <p:childTnLst>
                              <p:par>
                                <p:cTn id="77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29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29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29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nodeType="afterEffect" fill="hold">
                            <p:stCondLst>
                              <p:cond delay="48200"/>
                            </p:stCondLst>
                            <p:childTnLst>
                              <p:par>
                                <p:cTn id="78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29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29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29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7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Verdana"/>
              </a:rPr>
              <a:t>Пищевые зависимост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2" name="PlaceHolder 2"/>
          <p:cNvSpPr>
            <a:spLocks noGrp="1"/>
          </p:cNvSpPr>
          <p:nvPr>
            <p:ph/>
          </p:nvPr>
        </p:nvSpPr>
        <p:spPr>
          <a:xfrm>
            <a:off x="566640" y="1773360"/>
            <a:ext cx="818208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 ним относятся такие пси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хические расстройства ка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улимия (переедание) 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норексия (добровольны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каз от пищи).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ищевая зависимость –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то не только переедание 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олодание,но и зависим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 вкуса:от вкуса кофе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шоколада, сливок и т.д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13" name="Picture 8" descr="image010"/>
          <p:cNvPicPr/>
          <p:nvPr/>
        </p:nvPicPr>
        <p:blipFill>
          <a:blip r:embed="rId2"/>
          <a:stretch/>
        </p:blipFill>
        <p:spPr>
          <a:xfrm>
            <a:off x="4500720" y="1052640"/>
            <a:ext cx="3981240" cy="2666880"/>
          </a:xfrm>
          <a:prstGeom prst="rect">
            <a:avLst/>
          </a:prstGeom>
          <a:ln w="0">
            <a:noFill/>
          </a:ln>
        </p:spPr>
      </p:pic>
      <p:pic>
        <p:nvPicPr>
          <p:cNvPr id="2914" name="Picture 9" descr="image014"/>
          <p:cNvPicPr/>
          <p:nvPr/>
        </p:nvPicPr>
        <p:blipFill>
          <a:blip r:embed="rId3"/>
          <a:stretch/>
        </p:blipFill>
        <p:spPr>
          <a:xfrm>
            <a:off x="684360" y="3716280"/>
            <a:ext cx="3981240" cy="2666880"/>
          </a:xfrm>
          <a:prstGeom prst="rect">
            <a:avLst/>
          </a:prstGeom>
          <a:ln w="0">
            <a:noFill/>
          </a:ln>
        </p:spPr>
      </p:pic>
      <p:sp>
        <p:nvSpPr>
          <p:cNvPr id="29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out" orient="vert"/>
    <p:sndAc>
      <p:stSnd>
        <p:snd r:embed="rId4" name="chimes.wav"/>
      </p:stSnd>
    </p:sndAc>
  </p:transition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nodeType="clickEffect" fill="hold">
                      <p:stCondLst>
                        <p:cond delay="0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2000"/>
                                        <p:tgtEl>
                                          <p:spTgt spid="29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2000" fill="hold"/>
                                        <p:tgtEl>
                                          <p:spTgt spid="2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2000" fill="hold"/>
                                        <p:tgtEl>
                                          <p:spTgt spid="2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8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2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2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8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2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2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0" dur="1000"/>
                                        <p:tgtEl>
                                          <p:spTgt spid="2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7400"/>
                            </p:stCondLst>
                            <p:childTnLst>
                              <p:par>
                                <p:cTn id="8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2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2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1000"/>
                                        <p:tgtEl>
                                          <p:spTgt spid="2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8400"/>
                            </p:stCondLst>
                            <p:childTnLst>
                              <p:par>
                                <p:cTn id="8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29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29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1000"/>
                                        <p:tgtEl>
                                          <p:spTgt spid="29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nodeType="afterEffect" fill="hold">
                            <p:stCondLst>
                              <p:cond delay="9400"/>
                            </p:stCondLst>
                            <p:childTnLst>
                              <p:par>
                                <p:cTn id="8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29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9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29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10400"/>
                            </p:stCondLst>
                            <p:childTnLst>
                              <p:par>
                                <p:cTn id="8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9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29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29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11400"/>
                            </p:stCondLst>
                            <p:childTnLst>
                              <p:par>
                                <p:cTn id="8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29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9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29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nodeType="afterEffect" fill="hold">
                            <p:stCondLst>
                              <p:cond delay="12400"/>
                            </p:stCondLst>
                            <p:childTnLst>
                              <p:par>
                                <p:cTn id="8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29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29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6" dur="1000"/>
                                        <p:tgtEl>
                                          <p:spTgt spid="29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nodeType="afterEffect" fill="hold">
                            <p:stCondLst>
                              <p:cond delay="13400"/>
                            </p:stCondLst>
                            <p:childTnLst>
                              <p:par>
                                <p:cTn id="8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29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29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2" dur="1000"/>
                                        <p:tgtEl>
                                          <p:spTgt spid="29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14400"/>
                            </p:stCondLst>
                            <p:childTnLst>
                              <p:par>
                                <p:cTn id="8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29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29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29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8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8136000" cy="489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ДЕТИ – это наш суд на миру, наше зеркало, в котором совесть, ум, честность, опрятность нашу – все наголо вида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Дети могут нами закрыться, мы ими никогд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В.П.Астафье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49" name="Picture 4" descr="j0284916"/>
          <p:cNvPicPr/>
          <p:nvPr/>
        </p:nvPicPr>
        <p:blipFill>
          <a:blip r:embed="rId1"/>
          <a:stretch/>
        </p:blipFill>
        <p:spPr>
          <a:xfrm>
            <a:off x="1187280" y="3429000"/>
            <a:ext cx="3657600" cy="2419200"/>
          </a:xfrm>
          <a:prstGeom prst="rect">
            <a:avLst/>
          </a:prstGeom>
          <a:ln w="0">
            <a:noFill/>
          </a:ln>
        </p:spPr>
      </p:pic>
      <p:sp>
        <p:nvSpPr>
          <p:cNvPr id="28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wheel spokes="1"/>
    <p:sndAc>
      <p:stSnd>
        <p:snd r:embed="rId2" name="chimes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2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2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28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28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28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28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28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28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2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6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Verdana"/>
              </a:rPr>
              <a:t>Игромания и компьютерная зависимост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дной из проблем современног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нформационного общест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является новая для педагогик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лема – </a:t>
            </a:r>
            <a:r>
              <a:rPr b="0" i="1" lang="ru-RU" sz="2000" spc="-1" strike="noStrike">
                <a:solidFill>
                  <a:srgbClr val="cc0000"/>
                </a:solidFill>
                <a:latin typeface="Verdana"/>
              </a:rPr>
              <a:t>игромания и  компью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0000"/>
                </a:solidFill>
                <a:latin typeface="Verdana"/>
              </a:rPr>
              <a:t>терная зависимость.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то увлече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мьютерными играми, интернет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хнологиями, игровыми автоматами, азартными игра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громания – увлечение или болезнь? Психиатры утвер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дают – игромания лечится, но бороться с зависимостью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ужно на ранней стадии.Болезнь начинается с привязан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ости к компьютерным играм, которая превращается 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аталогию.Игра – это взаимодействие. И не важно с кем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 людьми, компьютером или же с самим собой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18" name="Picture 6" descr="image016"/>
          <p:cNvPicPr/>
          <p:nvPr/>
        </p:nvPicPr>
        <p:blipFill>
          <a:blip r:embed="rId2"/>
          <a:stretch/>
        </p:blipFill>
        <p:spPr>
          <a:xfrm>
            <a:off x="5435640" y="1052640"/>
            <a:ext cx="3238560" cy="2523960"/>
          </a:xfrm>
          <a:prstGeom prst="rect">
            <a:avLst/>
          </a:prstGeom>
          <a:ln w="0">
            <a:noFill/>
          </a:ln>
        </p:spPr>
      </p:pic>
      <p:sp>
        <p:nvSpPr>
          <p:cNvPr id="29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in" orient="horz"/>
    <p:sndAc>
      <p:stSnd>
        <p:snd r:embed="rId3" name="chimes.wav"/>
      </p:stSnd>
    </p:sndAc>
  </p:transition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nodeType="clickEffect" fill="hold">
                      <p:stCondLst>
                        <p:cond delay="0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5" dur="1000"/>
                                        <p:tgtEl>
                                          <p:spTgt spid="2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1000"/>
                                        <p:tgtEl>
                                          <p:spTgt spid="2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2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2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7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2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2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2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nodeType="afterEffect" fill="hold">
                            <p:stCondLst>
                              <p:cond delay="7700"/>
                            </p:stCondLst>
                            <p:childTnLst>
                              <p:par>
                                <p:cTn id="87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1000"/>
                                        <p:tgtEl>
                                          <p:spTgt spid="29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29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29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nodeType="afterEffect" fill="hold">
                            <p:stCondLst>
                              <p:cond delay="11200"/>
                            </p:stCondLst>
                            <p:childTnLst>
                              <p:par>
                                <p:cTn id="88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7" dur="1000"/>
                                        <p:tgtEl>
                                          <p:spTgt spid="29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29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9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14700"/>
                            </p:stCondLst>
                            <p:childTnLst>
                              <p:par>
                                <p:cTn id="89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29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29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29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nodeType="afterEffect" fill="hold">
                            <p:stCondLst>
                              <p:cond delay="18600"/>
                            </p:stCondLst>
                            <p:childTnLst>
                              <p:par>
                                <p:cTn id="89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1000"/>
                                        <p:tgtEl>
                                          <p:spTgt spid="29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29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29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nodeType="afterEffect" fill="hold">
                            <p:stCondLst>
                              <p:cond delay="22300"/>
                            </p:stCondLst>
                            <p:childTnLst>
                              <p:par>
                                <p:cTn id="90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1000"/>
                                        <p:tgtEl>
                                          <p:spTgt spid="29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29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29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90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29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29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29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nodeType="afterEffect" fill="hold">
                            <p:stCondLst>
                              <p:cond delay="33400"/>
                            </p:stCondLst>
                            <p:childTnLst>
                              <p:par>
                                <p:cTn id="91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1000"/>
                                        <p:tgtEl>
                                          <p:spTgt spid="29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29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29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nodeType="afterEffect" fill="hold">
                            <p:stCondLst>
                              <p:cond delay="38900"/>
                            </p:stCondLst>
                            <p:childTnLst>
                              <p:par>
                                <p:cTn id="92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3" dur="1000"/>
                                        <p:tgtEl>
                                          <p:spTgt spid="29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29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29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nodeType="afterEffect" fill="hold">
                            <p:stCondLst>
                              <p:cond delay="44500"/>
                            </p:stCondLst>
                            <p:childTnLst>
                              <p:par>
                                <p:cTn id="92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1000"/>
                                        <p:tgtEl>
                                          <p:spTgt spid="29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29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29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nodeType="afterEffect" fill="hold">
                            <p:stCondLst>
                              <p:cond delay="49800"/>
                            </p:stCondLst>
                            <p:childTnLst>
                              <p:par>
                                <p:cTn id="93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1000"/>
                                        <p:tgtEl>
                                          <p:spTgt spid="29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29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29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nodeType="afterEffect" fill="hold">
                            <p:stCondLst>
                              <p:cond delay="55300"/>
                            </p:stCondLst>
                            <p:childTnLst>
                              <p:par>
                                <p:cTn id="93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1" dur="1000"/>
                                        <p:tgtEl>
                                          <p:spTgt spid="29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29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29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Verdana"/>
              </a:rPr>
              <a:t>Проблемы компьютерной зависим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21" name="Picture 9" descr="image018"/>
          <p:cNvPicPr/>
          <p:nvPr/>
        </p:nvPicPr>
        <p:blipFill>
          <a:blip r:embed="rId2"/>
          <a:stretch/>
        </p:blipFill>
        <p:spPr>
          <a:xfrm>
            <a:off x="468360" y="907920"/>
            <a:ext cx="8064360" cy="5183280"/>
          </a:xfrm>
          <a:prstGeom prst="rect">
            <a:avLst/>
          </a:prstGeom>
          <a:ln w="0">
            <a:noFill/>
          </a:ln>
        </p:spPr>
      </p:pic>
      <p:sp>
        <p:nvSpPr>
          <p:cNvPr id="2922" name="Text Box 10"/>
          <p:cNvSpPr/>
          <p:nvPr/>
        </p:nvSpPr>
        <p:spPr>
          <a:xfrm>
            <a:off x="395280" y="981000"/>
            <a:ext cx="874872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Критерии, определяющие начало компьютерной 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зависимости: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беспричинные частые и резкие перепады настроения       от подавленного до эйфорически-приподнятого;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-болезненная и неадекватная реакция на критику;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-нарастающая оппозиционность к родителям, друзьям, значительное эмоциональное отчуждение;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-ухудшение памяти, внимания;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-снижение успеваемости, прогулы занятий;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-уход от участия в делах, которые ранее были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интересны, отказ от хобби, любимого дела;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-пропажа из дома ценностей или денег, проявление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чужих вещей, денежные долги ребенка,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-появляющаяся изворотливость, лживость;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-неопрятность, неряшливость не характерные ранее;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-приступы депрессии, страха, тревоги.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9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out" orient="horz"/>
    <p:sndAc>
      <p:stSnd>
        <p:snd r:embed="rId3" name="chimes.wav"/>
      </p:stSnd>
    </p:sndAc>
  </p:transition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nodeType="clickEffect" fill="hold">
                      <p:stCondLst>
                        <p:cond delay="0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2000"/>
                                        <p:tgtEl>
                                          <p:spTgt spid="29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1" dur="2000" fill="hold"/>
                                        <p:tgtEl>
                                          <p:spTgt spid="2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2000" fill="hold"/>
                                        <p:tgtEl>
                                          <p:spTgt spid="2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5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0" fill="hold"/>
                                        <p:tgtEl>
                                          <p:spTgt spid="2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0" fill="hold"/>
                                        <p:tgtEl>
                                          <p:spTgt spid="2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title"/>
          </p:nvPr>
        </p:nvSpPr>
        <p:spPr>
          <a:xfrm>
            <a:off x="574200" y="404280"/>
            <a:ext cx="80010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Verdana"/>
              </a:rPr>
              <a:t>Памятка для родителей по использованию компьютера ребенк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я того, чтобы родители могли контролировать использование ребенком компьютера, они сами должны хотя бы на элементарном уровне уметь им пользоватьс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бенок не должен играть в компьютерные игры перед сно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ерез каждые 20-30 минут работы на компьютере необходимо делать переры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бенок не должен работать на компьютере более 1,5-2 часов в сут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ли ребенок посещает компьютерный клуб, родители должны знать, в каком клубе (зале) он бывает и с кем там общаетс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dissolve/>
    <p:sndAc>
      <p:stSnd>
        <p:snd r:embed="rId7" name="chimes.wav"/>
      </p:stSnd>
    </p:sndAc>
  </p:transition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nodeType="clickEffect" fill="hold">
                      <p:stCondLst>
                        <p:cond delay="0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2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2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2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0" fill="hold"/>
                                        <p:tgtEl>
                                          <p:spTgt spid="2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0" fill="hold"/>
                                        <p:tgtEl>
                                          <p:spTgt spid="2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7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3000" fill="hold"/>
                                        <p:tgtEl>
                                          <p:spTgt spid="29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3000" fill="hold"/>
                                        <p:tgtEl>
                                          <p:spTgt spid="29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7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3000" fill="hold"/>
                                        <p:tgtEl>
                                          <p:spTgt spid="29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3000" fill="hold"/>
                                        <p:tgtEl>
                                          <p:spTgt spid="29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8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0" fill="hold"/>
                                        <p:tgtEl>
                                          <p:spTgt spid="29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0" fill="hold"/>
                                        <p:tgtEl>
                                          <p:spTgt spid="29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98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0" fill="hold"/>
                                        <p:tgtEl>
                                          <p:spTgt spid="29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0" fill="hold"/>
                                        <p:tgtEl>
                                          <p:spTgt spid="29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7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799308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i="1" lang="ru-RU" sz="2000" spc="-1" strike="noStrike">
                <a:solidFill>
                  <a:srgbClr val="cc0000"/>
                </a:solidFill>
                <a:latin typeface="Verdana"/>
              </a:rPr>
              <a:t>Компьютер-мясорубка для информации. </a:t>
            </a:r>
            <a:br>
              <a:rPr sz="2000"/>
            </a:br>
            <a:r>
              <a:rPr b="0" i="1" lang="ru-RU" sz="2000" spc="-1" strike="noStrike">
                <a:solidFill>
                  <a:srgbClr val="cc0000"/>
                </a:solidFill>
                <a:latin typeface="Verdana"/>
              </a:rPr>
              <a:t>                      Компьютер-это резонатор того интеллекта,</a:t>
            </a:r>
            <a:br>
              <a:rPr sz="2000"/>
            </a:br>
            <a:r>
              <a:rPr b="0" i="1" lang="ru-RU" sz="2000" spc="-1" strike="noStrike">
                <a:solidFill>
                  <a:srgbClr val="cc0000"/>
                </a:solidFill>
                <a:latin typeface="Verdana"/>
              </a:rPr>
              <a:t>                      с которым человек к нему обращаетс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8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80010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Verdana"/>
              </a:rPr>
              <a:t>                                               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одители должны контролировать приобретение ребенком компьютерных дисков с играми, чтобы они не причинили вреда детскому здоровью и психик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сли ребенок использует компьютер безответственно, необходимо ввести пароль, чтобы сделать невозможным доступ без разрешения родителе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ируйте какие именно Интернет - сайты посещает ваш ребенок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29" name="Picture 4" descr="j0195384"/>
          <p:cNvPicPr/>
          <p:nvPr/>
        </p:nvPicPr>
        <p:blipFill>
          <a:blip r:embed="rId5"/>
          <a:stretch/>
        </p:blipFill>
        <p:spPr>
          <a:xfrm>
            <a:off x="611280" y="333360"/>
            <a:ext cx="2144520" cy="2190600"/>
          </a:xfrm>
          <a:prstGeom prst="rect">
            <a:avLst/>
          </a:prstGeom>
          <a:ln w="0">
            <a:noFill/>
          </a:ln>
        </p:spPr>
      </p:pic>
      <p:sp>
        <p:nvSpPr>
          <p:cNvPr id="2930" name="Text Box 5"/>
          <p:cNvSpPr/>
          <p:nvPr/>
        </p:nvSpPr>
        <p:spPr>
          <a:xfrm>
            <a:off x="6732720" y="1268280"/>
            <a:ext cx="1800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0000"/>
                </a:solidFill>
                <a:latin typeface="Verdana"/>
              </a:rPr>
              <a:t>В.Г.Кротов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9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in" orient="horz"/>
    <p:sndAc>
      <p:stSnd>
        <p:snd r:embed="rId6" name="chimes.wav"/>
      </p:stSnd>
    </p:sndAc>
  </p:transition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nodeType="clickEffect" fill="hold">
                      <p:stCondLst>
                        <p:cond delay="0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0" fill="hold"/>
                                        <p:tgtEl>
                                          <p:spTgt spid="2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0" fill="hold"/>
                                        <p:tgtEl>
                                          <p:spTgt spid="2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3000" fill="hold"/>
                                        <p:tgtEl>
                                          <p:spTgt spid="29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3000" fill="hold"/>
                                        <p:tgtEl>
                                          <p:spTgt spid="29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0" fill="hold"/>
                                        <p:tgtEl>
                                          <p:spTgt spid="29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0" fill="hold"/>
                                        <p:tgtEl>
                                          <p:spTgt spid="29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1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3000" fill="hold"/>
                                        <p:tgtEl>
                                          <p:spTgt spid="29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3000" fill="hold"/>
                                        <p:tgtEl>
                                          <p:spTgt spid="29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29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29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0" dur="1000"/>
                                        <p:tgtEl>
                                          <p:spTgt spid="2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2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2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6" dur="1000"/>
                                        <p:tgtEl>
                                          <p:spTgt spid="2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2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2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2" dur="1000"/>
                                        <p:tgtEl>
                                          <p:spTgt spid="2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2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01000" cy="115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Verdana"/>
              </a:rPr>
              <a:t>Подробно о методах и приемах профилактики компьютерной зависимости можно ознакомиться на Интернет – сайтах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3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8001000" cy="46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93760" indent="-398160">
              <a:spcBef>
                <a:spcPts val="876"/>
              </a:spcBef>
              <a:buClr>
                <a:srgbClr val="ff0000"/>
              </a:buClr>
              <a:buFont typeface="Verdan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www.net196.soes.ru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876"/>
              </a:spcBef>
              <a:buClr>
                <a:srgbClr val="ff0000"/>
              </a:buClr>
              <a:buFont typeface="Verdan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www.BestReferat.ru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876"/>
              </a:spcBef>
              <a:buClr>
                <a:srgbClr val="ff0000"/>
              </a:buClr>
              <a:buFont typeface="Verdan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http://www.baby.com.ua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876"/>
              </a:spcBef>
              <a:buClr>
                <a:srgbClr val="ff0000"/>
              </a:buClr>
              <a:buFont typeface="Verdan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http://www.Le-Mon.r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876"/>
              </a:spcBef>
              <a:buClr>
                <a:srgbClr val="ff0000"/>
              </a:buClr>
              <a:buFont typeface="Verdan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http://www.add.net.ru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876"/>
              </a:spcBef>
              <a:buClr>
                <a:srgbClr val="ff0000"/>
              </a:buClr>
              <a:buFont typeface="Verdan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Verdana"/>
                <a:hlinkClick r:id="rId7"/>
              </a:rPr>
              <a:t>http://www.med.resourse.r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876"/>
              </a:spcBef>
              <a:buClr>
                <a:srgbClr val="ff0000"/>
              </a:buClr>
              <a:buFont typeface="Verdan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Verdana"/>
                <a:hlinkClick r:id="rId8"/>
              </a:rPr>
              <a:t>http://www.DJV.r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876"/>
              </a:spcBef>
              <a:buClr>
                <a:srgbClr val="ff0000"/>
              </a:buClr>
              <a:buFont typeface="Verdan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ttp://www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одитель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.r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0">
              <a:spcBef>
                <a:spcPts val="87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34" name="Picture 4" descr="j0205466"/>
          <p:cNvPicPr/>
          <p:nvPr/>
        </p:nvPicPr>
        <p:blipFill>
          <a:blip r:embed="rId9"/>
          <a:stretch/>
        </p:blipFill>
        <p:spPr>
          <a:xfrm>
            <a:off x="395280" y="2708280"/>
            <a:ext cx="1819440" cy="1809720"/>
          </a:xfrm>
          <a:prstGeom prst="rect">
            <a:avLst/>
          </a:prstGeom>
          <a:ln w="0">
            <a:noFill/>
          </a:ln>
        </p:spPr>
      </p:pic>
      <p:sp>
        <p:nvSpPr>
          <p:cNvPr id="29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out" orient="horz"/>
    <p:sndAc>
      <p:stSnd>
        <p:snd r:embed="rId10" name="chimes.wav"/>
      </p:stSnd>
    </p:sndAc>
  </p:transition>
  <p:timing>
    <p:tnLst>
      <p:par>
        <p:cTn id="1033" dur="indefinite" restart="never" nodeType="tmRoot">
          <p:childTnLst>
            <p:seq>
              <p:cTn id="1034" dur="indefinite" nodeType="mainSeq">
                <p:childTnLst>
                  <p:par>
                    <p:cTn id="1035" nodeType="clickEffect" fill="hold">
                      <p:stCondLst>
                        <p:cond delay="0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39" dur="2000"/>
                                        <p:tgtEl>
                                          <p:spTgt spid="2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2000" fill="hold"/>
                                        <p:tgtEl>
                                          <p:spTgt spid="2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2000" fill="hold"/>
                                        <p:tgtEl>
                                          <p:spTgt spid="29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5" dur="2000"/>
                                        <p:tgtEl>
                                          <p:spTgt spid="2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0" fill="hold"/>
                                        <p:tgtEl>
                                          <p:spTgt spid="2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0" fill="hold"/>
                                        <p:tgtEl>
                                          <p:spTgt spid="2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5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0" fill="hold"/>
                                        <p:tgtEl>
                                          <p:spTgt spid="29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0" fill="hold"/>
                                        <p:tgtEl>
                                          <p:spTgt spid="29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5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06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4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5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06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107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107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nodeType="afterEffect" fill="hold">
                            <p:stCondLst>
                              <p:cond delay="39000"/>
                            </p:stCondLst>
                            <p:childTnLst>
                              <p:par>
                                <p:cTn id="108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6" name="PlaceHolder 1"/>
          <p:cNvSpPr>
            <a:spLocks noGrp="1"/>
          </p:cNvSpPr>
          <p:nvPr>
            <p:ph type="title"/>
          </p:nvPr>
        </p:nvSpPr>
        <p:spPr>
          <a:xfrm>
            <a:off x="574200" y="260280"/>
            <a:ext cx="80010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Как воспитать у ребенка положительные привычки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7" name="PlaceHolder 2"/>
          <p:cNvSpPr>
            <a:spLocks noGrp="1"/>
          </p:cNvSpPr>
          <p:nvPr>
            <p:ph/>
          </p:nvPr>
        </p:nvSpPr>
        <p:spPr>
          <a:xfrm>
            <a:off x="324000" y="1752480"/>
            <a:ext cx="8424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Verdana"/>
              </a:rPr>
              <a:t>Первое правило.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обходимо научить ребенка осознавать, что без неё жизнь превращается в катастроф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Verdana"/>
              </a:rPr>
              <a:t>Второе правило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Ребенок должен научиться никогда не давать себе поблажки в проявлении той или иной привычки. Необходимо создать условия для исправления плохих привычек, даже если для этого необходимо проявить твердость и жесткос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Verdana"/>
              </a:rPr>
              <a:t>Третье правило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Необходимо учить ребенка использовать любую возможность для проявления положительной привычки. Тренировка в  положительных привычках приводит к их закреплению и привычки становятся «второй натурой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wheel spokes="1"/>
    <p:sndAc>
      <p:stSnd>
        <p:snd r:embed="rId5" name="chimes.wav"/>
      </p:stSnd>
    </p:sndAc>
  </p:transition>
  <p:timing>
    <p:tnLst>
      <p:par>
        <p:cTn id="1086" dur="indefinite" restart="never" nodeType="tmRoot">
          <p:childTnLst>
            <p:seq>
              <p:cTn id="1087" dur="indefinite" nodeType="mainSeq">
                <p:childTnLst>
                  <p:par>
                    <p:cTn id="1088" nodeType="clickEffect" fill="hold">
                      <p:stCondLst>
                        <p:cond delay="0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2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2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4" dur="1000"/>
                                        <p:tgtEl>
                                          <p:spTgt spid="2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0" fill="hold"/>
                                        <p:tgtEl>
                                          <p:spTgt spid="2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0" fill="hold"/>
                                        <p:tgtEl>
                                          <p:spTgt spid="2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0" fill="hold"/>
                                        <p:tgtEl>
                                          <p:spTgt spid="2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0" fill="hold"/>
                                        <p:tgtEl>
                                          <p:spTgt spid="2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0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0" fill="hold"/>
                                        <p:tgtEl>
                                          <p:spTgt spid="29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0" fill="hold"/>
                                        <p:tgtEl>
                                          <p:spTgt spid="29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bd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9" name="PlaceHolder 1"/>
          <p:cNvSpPr>
            <a:spLocks noGrp="1"/>
          </p:cNvSpPr>
          <p:nvPr>
            <p:ph type="title"/>
          </p:nvPr>
        </p:nvSpPr>
        <p:spPr>
          <a:xfrm>
            <a:off x="574200" y="-306720"/>
            <a:ext cx="80010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0" name="PlaceHolder 2"/>
          <p:cNvSpPr>
            <a:spLocks noGrp="1"/>
          </p:cNvSpPr>
          <p:nvPr>
            <p:ph/>
          </p:nvPr>
        </p:nvSpPr>
        <p:spPr>
          <a:xfrm>
            <a:off x="566640" y="404640"/>
            <a:ext cx="8182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ccff"/>
                </a:solidFill>
                <a:latin typeface="Verdana"/>
              </a:rPr>
              <a:t>Четвертое правило.</a:t>
            </a:r>
            <a:r>
              <a:rPr b="0" lang="ru-RU" sz="2000" spc="-1" strike="noStrike">
                <a:solidFill>
                  <a:srgbClr val="00cc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льзя бесконечно говорить обладателю плохой привычки, что он - её хозяин. Бесконечные проповеди и нравоучения озлобляют        учащихся. Многие учащиеся и так прекрасно знают, что у них есть плохие привычки. Надо быть среди учащихся очень авторитетным человеком, чтобы они стали прислушиваться к взрослым и хотели исправить свои привыч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ccff"/>
                </a:solidFill>
                <a:latin typeface="Verdana"/>
              </a:rPr>
              <a:t>Пятое правило.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я проявления положительных привычек взрослый ( классный руководитель, родитель) должен создавать условия. Если классный руководитель знает, что большинство учащихся курит, необходимо организовать встречи с врачами, людьми, преодолевшими пристрастие к курению, смотреть фильмы, участвовать и организовывать акции и т.п. Однако для того чтобы так строить работу, надо знать, какие вредные привычки стали частью образа жизни ваших детей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wheel spokes="2"/>
    <p:sndAc>
      <p:stSnd>
        <p:snd r:embed="rId3" name="chimes.wav"/>
      </p:stSnd>
    </p:sndAc>
  </p:transition>
  <p:timing>
    <p:tnLst>
      <p:par>
        <p:cTn id="1110" dur="indefinite" restart="never" nodeType="tmRoot">
          <p:childTnLst>
            <p:seq>
              <p:cTn id="1111" dur="indefinite" nodeType="mainSeq">
                <p:childTnLst>
                  <p:par>
                    <p:cTn id="1112" nodeType="clickEffect" fill="hold">
                      <p:stCondLst>
                        <p:cond delay="0"/>
                      </p:stCondLst>
                      <p:childTnLst>
                        <p:par>
                          <p:cTn id="1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5" dur="2000" fill="hold"/>
                                        <p:tgtEl>
                                          <p:spTgt spid="2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8" dur="2000" fill="hold"/>
                                        <p:tgtEl>
                                          <p:spTgt spid="29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0"/>
                </a:solidFill>
                <a:latin typeface="Verdana"/>
              </a:rPr>
              <a:t>        </a:t>
            </a:r>
            <a:r>
              <a:rPr b="1" i="1" lang="ru-RU" sz="4000" spc="-1" strike="noStrike">
                <a:solidFill>
                  <a:srgbClr val="fffff0"/>
                </a:solidFill>
                <a:latin typeface="Verdana"/>
              </a:rPr>
              <a:t>Желаем успехов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3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496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Verdana"/>
              </a:rPr>
              <a:t>в преодолении вредных привыче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i="1" lang="ru-RU" sz="3000" spc="-1" strike="noStrike">
                <a:solidFill>
                  <a:srgbClr val="ffffff"/>
                </a:solidFill>
                <a:latin typeface="Verdana"/>
              </a:rPr>
              <a:t>и зависимостей ( аддикций 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i="1" lang="ru-RU" sz="3000" spc="-1" strike="noStrike">
                <a:solidFill>
                  <a:srgbClr val="ffffff"/>
                </a:solidFill>
                <a:latin typeface="Verdana"/>
              </a:rPr>
              <a:t>и воспитании положительных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Verdana"/>
              </a:rPr>
              <a:t>                    </a:t>
            </a:r>
            <a:r>
              <a:rPr b="1" i="1" lang="ru-RU" sz="3000" spc="-1" strike="noStrike">
                <a:solidFill>
                  <a:srgbClr val="ffffff"/>
                </a:solidFill>
                <a:latin typeface="Verdana"/>
              </a:rPr>
              <a:t>привычек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Смысл притягивает, комплекс толкает».(Франкл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висимость-это не притяжение, это толкани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лкание изнутри собственным страхом подростка-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рахом перед реальностью.Помогите ребенку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збавиться от своих страхов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wheel spokes="3"/>
    <p:sndAc>
      <p:stSnd>
        <p:snd r:embed="rId2" name="chimes.wav"/>
      </p:stSnd>
    </p:sndAc>
  </p:transition>
  <p:timing>
    <p:tnLst>
      <p:par>
        <p:cTn id="1119" dur="indefinite" restart="never" nodeType="tmRoot">
          <p:childTnLst>
            <p:seq>
              <p:cTn id="1120" dur="indefinite" nodeType="mainSeq">
                <p:childTnLst>
                  <p:par>
                    <p:cTn id="1121" nodeType="clickEffect" fill="hold">
                      <p:stCondLst>
                        <p:cond delay="0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5" dur="1000"/>
                                        <p:tgtEl>
                                          <p:spTgt spid="2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9" dur="1000"/>
                                        <p:tgtEl>
                                          <p:spTgt spid="2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3" dur="1000"/>
                                        <p:tgtEl>
                                          <p:spTgt spid="29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7" dur="1000"/>
                                        <p:tgtEl>
                                          <p:spTgt spid="29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1" dur="1000"/>
                                        <p:tgtEl>
                                          <p:spTgt spid="29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5" dur="1000"/>
                                        <p:tgtEl>
                                          <p:spTgt spid="29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9" dur="1000"/>
                                        <p:tgtEl>
                                          <p:spTgt spid="29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3" dur="1000"/>
                                        <p:tgtEl>
                                          <p:spTgt spid="29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7" dur="1000"/>
                                        <p:tgtEl>
                                          <p:spTgt spid="29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1" dur="1000"/>
                                        <p:tgtEl>
                                          <p:spTgt spid="29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5" dur="1000"/>
                                        <p:tgtEl>
                                          <p:spTgt spid="29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6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68" dur="2000" fill="hold"/>
                                        <p:tgtEl>
                                          <p:spTgt spid="29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7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71" dur="1000" fill="hold"/>
                                        <p:tgtEl>
                                          <p:spTgt spid="29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6600"/>
                </a:solidFill>
                <a:latin typeface="Arial"/>
              </a:rPr>
              <a:t>Что такое привычка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Привычка – это капитал, приобретаемый       в ходе постоянных упражнений. Их надо сначала накопить, а потом жить на проценты с этого капитала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жемс,амер.психол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med">
    <p:zoom dir="out"/>
    <p:sndAc>
      <p:stSnd>
        <p:snd r:embed="rId1" name="chimes.wav"/>
      </p:stSnd>
    </p:sndAc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2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2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2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2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2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94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2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6376"/>
            </a:gs>
            <a:gs pos="50000">
              <a:srgbClr val="ffd5ff"/>
            </a:gs>
            <a:gs pos="100000">
              <a:srgbClr val="7663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54380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Начиная разговор о вредных привычках и зависимостях с подростками или родителями, воспользуйтесь следующими известными афоризмами:</a:t>
            </a:r>
            <a:br>
              <a:rPr sz="2400"/>
            </a:br>
            <a:endParaRPr b="1" lang="en-US" sz="2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855" name="PlaceHolder 2"/>
          <p:cNvSpPr>
            <a:spLocks noGrp="1"/>
          </p:cNvSpPr>
          <p:nvPr>
            <p:ph/>
          </p:nvPr>
        </p:nvSpPr>
        <p:spPr>
          <a:xfrm>
            <a:off x="457200" y="2058480"/>
            <a:ext cx="82296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Привычка - вторая натура.»                                            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Цицеро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c1302"/>
                </a:solidFill>
                <a:latin typeface="Arial"/>
              </a:rPr>
              <a:t>«Руководителем в жизни является не разум, а привычка. Лишь она понуждает ум во всех случаях предполагать, что будущее соответствует прошлому.»                                             </a:t>
            </a:r>
            <a:r>
              <a:rPr b="0" i="1" lang="ru-RU" sz="1800" spc="-1" strike="noStrike">
                <a:solidFill>
                  <a:srgbClr val="7c1302"/>
                </a:solidFill>
                <a:latin typeface="Arial"/>
              </a:rPr>
              <a:t>(Юм Дави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Привычка, эта вторая натура, оказывается для большинства людей их единственной натурой.»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Ромен Ролла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c1302"/>
                </a:solidFill>
                <a:latin typeface="Arial"/>
              </a:rPr>
              <a:t>«Привычки превращают обязанности в удовольствия, а удовольствия в обязанности.»                      </a:t>
            </a:r>
            <a:r>
              <a:rPr b="0" i="1" lang="ru-RU" sz="1800" spc="-1" strike="noStrike">
                <a:solidFill>
                  <a:srgbClr val="7c1302"/>
                </a:solidFill>
                <a:latin typeface="Arial"/>
              </a:rPr>
              <a:t>(Э.А.Севрус (Ворохов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Вся вторая половина человеческой жизни составляется обыкновенно из одних только накопленных в первую половину привычек.»                                                           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остоевский Ф.М.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0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cover dir="l"/>
    <p:sndAc>
      <p:stSnd>
        <p:snd r:embed="rId6" name="chimes.wav"/>
      </p:stSnd>
    </p:sndAc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2000"/>
                                        <p:tgtEl>
                                          <p:spTgt spid="2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2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2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2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2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28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0" fill="hold"/>
                                        <p:tgtEl>
                                          <p:spTgt spid="28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8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28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28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8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28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28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Times New Roman"/>
              </a:rPr>
              <a:t>Так ли безобидны детские «безобидные» привычки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лонность ко лжи?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бедничество?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аксивость?                      </a:t>
            </a:r>
            <a:r>
              <a:rPr b="0" i="1" lang="ru-RU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бывчивость?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гры в азартные игры?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сцельное гуляние?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влечение мобильными телефонам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ражание героям фильмов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влечение японскими мультикам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терес к эротическим рисункам и фильмам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9" name="Picture 6" descr="j0286034"/>
          <p:cNvPicPr/>
          <p:nvPr/>
        </p:nvPicPr>
        <p:blipFill>
          <a:blip r:embed="rId12"/>
          <a:stretch/>
        </p:blipFill>
        <p:spPr>
          <a:xfrm>
            <a:off x="7451640" y="404640"/>
            <a:ext cx="919080" cy="885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860" name="AutoShape 7"/>
          <p:cNvSpPr/>
          <p:nvPr/>
        </p:nvSpPr>
        <p:spPr>
          <a:xfrm>
            <a:off x="4572000" y="1989000"/>
            <a:ext cx="4332240" cy="21560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00"/>
                </a:solidFill>
                <a:latin typeface="Verdana"/>
              </a:rPr>
              <a:t>Если вовремя не обратить</a:t>
            </a:r>
            <a:endParaRPr b="0" i="1" lang="en-US" sz="2400" spc="-1" strike="noStrike">
              <a:solidFill>
                <a:srgbClr val="ffffcc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00"/>
                </a:solidFill>
                <a:latin typeface="Verdana"/>
              </a:rPr>
              <a:t>внимания на эти «безобид-</a:t>
            </a:r>
            <a:endParaRPr b="0" i="1" lang="en-US" sz="2400" spc="-1" strike="noStrike">
              <a:solidFill>
                <a:srgbClr val="ffffcc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00"/>
                </a:solidFill>
                <a:latin typeface="Verdana"/>
              </a:rPr>
              <a:t>ные» привычки, ребенок </a:t>
            </a:r>
            <a:endParaRPr b="0" i="1" lang="en-US" sz="2400" spc="-1" strike="noStrike">
              <a:solidFill>
                <a:srgbClr val="ffffcc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00"/>
                </a:solidFill>
                <a:latin typeface="Verdana"/>
              </a:rPr>
              <a:t>может стать зависимым</a:t>
            </a:r>
            <a:endParaRPr b="0" i="1" lang="en-US" sz="2400" spc="-1" strike="noStrike">
              <a:solidFill>
                <a:srgbClr val="ffffcc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00"/>
                </a:solidFill>
                <a:latin typeface="Verdana"/>
              </a:rPr>
              <a:t>и мы получим личность</a:t>
            </a:r>
            <a:endParaRPr b="0" i="1" lang="en-US" sz="2400" spc="-1" strike="noStrike">
              <a:solidFill>
                <a:srgbClr val="ffffcc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00"/>
                </a:solidFill>
                <a:latin typeface="Verdana"/>
              </a:rPr>
              <a:t>с девиантным поведением.</a:t>
            </a:r>
            <a:endParaRPr b="0" i="1" lang="en-US" sz="2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8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0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cover dir="r"/>
    <p:sndAc>
      <p:stSnd>
        <p:snd r:embed="rId13" name="chimes.wav"/>
      </p:stSnd>
    </p:sndAc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8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2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2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3000"/>
                                        <p:tgtEl>
                                          <p:spTgt spid="2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3000" fill="hold"/>
                                        <p:tgtEl>
                                          <p:spTgt spid="2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3000" fill="hold"/>
                                        <p:tgtEl>
                                          <p:spTgt spid="2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3000" fill="hold"/>
                                        <p:tgtEl>
                                          <p:spTgt spid="2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3000" fill="hold"/>
                                        <p:tgtEl>
                                          <p:spTgt spid="2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3000" fill="hold"/>
                                        <p:tgtEl>
                                          <p:spTgt spid="2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3000" fill="hold"/>
                                        <p:tgtEl>
                                          <p:spTgt spid="2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3000" fill="hold"/>
                                        <p:tgtEl>
                                          <p:spTgt spid="2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3000" fill="hold"/>
                                        <p:tgtEl>
                                          <p:spTgt spid="2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3000" fill="hold"/>
                                        <p:tgtEl>
                                          <p:spTgt spid="2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3000" fill="hold"/>
                                        <p:tgtEl>
                                          <p:spTgt spid="2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3000" fill="hold"/>
                                        <p:tgtEl>
                                          <p:spTgt spid="28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3000" fill="hold"/>
                                        <p:tgtEl>
                                          <p:spTgt spid="28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3000" fill="hold"/>
                                        <p:tgtEl>
                                          <p:spTgt spid="28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3000" fill="hold"/>
                                        <p:tgtEl>
                                          <p:spTgt spid="28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0" fill="hold"/>
                                        <p:tgtEl>
                                          <p:spTgt spid="28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0" fill="hold"/>
                                        <p:tgtEl>
                                          <p:spTgt spid="28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3000" fill="hold"/>
                                        <p:tgtEl>
                                          <p:spTgt spid="28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3000" fill="hold"/>
                                        <p:tgtEl>
                                          <p:spTgt spid="28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3000" fill="hold"/>
                                        <p:tgtEl>
                                          <p:spTgt spid="28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3000" fill="hold"/>
                                        <p:tgtEl>
                                          <p:spTgt spid="28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2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2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3000"/>
                                        <p:tgtEl>
                                          <p:spTgt spid="2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Аддиктивное поведение -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клонность  подростка  к приобретению вредных привыче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агубная склонность к чему-либ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cc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6666cc"/>
                </a:solidFill>
                <a:latin typeface="Arial"/>
              </a:rPr>
              <a:t>Суть аддиктивного поведения заключается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cc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6666cc"/>
                </a:solidFill>
                <a:latin typeface="Arial"/>
              </a:rPr>
              <a:t>стремлении изменить своё психическое состоя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cc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6666cc"/>
                </a:solidFill>
                <a:latin typeface="Arial"/>
              </a:rPr>
              <a:t>посредством приёма некоторых веществ или фиксацией внимания на определенных предмет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cc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6666cc"/>
                </a:solidFill>
                <a:latin typeface="Arial"/>
              </a:rPr>
              <a:t>или видах деятель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3000" fill="hold"/>
                                        <p:tgtEl>
                                          <p:spTgt spid="2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3000" fill="hold"/>
                                        <p:tgtEl>
                                          <p:spTgt spid="2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8700"/>
                            </p:stCondLst>
                            <p:childTnLst>
                              <p:par>
                                <p:cTn id="18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3000" fill="hold"/>
                                        <p:tgtEl>
                                          <p:spTgt spid="2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3000" fill="hold"/>
                                        <p:tgtEl>
                                          <p:spTgt spid="2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3000" fill="hold"/>
                                        <p:tgtEl>
                                          <p:spTgt spid="28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3000" fill="hold"/>
                                        <p:tgtEl>
                                          <p:spTgt spid="28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2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3000" fill="hold"/>
                                        <p:tgtEl>
                                          <p:spTgt spid="28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3000" fill="hold"/>
                                        <p:tgtEl>
                                          <p:spTgt spid="28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3000" fill="hold"/>
                                        <p:tgtEl>
                                          <p:spTgt spid="28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3000" fill="hold"/>
                                        <p:tgtEl>
                                          <p:spTgt spid="28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c00"/>
                </a:solidFill>
                <a:latin typeface="Garamond"/>
              </a:rPr>
              <a:t>Что происходит с психикой человека, склонного к аддикции?</a:t>
            </a:r>
            <a:endParaRPr b="0" lang="en-US" sz="36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86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роцесс употребления ПАВ, привязанность к предмету или действию сопровождается развитием интенсивных эмоций, принимает такие размеры, что начинает управлять жизнью человека, лишает его воли к противодействию аддикц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7" name="Picture 10" descr="j0302953"/>
          <p:cNvPicPr/>
          <p:nvPr/>
        </p:nvPicPr>
        <p:blipFill>
          <a:blip r:embed="rId1"/>
          <a:stretch/>
        </p:blipFill>
        <p:spPr>
          <a:xfrm>
            <a:off x="7093080" y="836640"/>
            <a:ext cx="1263600" cy="1770120"/>
          </a:xfrm>
          <a:prstGeom prst="rect">
            <a:avLst/>
          </a:prstGeom>
          <a:ln w="0">
            <a:noFill/>
          </a:ln>
        </p:spPr>
      </p:pic>
      <p:sp>
        <p:nvSpPr>
          <p:cNvPr id="28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blinds dir="vert"/>
    <p:sndAc>
      <p:stSnd>
        <p:snd r:embed="rId2" name="chimes.wav"/>
      </p:stSnd>
    </p:sndAc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0" dur="500"/>
                                        <p:tgtEl>
                                          <p:spTgt spid="2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3000" fill="hold"/>
                                        <p:tgtEl>
                                          <p:spTgt spid="2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000" fill="hold"/>
                                        <p:tgtEl>
                                          <p:spTgt spid="2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3000"/>
                                        <p:tgtEl>
                                          <p:spTgt spid="2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9" name="PlaceHolder 1"/>
          <p:cNvSpPr>
            <a:spLocks noGrp="1"/>
          </p:cNvSpPr>
          <p:nvPr>
            <p:ph type="title"/>
          </p:nvPr>
        </p:nvSpPr>
        <p:spPr>
          <a:xfrm>
            <a:off x="900000" y="333360"/>
            <a:ext cx="794088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cc00"/>
                </a:solidFill>
                <a:latin typeface="Garamond"/>
              </a:rPr>
              <a:t>Кто склонен к аддикциям?</a:t>
            </a:r>
            <a:br>
              <a:rPr sz="4800"/>
            </a:br>
            <a:endParaRPr b="0" lang="en-US" sz="4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8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Люди с низкой переносимостью психологических затруднений, плохо адаптирующиеся к быстрой смене жизненных обстоятельств, стремящиеся в связи с этим быстрее и проще достичь психофизиологического комфорт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blinds dir="vert"/>
    <p:sndAc>
      <p:stSnd>
        <p:snd r:embed="rId1" name="chimes.wav"/>
      </p:stSnd>
    </p:sndAc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9" dur="1000"/>
                                        <p:tgtEl>
                                          <p:spTgt spid="2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2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00"/>
                </a:solidFill>
                <a:latin typeface="Garamond"/>
              </a:rPr>
              <a:t>С чем связано аддиктивное        поведение?</a:t>
            </a:r>
            <a:endParaRPr b="0" lang="en-US" sz="4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желанием человека уйти из реальной жизни путем изменения своего сознания. Аддикция становится средством бегства от проблем. Для самозащиты, люди с аддиктивным поведением используют механизм, называемый в психологии «мышлением по желанию», т.е. они считают реальным лишь то, что соответствует их желаниям. В итоге нарушаются межличностные отношения, человек отчуждается от общ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blinds dir="vert"/>
    <p:sndAc>
      <p:stSnd>
        <p:snd r:embed="rId1" name="chimes.wav"/>
      </p:stSnd>
    </p:sndAc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1000"/>
                                        <p:tgtEl>
                                          <p:spTgt spid="2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0T13:06:43Z</dcterms:created>
  <dc:creator>Сарахман И.Д.</dc:creator>
  <dc:description/>
  <dc:language>en-US</dc:language>
  <cp:lastModifiedBy>LEGION</cp:lastModifiedBy>
  <dcterms:modified xsi:type="dcterms:W3CDTF">2015-05-12T09:04:39Z</dcterms:modified>
  <cp:revision>52</cp:revision>
  <dc:subject/>
  <dc:title>Аддиктивное поведение учащихс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